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 id="292" r:id="rId195"/>
    <p:sldId id="293" r:id="rId196"/>
    <p:sldId id="294" r:id="rId197"/>
    <p:sldId id="295" r:id="rId198"/>
    <p:sldId id="296" r:id="rId199"/>
    <p:sldId id="297" r:id="rId200"/>
    <p:sldId id="298" r:id="rId201"/>
    <p:sldId id="299" r:id="rId202"/>
    <p:sldId id="300" r:id="rId203"/>
    <p:sldId id="301" r:id="rId204"/>
    <p:sldId id="302" r:id="rId205"/>
    <p:sldId id="303" r:id="rId206"/>
    <p:sldId id="304" r:id="rId207"/>
    <p:sldId id="305" r:id="rId208"/>
    <p:sldId id="306" r:id="rId209"/>
    <p:sldId id="307" r:id="rId210"/>
    <p:sldId id="308" r:id="rId211"/>
    <p:sldId id="309" r:id="rId212"/>
    <p:sldId id="310" r:id="rId213"/>
    <p:sldId id="311" r:id="rId214"/>
    <p:sldId id="312" r:id="rId215"/>
    <p:sldId id="313" r:id="rId216"/>
    <p:sldId id="314" r:id="rId217"/>
    <p:sldId id="315" r:id="rId218"/>
    <p:sldId id="316" r:id="rId219"/>
    <p:sldId id="317" r:id="rId220"/>
    <p:sldId id="318" r:id="rId221"/>
    <p:sldId id="319" r:id="rId222"/>
    <p:sldId id="320" r:id="rId223"/>
    <p:sldId id="321" r:id="rId224"/>
    <p:sldId id="322" r:id="rId225"/>
    <p:sldId id="323" r:id="rId226"/>
    <p:sldId id="324" r:id="rId227"/>
    <p:sldId id="325" r:id="rId228"/>
    <p:sldId id="326" r:id="rId229"/>
    <p:sldId id="327" r:id="rId230"/>
    <p:sldId id="328" r:id="rId231"/>
    <p:sldId id="329" r:id="rId232"/>
    <p:sldId id="330" r:id="rId233"/>
    <p:sldId id="331" r:id="rId234"/>
    <p:sldId id="332" r:id="rId235"/>
    <p:sldId id="333" r:id="rId236"/>
    <p:sldId id="334" r:id="rId237"/>
    <p:sldId id="335" r:id="rId238"/>
    <p:sldId id="336" r:id="rId239"/>
    <p:sldId id="337" r:id="rId240"/>
    <p:sldId id="338" r:id="rId241"/>
    <p:sldId id="339" r:id="rId242"/>
    <p:sldId id="340" r:id="rId243"/>
    <p:sldId id="341" r:id="rId244"/>
    <p:sldId id="342" r:id="rId245"/>
    <p:sldId id="343" r:id="rId246"/>
    <p:sldId id="344" r:id="rId247"/>
    <p:sldId id="345" r:id="rId248"/>
    <p:sldId id="346" r:id="rId249"/>
    <p:sldId id="347" r:id="rId250"/>
    <p:sldId id="348" r:id="rId251"/>
    <p:sldId id="349" r:id="rId252"/>
    <p:sldId id="350" r:id="rId253"/>
    <p:sldId id="351" r:id="rId254"/>
    <p:sldId id="352" r:id="rId255"/>
    <p:sldId id="353" r:id="rId256"/>
    <p:sldId id="354" r:id="rId257"/>
    <p:sldId id="355" r:id="rId258"/>
    <p:sldId id="356" r:id="rId259"/>
    <p:sldId id="357" r:id="rId260"/>
    <p:sldId id="358" r:id="rId261"/>
    <p:sldId id="359" r:id="rId26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slide" Target="slides/slide37.xml"/><Relationship Id="rId196" Type="http://schemas.openxmlformats.org/officeDocument/2006/relationships/slide" Target="slides/slide38.xml"/><Relationship Id="rId197" Type="http://schemas.openxmlformats.org/officeDocument/2006/relationships/slide" Target="slides/slide39.xml"/><Relationship Id="rId198" Type="http://schemas.openxmlformats.org/officeDocument/2006/relationships/slide" Target="slides/slide40.xml"/><Relationship Id="rId199" Type="http://schemas.openxmlformats.org/officeDocument/2006/relationships/slide" Target="slides/slide41.xml"/><Relationship Id="rId200" Type="http://schemas.openxmlformats.org/officeDocument/2006/relationships/slide" Target="slides/slide42.xml"/><Relationship Id="rId201" Type="http://schemas.openxmlformats.org/officeDocument/2006/relationships/slide" Target="slides/slide43.xml"/><Relationship Id="rId202" Type="http://schemas.openxmlformats.org/officeDocument/2006/relationships/slide" Target="slides/slide44.xml"/><Relationship Id="rId203" Type="http://schemas.openxmlformats.org/officeDocument/2006/relationships/slide" Target="slides/slide45.xml"/><Relationship Id="rId204" Type="http://schemas.openxmlformats.org/officeDocument/2006/relationships/slide" Target="slides/slide46.xml"/><Relationship Id="rId205" Type="http://schemas.openxmlformats.org/officeDocument/2006/relationships/slide" Target="slides/slide47.xml"/><Relationship Id="rId206" Type="http://schemas.openxmlformats.org/officeDocument/2006/relationships/slide" Target="slides/slide48.xml"/><Relationship Id="rId207" Type="http://schemas.openxmlformats.org/officeDocument/2006/relationships/slide" Target="slides/slide49.xml"/><Relationship Id="rId208" Type="http://schemas.openxmlformats.org/officeDocument/2006/relationships/slide" Target="slides/slide50.xml"/><Relationship Id="rId209" Type="http://schemas.openxmlformats.org/officeDocument/2006/relationships/slide" Target="slides/slide51.xml"/><Relationship Id="rId210" Type="http://schemas.openxmlformats.org/officeDocument/2006/relationships/slide" Target="slides/slide52.xml"/><Relationship Id="rId211" Type="http://schemas.openxmlformats.org/officeDocument/2006/relationships/slide" Target="slides/slide53.xml"/><Relationship Id="rId212" Type="http://schemas.openxmlformats.org/officeDocument/2006/relationships/slide" Target="slides/slide54.xml"/><Relationship Id="rId213" Type="http://schemas.openxmlformats.org/officeDocument/2006/relationships/slide" Target="slides/slide55.xml"/><Relationship Id="rId214" Type="http://schemas.openxmlformats.org/officeDocument/2006/relationships/slide" Target="slides/slide56.xml"/><Relationship Id="rId215" Type="http://schemas.openxmlformats.org/officeDocument/2006/relationships/slide" Target="slides/slide57.xml"/><Relationship Id="rId216" Type="http://schemas.openxmlformats.org/officeDocument/2006/relationships/slide" Target="slides/slide58.xml"/><Relationship Id="rId217" Type="http://schemas.openxmlformats.org/officeDocument/2006/relationships/slide" Target="slides/slide59.xml"/><Relationship Id="rId218" Type="http://schemas.openxmlformats.org/officeDocument/2006/relationships/slide" Target="slides/slide60.xml"/><Relationship Id="rId219" Type="http://schemas.openxmlformats.org/officeDocument/2006/relationships/slide" Target="slides/slide61.xml"/><Relationship Id="rId220" Type="http://schemas.openxmlformats.org/officeDocument/2006/relationships/slide" Target="slides/slide62.xml"/><Relationship Id="rId221" Type="http://schemas.openxmlformats.org/officeDocument/2006/relationships/slide" Target="slides/slide63.xml"/><Relationship Id="rId222" Type="http://schemas.openxmlformats.org/officeDocument/2006/relationships/slide" Target="slides/slide64.xml"/><Relationship Id="rId223" Type="http://schemas.openxmlformats.org/officeDocument/2006/relationships/slide" Target="slides/slide65.xml"/><Relationship Id="rId224" Type="http://schemas.openxmlformats.org/officeDocument/2006/relationships/slide" Target="slides/slide66.xml"/><Relationship Id="rId225" Type="http://schemas.openxmlformats.org/officeDocument/2006/relationships/slide" Target="slides/slide67.xml"/><Relationship Id="rId226" Type="http://schemas.openxmlformats.org/officeDocument/2006/relationships/slide" Target="slides/slide68.xml"/><Relationship Id="rId227" Type="http://schemas.openxmlformats.org/officeDocument/2006/relationships/slide" Target="slides/slide69.xml"/><Relationship Id="rId228" Type="http://schemas.openxmlformats.org/officeDocument/2006/relationships/slide" Target="slides/slide70.xml"/><Relationship Id="rId229" Type="http://schemas.openxmlformats.org/officeDocument/2006/relationships/slide" Target="slides/slide71.xml"/><Relationship Id="rId230" Type="http://schemas.openxmlformats.org/officeDocument/2006/relationships/slide" Target="slides/slide72.xml"/><Relationship Id="rId231" Type="http://schemas.openxmlformats.org/officeDocument/2006/relationships/slide" Target="slides/slide73.xml"/><Relationship Id="rId232" Type="http://schemas.openxmlformats.org/officeDocument/2006/relationships/slide" Target="slides/slide74.xml"/><Relationship Id="rId233" Type="http://schemas.openxmlformats.org/officeDocument/2006/relationships/slide" Target="slides/slide75.xml"/><Relationship Id="rId234" Type="http://schemas.openxmlformats.org/officeDocument/2006/relationships/slide" Target="slides/slide76.xml"/><Relationship Id="rId235" Type="http://schemas.openxmlformats.org/officeDocument/2006/relationships/slide" Target="slides/slide77.xml"/><Relationship Id="rId236" Type="http://schemas.openxmlformats.org/officeDocument/2006/relationships/slide" Target="slides/slide78.xml"/><Relationship Id="rId237" Type="http://schemas.openxmlformats.org/officeDocument/2006/relationships/slide" Target="slides/slide79.xml"/><Relationship Id="rId238" Type="http://schemas.openxmlformats.org/officeDocument/2006/relationships/slide" Target="slides/slide80.xml"/><Relationship Id="rId239" Type="http://schemas.openxmlformats.org/officeDocument/2006/relationships/slide" Target="slides/slide81.xml"/><Relationship Id="rId240" Type="http://schemas.openxmlformats.org/officeDocument/2006/relationships/slide" Target="slides/slide82.xml"/><Relationship Id="rId241" Type="http://schemas.openxmlformats.org/officeDocument/2006/relationships/slide" Target="slides/slide83.xml"/><Relationship Id="rId242" Type="http://schemas.openxmlformats.org/officeDocument/2006/relationships/slide" Target="slides/slide84.xml"/><Relationship Id="rId243" Type="http://schemas.openxmlformats.org/officeDocument/2006/relationships/slide" Target="slides/slide85.xml"/><Relationship Id="rId244" Type="http://schemas.openxmlformats.org/officeDocument/2006/relationships/slide" Target="slides/slide86.xml"/><Relationship Id="rId245" Type="http://schemas.openxmlformats.org/officeDocument/2006/relationships/slide" Target="slides/slide87.xml"/><Relationship Id="rId246" Type="http://schemas.openxmlformats.org/officeDocument/2006/relationships/slide" Target="slides/slide88.xml"/><Relationship Id="rId247" Type="http://schemas.openxmlformats.org/officeDocument/2006/relationships/slide" Target="slides/slide89.xml"/><Relationship Id="rId248" Type="http://schemas.openxmlformats.org/officeDocument/2006/relationships/slide" Target="slides/slide90.xml"/><Relationship Id="rId249" Type="http://schemas.openxmlformats.org/officeDocument/2006/relationships/slide" Target="slides/slide91.xml"/><Relationship Id="rId250" Type="http://schemas.openxmlformats.org/officeDocument/2006/relationships/slide" Target="slides/slide92.xml"/><Relationship Id="rId251" Type="http://schemas.openxmlformats.org/officeDocument/2006/relationships/slide" Target="slides/slide93.xml"/><Relationship Id="rId252" Type="http://schemas.openxmlformats.org/officeDocument/2006/relationships/slide" Target="slides/slide94.xml"/><Relationship Id="rId253" Type="http://schemas.openxmlformats.org/officeDocument/2006/relationships/slide" Target="slides/slide95.xml"/><Relationship Id="rId254" Type="http://schemas.openxmlformats.org/officeDocument/2006/relationships/slide" Target="slides/slide96.xml"/><Relationship Id="rId255" Type="http://schemas.openxmlformats.org/officeDocument/2006/relationships/slide" Target="slides/slide97.xml"/><Relationship Id="rId256" Type="http://schemas.openxmlformats.org/officeDocument/2006/relationships/slide" Target="slides/slide98.xml"/><Relationship Id="rId257" Type="http://schemas.openxmlformats.org/officeDocument/2006/relationships/slide" Target="slides/slide99.xml"/><Relationship Id="rId258" Type="http://schemas.openxmlformats.org/officeDocument/2006/relationships/slide" Target="slides/slide100.xml"/><Relationship Id="rId259" Type="http://schemas.openxmlformats.org/officeDocument/2006/relationships/slide" Target="slides/slide101.xml"/><Relationship Id="rId260" Type="http://schemas.openxmlformats.org/officeDocument/2006/relationships/slide" Target="slides/slide102.xml"/><Relationship Id="rId261" Type="http://schemas.openxmlformats.org/officeDocument/2006/relationships/slide" Target="slides/slide103.xml"/><Relationship Id="rId262" Type="http://schemas.openxmlformats.org/officeDocument/2006/relationships/slide" Target="slides/slide104.xml"/><Relationship Id="rId2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Text Box 2"/>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PlaceHolder 1"/>
          <p:cNvSpPr>
            <a:spLocks noGrp="1"/>
          </p:cNvSpPr>
          <p:nvPr>
            <p:ph type="dt" idx="169"/>
          </p:nvPr>
        </p:nvSpPr>
        <p:spPr>
          <a:xfrm>
            <a:off x="3884760" y="0"/>
            <a:ext cx="297000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8" name="PlaceHolder 2"/>
          <p:cNvSpPr>
            <a:spLocks noGrp="1"/>
          </p:cNvSpPr>
          <p:nvPr>
            <p:ph type="sldImg"/>
          </p:nvPr>
        </p:nvSpPr>
        <p:spPr>
          <a:xfrm>
            <a:off x="985320" y="733320"/>
            <a:ext cx="4884840" cy="3664080"/>
          </a:xfrm>
          <a:prstGeom prst="rect">
            <a:avLst/>
          </a:prstGeom>
          <a:noFill/>
          <a:ln w="12600">
            <a:solidFill>
              <a:srgbClr val="000000"/>
            </a:solidFill>
            <a:miter/>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89" name="PlaceHolder 3"/>
          <p:cNvSpPr>
            <a:spLocks noGrp="1"/>
          </p:cNvSpPr>
          <p:nvPr>
            <p:ph type="body"/>
          </p:nvPr>
        </p:nvSpPr>
        <p:spPr>
          <a:xfrm>
            <a:off x="685800" y="4642920"/>
            <a:ext cx="5484960" cy="43959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0" name="Text Box 6"/>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1" name="PlaceHolder 4"/>
          <p:cNvSpPr>
            <a:spLocks noGrp="1"/>
          </p:cNvSpPr>
          <p:nvPr>
            <p:ph type="sldNum" idx="170"/>
          </p:nvPr>
        </p:nvSpPr>
        <p:spPr>
          <a:xfrm>
            <a:off x="3884760" y="9283680"/>
            <a:ext cx="2970000" cy="487440"/>
          </a:xfrm>
          <a:prstGeom prst="rect">
            <a:avLst/>
          </a:prstGeom>
          <a:noFill/>
          <a:ln w="0">
            <a:noFill/>
          </a:ln>
        </p:spPr>
        <p:txBody>
          <a:bodyPr lIns="90000" rIns="90000" tIns="46800" bIns="46800" anchor="b">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7E38B6-B475-40CA-ADB8-3BF31CCC36BD}"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4"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208951-82E8-400A-B9DD-A9CA1616A22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25" name="PlaceHolder 1"/>
          <p:cNvSpPr>
            <a:spLocks noGrp="1"/>
          </p:cNvSpPr>
          <p:nvPr>
            <p:ph type="sldImg"/>
          </p:nvPr>
        </p:nvSpPr>
        <p:spPr>
          <a:xfrm>
            <a:off x="985680" y="733320"/>
            <a:ext cx="4886640" cy="3665520"/>
          </a:xfrm>
          <a:prstGeom prst="rect">
            <a:avLst/>
          </a:prstGeom>
          <a:ln w="0">
            <a:noFill/>
          </a:ln>
        </p:spPr>
      </p:sp>
      <p:sp>
        <p:nvSpPr>
          <p:cNvPr id="7326"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7EC291-C297-4659-8658-96B42310EB5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D6CA88-2266-49AB-9D1D-ED9F35765A3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61" name="PlaceHolder 1"/>
          <p:cNvSpPr>
            <a:spLocks noGrp="1"/>
          </p:cNvSpPr>
          <p:nvPr>
            <p:ph type="sldImg"/>
          </p:nvPr>
        </p:nvSpPr>
        <p:spPr>
          <a:xfrm>
            <a:off x="985680" y="741240"/>
            <a:ext cx="4886640" cy="3665520"/>
          </a:xfrm>
          <a:prstGeom prst="rect">
            <a:avLst/>
          </a:prstGeom>
          <a:ln w="0">
            <a:noFill/>
          </a:ln>
        </p:spPr>
      </p:sp>
      <p:sp>
        <p:nvSpPr>
          <p:cNvPr id="7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505DEF-A06A-4B28-895A-34282459BFB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A92DF7-37C8-4412-BC8B-E470AC747F0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21" name="PlaceHolder 1"/>
          <p:cNvSpPr>
            <a:spLocks noGrp="1"/>
          </p:cNvSpPr>
          <p:nvPr>
            <p:ph type="sldImg"/>
          </p:nvPr>
        </p:nvSpPr>
        <p:spPr>
          <a:xfrm>
            <a:off x="985680" y="741240"/>
            <a:ext cx="4886640" cy="3665520"/>
          </a:xfrm>
          <a:prstGeom prst="rect">
            <a:avLst/>
          </a:prstGeom>
          <a:ln w="0">
            <a:noFill/>
          </a:ln>
        </p:spPr>
      </p:sp>
      <p:sp>
        <p:nvSpPr>
          <p:cNvPr id="7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E5913B-8307-4934-AF93-06CD8BAC790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1BF520-41D7-4E1F-8742-2FDD0255C13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25" name="PlaceHolder 1"/>
          <p:cNvSpPr>
            <a:spLocks noGrp="1"/>
          </p:cNvSpPr>
          <p:nvPr>
            <p:ph type="sldImg"/>
          </p:nvPr>
        </p:nvSpPr>
        <p:spPr>
          <a:xfrm>
            <a:off x="985680" y="741240"/>
            <a:ext cx="4886640" cy="3665520"/>
          </a:xfrm>
          <a:prstGeom prst="rect">
            <a:avLst/>
          </a:prstGeom>
          <a:ln w="0">
            <a:noFill/>
          </a:ln>
        </p:spPr>
      </p:sp>
      <p:sp>
        <p:nvSpPr>
          <p:cNvPr id="77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580912-3590-4A9B-A740-B6CC4A49F82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C2A5A-3A00-4035-BFE6-CBF7A4F2428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29" name="PlaceHolder 1"/>
          <p:cNvSpPr>
            <a:spLocks noGrp="1"/>
          </p:cNvSpPr>
          <p:nvPr>
            <p:ph type="sldImg"/>
          </p:nvPr>
        </p:nvSpPr>
        <p:spPr>
          <a:xfrm>
            <a:off x="985680" y="741240"/>
            <a:ext cx="4886640" cy="3665520"/>
          </a:xfrm>
          <a:prstGeom prst="rect">
            <a:avLst/>
          </a:prstGeom>
          <a:ln w="0">
            <a:noFill/>
          </a:ln>
        </p:spPr>
      </p:sp>
      <p:sp>
        <p:nvSpPr>
          <p:cNvPr id="77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ABCF3B-AC77-4E8A-B0BB-F941283757E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2AA58E-F815-4EB2-AAFF-F04AF643CD7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33" name="PlaceHolder 1"/>
          <p:cNvSpPr>
            <a:spLocks noGrp="1"/>
          </p:cNvSpPr>
          <p:nvPr>
            <p:ph type="sldImg"/>
          </p:nvPr>
        </p:nvSpPr>
        <p:spPr>
          <a:xfrm>
            <a:off x="985680" y="741240"/>
            <a:ext cx="4886640" cy="3665520"/>
          </a:xfrm>
          <a:prstGeom prst="rect">
            <a:avLst/>
          </a:prstGeom>
          <a:ln w="0">
            <a:noFill/>
          </a:ln>
        </p:spPr>
      </p:sp>
      <p:sp>
        <p:nvSpPr>
          <p:cNvPr id="7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BAB462-D924-428E-9FAB-1113F628A48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36" name="PlaceHolder 1"/>
          <p:cNvSpPr>
            <a:spLocks noGrp="1"/>
          </p:cNvSpPr>
          <p:nvPr>
            <p:ph type="sldImg"/>
          </p:nvPr>
        </p:nvSpPr>
        <p:spPr>
          <a:xfrm>
            <a:off x="985680" y="733320"/>
            <a:ext cx="4886640" cy="3665520"/>
          </a:xfrm>
          <a:prstGeom prst="rect">
            <a:avLst/>
          </a:prstGeom>
          <a:ln w="0">
            <a:noFill/>
          </a:ln>
        </p:spPr>
      </p:sp>
      <p:sp>
        <p:nvSpPr>
          <p:cNvPr id="7737"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C6CDD9-3393-454B-87DA-E0C103CF813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95A8A3-6722-4C3F-A905-469C31F641F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65" name="PlaceHolder 1"/>
          <p:cNvSpPr>
            <a:spLocks noGrp="1"/>
          </p:cNvSpPr>
          <p:nvPr>
            <p:ph type="sldImg"/>
          </p:nvPr>
        </p:nvSpPr>
        <p:spPr>
          <a:xfrm>
            <a:off x="985680" y="741240"/>
            <a:ext cx="4886640" cy="3665520"/>
          </a:xfrm>
          <a:prstGeom prst="rect">
            <a:avLst/>
          </a:prstGeom>
          <a:ln w="0">
            <a:noFill/>
          </a:ln>
        </p:spPr>
      </p:sp>
      <p:sp>
        <p:nvSpPr>
          <p:cNvPr id="73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EBD7B-F400-4B0D-AB6C-5AB463629C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9B3E13-4AE9-482B-820B-755A15A12F1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69" name="PlaceHolder 1"/>
          <p:cNvSpPr>
            <a:spLocks noGrp="1"/>
          </p:cNvSpPr>
          <p:nvPr>
            <p:ph type="sldImg"/>
          </p:nvPr>
        </p:nvSpPr>
        <p:spPr>
          <a:xfrm>
            <a:off x="985680" y="741240"/>
            <a:ext cx="4886640" cy="3665520"/>
          </a:xfrm>
          <a:prstGeom prst="rect">
            <a:avLst/>
          </a:prstGeom>
          <a:ln w="0">
            <a:noFill/>
          </a:ln>
        </p:spPr>
      </p:sp>
      <p:sp>
        <p:nvSpPr>
          <p:cNvPr id="7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4A78AA-7879-464F-B475-78414BE4261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C8E774-BF7E-4C0C-BC10-2B828B7396D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73" name="PlaceHolder 1"/>
          <p:cNvSpPr>
            <a:spLocks noGrp="1"/>
          </p:cNvSpPr>
          <p:nvPr>
            <p:ph type="sldImg"/>
          </p:nvPr>
        </p:nvSpPr>
        <p:spPr>
          <a:xfrm>
            <a:off x="985680" y="741240"/>
            <a:ext cx="4886640" cy="3665520"/>
          </a:xfrm>
          <a:prstGeom prst="rect">
            <a:avLst/>
          </a:prstGeom>
          <a:ln w="0">
            <a:noFill/>
          </a:ln>
        </p:spPr>
      </p:sp>
      <p:sp>
        <p:nvSpPr>
          <p:cNvPr id="7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EFB828-87F1-42FA-B9B1-2FF58653AC7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C7CB62-AE16-46FB-9B2A-519FF1297CD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77" name="PlaceHolder 1"/>
          <p:cNvSpPr>
            <a:spLocks noGrp="1"/>
          </p:cNvSpPr>
          <p:nvPr>
            <p:ph type="sldImg"/>
          </p:nvPr>
        </p:nvSpPr>
        <p:spPr>
          <a:xfrm>
            <a:off x="985680" y="741240"/>
            <a:ext cx="4886640" cy="3665520"/>
          </a:xfrm>
          <a:prstGeom prst="rect">
            <a:avLst/>
          </a:prstGeom>
          <a:ln w="0">
            <a:noFill/>
          </a:ln>
        </p:spPr>
      </p:sp>
      <p:sp>
        <p:nvSpPr>
          <p:cNvPr id="73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94CC0B-E115-4590-B367-25E6991FEFA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0F9851-15CA-4287-A7AA-9A805A846CE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81" name="PlaceHolder 1"/>
          <p:cNvSpPr>
            <a:spLocks noGrp="1"/>
          </p:cNvSpPr>
          <p:nvPr>
            <p:ph type="sldImg"/>
          </p:nvPr>
        </p:nvSpPr>
        <p:spPr>
          <a:xfrm>
            <a:off x="985680" y="741240"/>
            <a:ext cx="4886640" cy="3665520"/>
          </a:xfrm>
          <a:prstGeom prst="rect">
            <a:avLst/>
          </a:prstGeom>
          <a:ln w="0">
            <a:noFill/>
          </a:ln>
        </p:spPr>
      </p:sp>
      <p:sp>
        <p:nvSpPr>
          <p:cNvPr id="7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BB25B-6A20-40FA-B8F3-6EEF4970D37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F26823-98A8-4283-95AC-959EA6BBFA6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85" name="PlaceHolder 1"/>
          <p:cNvSpPr>
            <a:spLocks noGrp="1"/>
          </p:cNvSpPr>
          <p:nvPr>
            <p:ph type="sldImg"/>
          </p:nvPr>
        </p:nvSpPr>
        <p:spPr>
          <a:xfrm>
            <a:off x="985680" y="741240"/>
            <a:ext cx="4886640" cy="3665520"/>
          </a:xfrm>
          <a:prstGeom prst="rect">
            <a:avLst/>
          </a:prstGeom>
          <a:ln w="0">
            <a:noFill/>
          </a:ln>
        </p:spPr>
      </p:sp>
      <p:sp>
        <p:nvSpPr>
          <p:cNvPr id="7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D05629-DA47-424A-8C75-8EBB533A669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75F05D-9875-4800-97CA-4E6286D3890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89" name="PlaceHolder 1"/>
          <p:cNvSpPr>
            <a:spLocks noGrp="1"/>
          </p:cNvSpPr>
          <p:nvPr>
            <p:ph type="sldImg"/>
          </p:nvPr>
        </p:nvSpPr>
        <p:spPr>
          <a:xfrm>
            <a:off x="985680" y="741240"/>
            <a:ext cx="4886640" cy="3665520"/>
          </a:xfrm>
          <a:prstGeom prst="rect">
            <a:avLst/>
          </a:prstGeom>
          <a:ln w="0">
            <a:noFill/>
          </a:ln>
        </p:spPr>
      </p:sp>
      <p:sp>
        <p:nvSpPr>
          <p:cNvPr id="73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5531AA-8FFE-45E1-87C1-9625E678A32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A18411-921E-4EAA-8464-14BEDAE818A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93" name="PlaceHolder 1"/>
          <p:cNvSpPr>
            <a:spLocks noGrp="1"/>
          </p:cNvSpPr>
          <p:nvPr>
            <p:ph type="sldImg"/>
          </p:nvPr>
        </p:nvSpPr>
        <p:spPr>
          <a:xfrm>
            <a:off x="985680" y="741240"/>
            <a:ext cx="4886640" cy="3665520"/>
          </a:xfrm>
          <a:prstGeom prst="rect">
            <a:avLst/>
          </a:prstGeom>
          <a:ln w="0">
            <a:noFill/>
          </a:ln>
        </p:spPr>
      </p:sp>
      <p:sp>
        <p:nvSpPr>
          <p:cNvPr id="7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31CE3C-2B71-4E2C-97B5-09FBA683C8B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215EAF-1BFE-43FB-8DA3-8350405AB05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97" name="PlaceHolder 1"/>
          <p:cNvSpPr>
            <a:spLocks noGrp="1"/>
          </p:cNvSpPr>
          <p:nvPr>
            <p:ph type="sldImg"/>
          </p:nvPr>
        </p:nvSpPr>
        <p:spPr>
          <a:xfrm>
            <a:off x="985680" y="741240"/>
            <a:ext cx="4886640" cy="3665520"/>
          </a:xfrm>
          <a:prstGeom prst="rect">
            <a:avLst/>
          </a:prstGeom>
          <a:ln w="0">
            <a:noFill/>
          </a:ln>
        </p:spPr>
      </p:sp>
      <p:sp>
        <p:nvSpPr>
          <p:cNvPr id="7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08D9E7-5B62-4129-8960-8AE3231B706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C8AF3F-DA38-45F5-AE33-5A1CA51FE1A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29" name="PlaceHolder 1"/>
          <p:cNvSpPr>
            <a:spLocks noGrp="1"/>
          </p:cNvSpPr>
          <p:nvPr>
            <p:ph type="sldImg"/>
          </p:nvPr>
        </p:nvSpPr>
        <p:spPr>
          <a:xfrm>
            <a:off x="985680" y="741240"/>
            <a:ext cx="4886640" cy="3665520"/>
          </a:xfrm>
          <a:prstGeom prst="rect">
            <a:avLst/>
          </a:prstGeom>
          <a:ln w="0">
            <a:noFill/>
          </a:ln>
        </p:spPr>
      </p:sp>
      <p:sp>
        <p:nvSpPr>
          <p:cNvPr id="73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9F217C-1BF2-4B3F-8553-6727EF11392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E833A-9644-4624-AD58-A4C242B8D17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01" name="PlaceHolder 1"/>
          <p:cNvSpPr>
            <a:spLocks noGrp="1"/>
          </p:cNvSpPr>
          <p:nvPr>
            <p:ph type="sldImg"/>
          </p:nvPr>
        </p:nvSpPr>
        <p:spPr>
          <a:xfrm>
            <a:off x="985680" y="741240"/>
            <a:ext cx="4886640" cy="3665520"/>
          </a:xfrm>
          <a:prstGeom prst="rect">
            <a:avLst/>
          </a:prstGeom>
          <a:ln w="0">
            <a:noFill/>
          </a:ln>
        </p:spPr>
      </p:sp>
      <p:sp>
        <p:nvSpPr>
          <p:cNvPr id="74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F9170E-93BF-44AF-A8D8-F0AD76B3A15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BF4DA8-7D34-404D-BFDD-C1C8E3A43A5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05" name="PlaceHolder 1"/>
          <p:cNvSpPr>
            <a:spLocks noGrp="1"/>
          </p:cNvSpPr>
          <p:nvPr>
            <p:ph type="sldImg"/>
          </p:nvPr>
        </p:nvSpPr>
        <p:spPr>
          <a:xfrm>
            <a:off x="985680" y="741240"/>
            <a:ext cx="4886640" cy="3665520"/>
          </a:xfrm>
          <a:prstGeom prst="rect">
            <a:avLst/>
          </a:prstGeom>
          <a:ln w="0">
            <a:noFill/>
          </a:ln>
        </p:spPr>
      </p:sp>
      <p:sp>
        <p:nvSpPr>
          <p:cNvPr id="7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F3A4D3-CF11-4E47-A60A-2FA810BADA4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F7C1B9-14DC-4439-B14C-3336ACA3320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09" name="PlaceHolder 1"/>
          <p:cNvSpPr>
            <a:spLocks noGrp="1"/>
          </p:cNvSpPr>
          <p:nvPr>
            <p:ph type="sldImg"/>
          </p:nvPr>
        </p:nvSpPr>
        <p:spPr>
          <a:xfrm>
            <a:off x="985680" y="741240"/>
            <a:ext cx="4886640" cy="3665520"/>
          </a:xfrm>
          <a:prstGeom prst="rect">
            <a:avLst/>
          </a:prstGeom>
          <a:ln w="0">
            <a:noFill/>
          </a:ln>
        </p:spPr>
      </p:sp>
      <p:sp>
        <p:nvSpPr>
          <p:cNvPr id="74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ACF5E1-F39A-46B2-9460-C6C1041600C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B86DCE-9F0B-430A-8649-C9F3CD5284D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13" name="PlaceHolder 1"/>
          <p:cNvSpPr>
            <a:spLocks noGrp="1"/>
          </p:cNvSpPr>
          <p:nvPr>
            <p:ph type="sldImg"/>
          </p:nvPr>
        </p:nvSpPr>
        <p:spPr>
          <a:xfrm>
            <a:off x="985680" y="741240"/>
            <a:ext cx="4886640" cy="3665520"/>
          </a:xfrm>
          <a:prstGeom prst="rect">
            <a:avLst/>
          </a:prstGeom>
          <a:ln w="0">
            <a:noFill/>
          </a:ln>
        </p:spPr>
      </p:sp>
      <p:sp>
        <p:nvSpPr>
          <p:cNvPr id="74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EB48B6-818E-4434-859E-412E231AEB5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EFE955-390C-42DC-BBE6-1D4AC64A32D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17" name="PlaceHolder 1"/>
          <p:cNvSpPr>
            <a:spLocks noGrp="1"/>
          </p:cNvSpPr>
          <p:nvPr>
            <p:ph type="sldImg"/>
          </p:nvPr>
        </p:nvSpPr>
        <p:spPr>
          <a:xfrm>
            <a:off x="985680" y="741240"/>
            <a:ext cx="4886640" cy="3665520"/>
          </a:xfrm>
          <a:prstGeom prst="rect">
            <a:avLst/>
          </a:prstGeom>
          <a:ln w="0">
            <a:noFill/>
          </a:ln>
        </p:spPr>
      </p:sp>
      <p:sp>
        <p:nvSpPr>
          <p:cNvPr id="7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073ADD-4358-4B6F-B3FA-07CA246EF18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2DC0C2-B663-44DF-855D-2676FADC17D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21" name="PlaceHolder 1"/>
          <p:cNvSpPr>
            <a:spLocks noGrp="1"/>
          </p:cNvSpPr>
          <p:nvPr>
            <p:ph type="sldImg"/>
          </p:nvPr>
        </p:nvSpPr>
        <p:spPr>
          <a:xfrm>
            <a:off x="985680" y="741240"/>
            <a:ext cx="4886640" cy="3665520"/>
          </a:xfrm>
          <a:prstGeom prst="rect">
            <a:avLst/>
          </a:prstGeom>
          <a:ln w="0">
            <a:noFill/>
          </a:ln>
        </p:spPr>
      </p:sp>
      <p:sp>
        <p:nvSpPr>
          <p:cNvPr id="74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59388-FE19-4378-816D-B0D67E467D8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63E2A-8DFF-445D-9A2B-C84BADCA1FC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25" name="PlaceHolder 1"/>
          <p:cNvSpPr>
            <a:spLocks noGrp="1"/>
          </p:cNvSpPr>
          <p:nvPr>
            <p:ph type="sldImg"/>
          </p:nvPr>
        </p:nvSpPr>
        <p:spPr>
          <a:xfrm>
            <a:off x="985680" y="741240"/>
            <a:ext cx="4886640" cy="3665520"/>
          </a:xfrm>
          <a:prstGeom prst="rect">
            <a:avLst/>
          </a:prstGeom>
          <a:ln w="0">
            <a:noFill/>
          </a:ln>
        </p:spPr>
      </p:sp>
      <p:sp>
        <p:nvSpPr>
          <p:cNvPr id="74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B82C9E-DE40-4A68-9BDE-7F12E6EA1A1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8E353-F7D8-4194-9868-AC788467FC7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29" name="PlaceHolder 1"/>
          <p:cNvSpPr>
            <a:spLocks noGrp="1"/>
          </p:cNvSpPr>
          <p:nvPr>
            <p:ph type="sldImg"/>
          </p:nvPr>
        </p:nvSpPr>
        <p:spPr>
          <a:xfrm>
            <a:off x="985680" y="741240"/>
            <a:ext cx="4886640" cy="3665520"/>
          </a:xfrm>
          <a:prstGeom prst="rect">
            <a:avLst/>
          </a:prstGeom>
          <a:ln w="0">
            <a:noFill/>
          </a:ln>
        </p:spPr>
      </p:sp>
      <p:sp>
        <p:nvSpPr>
          <p:cNvPr id="74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FC19F-D750-466C-A93B-1D931486ACC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F559C2-3932-4F38-A73E-9DB04B370A9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33" name="PlaceHolder 1"/>
          <p:cNvSpPr>
            <a:spLocks noGrp="1"/>
          </p:cNvSpPr>
          <p:nvPr>
            <p:ph type="sldImg"/>
          </p:nvPr>
        </p:nvSpPr>
        <p:spPr>
          <a:xfrm>
            <a:off x="985680" y="741240"/>
            <a:ext cx="4886640" cy="3665520"/>
          </a:xfrm>
          <a:prstGeom prst="rect">
            <a:avLst/>
          </a:prstGeom>
          <a:ln w="0">
            <a:noFill/>
          </a:ln>
        </p:spPr>
      </p:sp>
      <p:sp>
        <p:nvSpPr>
          <p:cNvPr id="74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8A90F5-728A-4B72-AB90-2FD3784463B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9A4674-49F9-422E-9B74-B1932191D7E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37" name="PlaceHolder 1"/>
          <p:cNvSpPr>
            <a:spLocks noGrp="1"/>
          </p:cNvSpPr>
          <p:nvPr>
            <p:ph type="sldImg"/>
          </p:nvPr>
        </p:nvSpPr>
        <p:spPr>
          <a:xfrm>
            <a:off x="985680" y="741240"/>
            <a:ext cx="4886640" cy="3665520"/>
          </a:xfrm>
          <a:prstGeom prst="rect">
            <a:avLst/>
          </a:prstGeom>
          <a:ln w="0">
            <a:noFill/>
          </a:ln>
        </p:spPr>
      </p:sp>
      <p:sp>
        <p:nvSpPr>
          <p:cNvPr id="74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6078FF-1A1F-42DB-AC83-9B5E907A6CB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B777D0-3DAA-4069-8196-1A2D4DDF967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33" name="PlaceHolder 1"/>
          <p:cNvSpPr>
            <a:spLocks noGrp="1"/>
          </p:cNvSpPr>
          <p:nvPr>
            <p:ph type="sldImg"/>
          </p:nvPr>
        </p:nvSpPr>
        <p:spPr>
          <a:xfrm>
            <a:off x="985680" y="741240"/>
            <a:ext cx="4886640" cy="3665520"/>
          </a:xfrm>
          <a:prstGeom prst="rect">
            <a:avLst/>
          </a:prstGeom>
          <a:ln w="0">
            <a:noFill/>
          </a:ln>
        </p:spPr>
      </p:sp>
      <p:sp>
        <p:nvSpPr>
          <p:cNvPr id="7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D084BE-2EF6-4065-9D8C-1802D69604C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CE7D1E-A127-471C-9640-4CA3E83F51C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41" name="PlaceHolder 1"/>
          <p:cNvSpPr>
            <a:spLocks noGrp="1"/>
          </p:cNvSpPr>
          <p:nvPr>
            <p:ph type="sldImg"/>
          </p:nvPr>
        </p:nvSpPr>
        <p:spPr>
          <a:xfrm>
            <a:off x="985680" y="741240"/>
            <a:ext cx="4886640" cy="3665520"/>
          </a:xfrm>
          <a:prstGeom prst="rect">
            <a:avLst/>
          </a:prstGeom>
          <a:ln w="0">
            <a:noFill/>
          </a:ln>
        </p:spPr>
      </p:sp>
      <p:sp>
        <p:nvSpPr>
          <p:cNvPr id="74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DAD85F-FA61-4B59-A64D-1F72EE6AB28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111FA2-900D-4281-8FEC-62331617408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45" name="PlaceHolder 1"/>
          <p:cNvSpPr>
            <a:spLocks noGrp="1"/>
          </p:cNvSpPr>
          <p:nvPr>
            <p:ph type="sldImg"/>
          </p:nvPr>
        </p:nvSpPr>
        <p:spPr>
          <a:xfrm>
            <a:off x="985680" y="741240"/>
            <a:ext cx="4886640" cy="3665520"/>
          </a:xfrm>
          <a:prstGeom prst="rect">
            <a:avLst/>
          </a:prstGeom>
          <a:ln w="0">
            <a:noFill/>
          </a:ln>
        </p:spPr>
      </p:sp>
      <p:sp>
        <p:nvSpPr>
          <p:cNvPr id="74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84944F-506C-43DA-A0B1-A7A71D8B7DD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9EA86-DCD8-4CF8-B328-E706C6A8C1D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49" name="PlaceHolder 1"/>
          <p:cNvSpPr>
            <a:spLocks noGrp="1"/>
          </p:cNvSpPr>
          <p:nvPr>
            <p:ph type="sldImg"/>
          </p:nvPr>
        </p:nvSpPr>
        <p:spPr>
          <a:xfrm>
            <a:off x="985680" y="741240"/>
            <a:ext cx="4886640" cy="3665520"/>
          </a:xfrm>
          <a:prstGeom prst="rect">
            <a:avLst/>
          </a:prstGeom>
          <a:ln w="0">
            <a:noFill/>
          </a:ln>
        </p:spPr>
      </p:sp>
      <p:sp>
        <p:nvSpPr>
          <p:cNvPr id="74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BC0B76-5A3F-4910-BC7A-568B0D69EBFD}"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D4E312-DF62-446F-A6F6-BC1D7FC5D38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53" name="PlaceHolder 1"/>
          <p:cNvSpPr>
            <a:spLocks noGrp="1"/>
          </p:cNvSpPr>
          <p:nvPr>
            <p:ph type="sldImg"/>
          </p:nvPr>
        </p:nvSpPr>
        <p:spPr>
          <a:xfrm>
            <a:off x="985680" y="741240"/>
            <a:ext cx="4886640" cy="3665520"/>
          </a:xfrm>
          <a:prstGeom prst="rect">
            <a:avLst/>
          </a:prstGeom>
          <a:ln w="0">
            <a:noFill/>
          </a:ln>
        </p:spPr>
      </p:sp>
      <p:sp>
        <p:nvSpPr>
          <p:cNvPr id="74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70F662-5835-4663-AACD-46F681F65A8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D9E040-2E43-4006-86BE-856BF201562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57" name="PlaceHolder 1"/>
          <p:cNvSpPr>
            <a:spLocks noGrp="1"/>
          </p:cNvSpPr>
          <p:nvPr>
            <p:ph type="sldImg"/>
          </p:nvPr>
        </p:nvSpPr>
        <p:spPr>
          <a:xfrm>
            <a:off x="985680" y="741240"/>
            <a:ext cx="4886640" cy="3665520"/>
          </a:xfrm>
          <a:prstGeom prst="rect">
            <a:avLst/>
          </a:prstGeom>
          <a:ln w="0">
            <a:noFill/>
          </a:ln>
        </p:spPr>
      </p:sp>
      <p:sp>
        <p:nvSpPr>
          <p:cNvPr id="74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B56687-AE60-494B-9929-CE8CBDC186D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E3CF62-BC70-40ED-8300-DD0EAA0C50B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61" name="PlaceHolder 1"/>
          <p:cNvSpPr>
            <a:spLocks noGrp="1"/>
          </p:cNvSpPr>
          <p:nvPr>
            <p:ph type="sldImg"/>
          </p:nvPr>
        </p:nvSpPr>
        <p:spPr>
          <a:xfrm>
            <a:off x="985680" y="741240"/>
            <a:ext cx="4886640" cy="3665520"/>
          </a:xfrm>
          <a:prstGeom prst="rect">
            <a:avLst/>
          </a:prstGeom>
          <a:ln w="0">
            <a:noFill/>
          </a:ln>
        </p:spPr>
      </p:sp>
      <p:sp>
        <p:nvSpPr>
          <p:cNvPr id="74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5C019A-282D-45C7-A88A-1B0C462CE7B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789207-BF6A-4E6E-B6E6-312BA73CC95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65" name="PlaceHolder 1"/>
          <p:cNvSpPr>
            <a:spLocks noGrp="1"/>
          </p:cNvSpPr>
          <p:nvPr>
            <p:ph type="sldImg"/>
          </p:nvPr>
        </p:nvSpPr>
        <p:spPr>
          <a:xfrm>
            <a:off x="985680" y="741240"/>
            <a:ext cx="4886640" cy="3665520"/>
          </a:xfrm>
          <a:prstGeom prst="rect">
            <a:avLst/>
          </a:prstGeom>
          <a:ln w="0">
            <a:noFill/>
          </a:ln>
        </p:spPr>
      </p:sp>
      <p:sp>
        <p:nvSpPr>
          <p:cNvPr id="74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36DFF8-9598-4D07-A029-E2C228CAE54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BA9D36-FA71-434C-B3F5-3F4CEF2C85F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69" name="PlaceHolder 1"/>
          <p:cNvSpPr>
            <a:spLocks noGrp="1"/>
          </p:cNvSpPr>
          <p:nvPr>
            <p:ph type="sldImg"/>
          </p:nvPr>
        </p:nvSpPr>
        <p:spPr>
          <a:xfrm>
            <a:off x="985680" y="741240"/>
            <a:ext cx="4886640" cy="3665520"/>
          </a:xfrm>
          <a:prstGeom prst="rect">
            <a:avLst/>
          </a:prstGeom>
          <a:ln w="0">
            <a:noFill/>
          </a:ln>
        </p:spPr>
      </p:sp>
      <p:sp>
        <p:nvSpPr>
          <p:cNvPr id="74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733EDB-A227-4405-B260-C1A1EE8605E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1F2069-18C8-4BDD-BCD9-CF98EF2EB9E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73" name="PlaceHolder 1"/>
          <p:cNvSpPr>
            <a:spLocks noGrp="1"/>
          </p:cNvSpPr>
          <p:nvPr>
            <p:ph type="sldImg"/>
          </p:nvPr>
        </p:nvSpPr>
        <p:spPr>
          <a:xfrm>
            <a:off x="985680" y="741240"/>
            <a:ext cx="4886640" cy="3665520"/>
          </a:xfrm>
          <a:prstGeom prst="rect">
            <a:avLst/>
          </a:prstGeom>
          <a:ln w="0">
            <a:noFill/>
          </a:ln>
        </p:spPr>
      </p:sp>
      <p:sp>
        <p:nvSpPr>
          <p:cNvPr id="74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0C1798-9CBE-4508-AD26-CE6A005944F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AAF60B-E245-4A66-9F2C-62AF6B7634B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77" name="PlaceHolder 1"/>
          <p:cNvSpPr>
            <a:spLocks noGrp="1"/>
          </p:cNvSpPr>
          <p:nvPr>
            <p:ph type="sldImg"/>
          </p:nvPr>
        </p:nvSpPr>
        <p:spPr>
          <a:xfrm>
            <a:off x="985680" y="741240"/>
            <a:ext cx="4886640" cy="3665520"/>
          </a:xfrm>
          <a:prstGeom prst="rect">
            <a:avLst/>
          </a:prstGeom>
          <a:ln w="0">
            <a:noFill/>
          </a:ln>
        </p:spPr>
      </p:sp>
      <p:sp>
        <p:nvSpPr>
          <p:cNvPr id="74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9B9B53-F1EB-428A-88BB-BFB67CDE871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111BC6-2736-4FC5-AB28-93A950271CA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37" name="PlaceHolder 1"/>
          <p:cNvSpPr>
            <a:spLocks noGrp="1"/>
          </p:cNvSpPr>
          <p:nvPr>
            <p:ph type="sldImg"/>
          </p:nvPr>
        </p:nvSpPr>
        <p:spPr>
          <a:xfrm>
            <a:off x="985680" y="741240"/>
            <a:ext cx="4886640" cy="3665520"/>
          </a:xfrm>
          <a:prstGeom prst="rect">
            <a:avLst/>
          </a:prstGeom>
          <a:ln w="0">
            <a:noFill/>
          </a:ln>
        </p:spPr>
      </p:sp>
      <p:sp>
        <p:nvSpPr>
          <p:cNvPr id="7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D66E49-B5A2-4700-B365-083F0D29A23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5F075C-DFF9-4648-989B-347D7261DFE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81" name="PlaceHolder 1"/>
          <p:cNvSpPr>
            <a:spLocks noGrp="1"/>
          </p:cNvSpPr>
          <p:nvPr>
            <p:ph type="sldImg"/>
          </p:nvPr>
        </p:nvSpPr>
        <p:spPr>
          <a:xfrm>
            <a:off x="985680" y="741240"/>
            <a:ext cx="4886640" cy="3665520"/>
          </a:xfrm>
          <a:prstGeom prst="rect">
            <a:avLst/>
          </a:prstGeom>
          <a:ln w="0">
            <a:noFill/>
          </a:ln>
        </p:spPr>
      </p:sp>
      <p:sp>
        <p:nvSpPr>
          <p:cNvPr id="74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3ED69F-1EE5-44D8-A034-5C830BE1FF0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E9D03D-5536-4D8B-92C7-01F79DA34B4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85" name="PlaceHolder 1"/>
          <p:cNvSpPr>
            <a:spLocks noGrp="1"/>
          </p:cNvSpPr>
          <p:nvPr>
            <p:ph type="sldImg"/>
          </p:nvPr>
        </p:nvSpPr>
        <p:spPr>
          <a:xfrm>
            <a:off x="985680" y="741240"/>
            <a:ext cx="4886640" cy="3665520"/>
          </a:xfrm>
          <a:prstGeom prst="rect">
            <a:avLst/>
          </a:prstGeom>
          <a:ln w="0">
            <a:noFill/>
          </a:ln>
        </p:spPr>
      </p:sp>
      <p:sp>
        <p:nvSpPr>
          <p:cNvPr id="74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16104B-CDB3-4BF8-B055-E4F518B4A0D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6B6177-F7AE-446F-AC80-9E766710CE9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89" name="PlaceHolder 1"/>
          <p:cNvSpPr>
            <a:spLocks noGrp="1"/>
          </p:cNvSpPr>
          <p:nvPr>
            <p:ph type="sldImg"/>
          </p:nvPr>
        </p:nvSpPr>
        <p:spPr>
          <a:xfrm>
            <a:off x="985680" y="741240"/>
            <a:ext cx="4886640" cy="3665520"/>
          </a:xfrm>
          <a:prstGeom prst="rect">
            <a:avLst/>
          </a:prstGeom>
          <a:ln w="0">
            <a:noFill/>
          </a:ln>
        </p:spPr>
      </p:sp>
      <p:sp>
        <p:nvSpPr>
          <p:cNvPr id="74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E312A0-C213-41FC-89B4-8D3BB06F920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681586-5761-4C22-A8AE-7084DAE177A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93" name="PlaceHolder 1"/>
          <p:cNvSpPr>
            <a:spLocks noGrp="1"/>
          </p:cNvSpPr>
          <p:nvPr>
            <p:ph type="sldImg"/>
          </p:nvPr>
        </p:nvSpPr>
        <p:spPr>
          <a:xfrm>
            <a:off x="985680" y="741240"/>
            <a:ext cx="4886640" cy="3665520"/>
          </a:xfrm>
          <a:prstGeom prst="rect">
            <a:avLst/>
          </a:prstGeom>
          <a:ln w="0">
            <a:noFill/>
          </a:ln>
        </p:spPr>
      </p:sp>
      <p:sp>
        <p:nvSpPr>
          <p:cNvPr id="74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BBFB9-351F-4849-AAB2-3E2F9758D92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4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A0881E-74A5-4F52-B446-DCE27C0C351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97" name="PlaceHolder 1"/>
          <p:cNvSpPr>
            <a:spLocks noGrp="1"/>
          </p:cNvSpPr>
          <p:nvPr>
            <p:ph type="sldImg"/>
          </p:nvPr>
        </p:nvSpPr>
        <p:spPr>
          <a:xfrm>
            <a:off x="985680" y="741240"/>
            <a:ext cx="4886640" cy="3665520"/>
          </a:xfrm>
          <a:prstGeom prst="rect">
            <a:avLst/>
          </a:prstGeom>
          <a:ln w="0">
            <a:noFill/>
          </a:ln>
        </p:spPr>
      </p:sp>
      <p:sp>
        <p:nvSpPr>
          <p:cNvPr id="74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4F194D-5A82-4B1A-B7AB-D95FC59A32B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9C4AEF-9F3B-4455-836E-491C26503C7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01" name="PlaceHolder 1"/>
          <p:cNvSpPr>
            <a:spLocks noGrp="1"/>
          </p:cNvSpPr>
          <p:nvPr>
            <p:ph type="sldImg"/>
          </p:nvPr>
        </p:nvSpPr>
        <p:spPr>
          <a:xfrm>
            <a:off x="985680" y="741240"/>
            <a:ext cx="4886640" cy="3665520"/>
          </a:xfrm>
          <a:prstGeom prst="rect">
            <a:avLst/>
          </a:prstGeom>
          <a:ln w="0">
            <a:noFill/>
          </a:ln>
        </p:spPr>
      </p:sp>
      <p:sp>
        <p:nvSpPr>
          <p:cNvPr id="75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FCD686-0A09-4696-AED9-91340B2D46C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599695-9AD9-4CF5-A52C-DDBB4196E93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05" name="PlaceHolder 1"/>
          <p:cNvSpPr>
            <a:spLocks noGrp="1"/>
          </p:cNvSpPr>
          <p:nvPr>
            <p:ph type="sldImg"/>
          </p:nvPr>
        </p:nvSpPr>
        <p:spPr>
          <a:xfrm>
            <a:off x="985680" y="741240"/>
            <a:ext cx="4886640" cy="3665520"/>
          </a:xfrm>
          <a:prstGeom prst="rect">
            <a:avLst/>
          </a:prstGeom>
          <a:ln w="0">
            <a:noFill/>
          </a:ln>
        </p:spPr>
      </p:sp>
      <p:sp>
        <p:nvSpPr>
          <p:cNvPr id="75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EA1EFC-2EF7-4336-98AF-2218C43FB6E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179A67-E14C-4935-8B92-0FC5EB5DDF2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09" name="PlaceHolder 1"/>
          <p:cNvSpPr>
            <a:spLocks noGrp="1"/>
          </p:cNvSpPr>
          <p:nvPr>
            <p:ph type="sldImg"/>
          </p:nvPr>
        </p:nvSpPr>
        <p:spPr>
          <a:xfrm>
            <a:off x="985680" y="741240"/>
            <a:ext cx="4886640" cy="3665520"/>
          </a:xfrm>
          <a:prstGeom prst="rect">
            <a:avLst/>
          </a:prstGeom>
          <a:ln w="0">
            <a:noFill/>
          </a:ln>
        </p:spPr>
      </p:sp>
      <p:sp>
        <p:nvSpPr>
          <p:cNvPr id="75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F2C6B-8AFA-4E22-AEB6-C07EF921EE6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E79CAF-86C6-4D63-9E46-5E5A7BDB1A4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13" name="PlaceHolder 1"/>
          <p:cNvSpPr>
            <a:spLocks noGrp="1"/>
          </p:cNvSpPr>
          <p:nvPr>
            <p:ph type="sldImg"/>
          </p:nvPr>
        </p:nvSpPr>
        <p:spPr>
          <a:xfrm>
            <a:off x="985680" y="741240"/>
            <a:ext cx="4886640" cy="3665520"/>
          </a:xfrm>
          <a:prstGeom prst="rect">
            <a:avLst/>
          </a:prstGeom>
          <a:ln w="0">
            <a:noFill/>
          </a:ln>
        </p:spPr>
      </p:sp>
      <p:sp>
        <p:nvSpPr>
          <p:cNvPr id="75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49B046-E943-49D6-AE25-970F7941FCA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52EA7D-98A3-41B1-B8F4-E69B4985AD5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17" name="PlaceHolder 1"/>
          <p:cNvSpPr>
            <a:spLocks noGrp="1"/>
          </p:cNvSpPr>
          <p:nvPr>
            <p:ph type="sldImg"/>
          </p:nvPr>
        </p:nvSpPr>
        <p:spPr>
          <a:xfrm>
            <a:off x="985680" y="741240"/>
            <a:ext cx="4886640" cy="3665520"/>
          </a:xfrm>
          <a:prstGeom prst="rect">
            <a:avLst/>
          </a:prstGeom>
          <a:ln w="0">
            <a:noFill/>
          </a:ln>
        </p:spPr>
      </p:sp>
      <p:sp>
        <p:nvSpPr>
          <p:cNvPr id="75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4AF971-4B0B-4366-84F2-177D3216829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9580B1-0EE4-41A4-BA28-878FD025B5D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41" name="PlaceHolder 1"/>
          <p:cNvSpPr>
            <a:spLocks noGrp="1"/>
          </p:cNvSpPr>
          <p:nvPr>
            <p:ph type="sldImg"/>
          </p:nvPr>
        </p:nvSpPr>
        <p:spPr>
          <a:xfrm>
            <a:off x="985680" y="741240"/>
            <a:ext cx="4886640" cy="3665520"/>
          </a:xfrm>
          <a:prstGeom prst="rect">
            <a:avLst/>
          </a:prstGeom>
          <a:ln w="0">
            <a:noFill/>
          </a:ln>
        </p:spPr>
      </p:sp>
      <p:sp>
        <p:nvSpPr>
          <p:cNvPr id="73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EBD45C-8F70-47C4-9F95-3EBBD0AF170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3CBBAD-7DC5-474C-BA89-C3DFD2AF8B2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21" name="PlaceHolder 1"/>
          <p:cNvSpPr>
            <a:spLocks noGrp="1"/>
          </p:cNvSpPr>
          <p:nvPr>
            <p:ph type="sldImg"/>
          </p:nvPr>
        </p:nvSpPr>
        <p:spPr>
          <a:xfrm>
            <a:off x="985680" y="741240"/>
            <a:ext cx="4886640" cy="3665520"/>
          </a:xfrm>
          <a:prstGeom prst="rect">
            <a:avLst/>
          </a:prstGeom>
          <a:ln w="0">
            <a:noFill/>
          </a:ln>
        </p:spPr>
      </p:sp>
      <p:sp>
        <p:nvSpPr>
          <p:cNvPr id="75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F5FADB-CD5B-4583-A920-DB84DF4E9F0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925B8D-F0DB-4EDC-ACF5-A1436DEDA98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25" name="PlaceHolder 1"/>
          <p:cNvSpPr>
            <a:spLocks noGrp="1"/>
          </p:cNvSpPr>
          <p:nvPr>
            <p:ph type="sldImg"/>
          </p:nvPr>
        </p:nvSpPr>
        <p:spPr>
          <a:xfrm>
            <a:off x="985680" y="741240"/>
            <a:ext cx="4886640" cy="3665520"/>
          </a:xfrm>
          <a:prstGeom prst="rect">
            <a:avLst/>
          </a:prstGeom>
          <a:ln w="0">
            <a:noFill/>
          </a:ln>
        </p:spPr>
      </p:sp>
      <p:sp>
        <p:nvSpPr>
          <p:cNvPr id="75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5B81BD-88D5-4F14-A3F9-8F22615A657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6EB9E2-21EB-4EEA-BB7B-5BDD870EA37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29" name="PlaceHolder 1"/>
          <p:cNvSpPr>
            <a:spLocks noGrp="1"/>
          </p:cNvSpPr>
          <p:nvPr>
            <p:ph type="sldImg"/>
          </p:nvPr>
        </p:nvSpPr>
        <p:spPr>
          <a:xfrm>
            <a:off x="985680" y="741240"/>
            <a:ext cx="4886640" cy="3665520"/>
          </a:xfrm>
          <a:prstGeom prst="rect">
            <a:avLst/>
          </a:prstGeom>
          <a:ln w="0">
            <a:noFill/>
          </a:ln>
        </p:spPr>
      </p:sp>
      <p:sp>
        <p:nvSpPr>
          <p:cNvPr id="75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C603F9-47B1-47A1-A3FF-4E17BCF9057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5A10CE-9350-4FF2-A306-6B957B220DF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33" name="PlaceHolder 1"/>
          <p:cNvSpPr>
            <a:spLocks noGrp="1"/>
          </p:cNvSpPr>
          <p:nvPr>
            <p:ph type="sldImg"/>
          </p:nvPr>
        </p:nvSpPr>
        <p:spPr>
          <a:xfrm>
            <a:off x="985680" y="741240"/>
            <a:ext cx="4886640" cy="3665520"/>
          </a:xfrm>
          <a:prstGeom prst="rect">
            <a:avLst/>
          </a:prstGeom>
          <a:ln w="0">
            <a:noFill/>
          </a:ln>
        </p:spPr>
      </p:sp>
      <p:sp>
        <p:nvSpPr>
          <p:cNvPr id="75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B6C074-3E3B-46DA-AA11-7D8D55517B7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3C2EBD-6B28-4265-ADFC-245B28E8C13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37" name="PlaceHolder 1"/>
          <p:cNvSpPr>
            <a:spLocks noGrp="1"/>
          </p:cNvSpPr>
          <p:nvPr>
            <p:ph type="sldImg"/>
          </p:nvPr>
        </p:nvSpPr>
        <p:spPr>
          <a:xfrm>
            <a:off x="985680" y="741240"/>
            <a:ext cx="4886640" cy="3665520"/>
          </a:xfrm>
          <a:prstGeom prst="rect">
            <a:avLst/>
          </a:prstGeom>
          <a:ln w="0">
            <a:noFill/>
          </a:ln>
        </p:spPr>
      </p:sp>
      <p:sp>
        <p:nvSpPr>
          <p:cNvPr id="75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B32A7-080D-4A91-9586-FC957D3D449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20D0EA-EC70-4690-A63F-734A6D43432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41" name="PlaceHolder 1"/>
          <p:cNvSpPr>
            <a:spLocks noGrp="1"/>
          </p:cNvSpPr>
          <p:nvPr>
            <p:ph type="sldImg"/>
          </p:nvPr>
        </p:nvSpPr>
        <p:spPr>
          <a:xfrm>
            <a:off x="985680" y="741240"/>
            <a:ext cx="4886640" cy="3665520"/>
          </a:xfrm>
          <a:prstGeom prst="rect">
            <a:avLst/>
          </a:prstGeom>
          <a:ln w="0">
            <a:noFill/>
          </a:ln>
        </p:spPr>
      </p:sp>
      <p:sp>
        <p:nvSpPr>
          <p:cNvPr id="75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C6DAB-9B9C-43F0-967F-2DACFDE8721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72D0F1-5584-4D6C-8DA5-E77AEEA1C4A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45" name="PlaceHolder 1"/>
          <p:cNvSpPr>
            <a:spLocks noGrp="1"/>
          </p:cNvSpPr>
          <p:nvPr>
            <p:ph type="sldImg"/>
          </p:nvPr>
        </p:nvSpPr>
        <p:spPr>
          <a:xfrm>
            <a:off x="985680" y="741240"/>
            <a:ext cx="4886640" cy="3665520"/>
          </a:xfrm>
          <a:prstGeom prst="rect">
            <a:avLst/>
          </a:prstGeom>
          <a:ln w="0">
            <a:noFill/>
          </a:ln>
        </p:spPr>
      </p:sp>
      <p:sp>
        <p:nvSpPr>
          <p:cNvPr id="75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FC78FE-872B-4790-8ADA-D94A24FB2C9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DDAF55-8793-47E6-86C8-9303A5C0F88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49" name="PlaceHolder 1"/>
          <p:cNvSpPr>
            <a:spLocks noGrp="1"/>
          </p:cNvSpPr>
          <p:nvPr>
            <p:ph type="sldImg"/>
          </p:nvPr>
        </p:nvSpPr>
        <p:spPr>
          <a:xfrm>
            <a:off x="985680" y="741240"/>
            <a:ext cx="4886640" cy="3665520"/>
          </a:xfrm>
          <a:prstGeom prst="rect">
            <a:avLst/>
          </a:prstGeom>
          <a:ln w="0">
            <a:noFill/>
          </a:ln>
        </p:spPr>
      </p:sp>
      <p:sp>
        <p:nvSpPr>
          <p:cNvPr id="75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A80E6A-A177-44B7-9C1B-5AD6FE9D55F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4F68B-3986-4D6D-A4C5-733DBD51325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53" name="PlaceHolder 1"/>
          <p:cNvSpPr>
            <a:spLocks noGrp="1"/>
          </p:cNvSpPr>
          <p:nvPr>
            <p:ph type="sldImg"/>
          </p:nvPr>
        </p:nvSpPr>
        <p:spPr>
          <a:xfrm>
            <a:off x="985680" y="741240"/>
            <a:ext cx="4886640" cy="3665520"/>
          </a:xfrm>
          <a:prstGeom prst="rect">
            <a:avLst/>
          </a:prstGeom>
          <a:ln w="0">
            <a:noFill/>
          </a:ln>
        </p:spPr>
      </p:sp>
      <p:sp>
        <p:nvSpPr>
          <p:cNvPr id="75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172304-7BB6-4ED1-AC2A-495A333E51D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DA8CFD-9315-4EF1-9DB2-3C0DD0E362E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57" name="PlaceHolder 1"/>
          <p:cNvSpPr>
            <a:spLocks noGrp="1"/>
          </p:cNvSpPr>
          <p:nvPr>
            <p:ph type="sldImg"/>
          </p:nvPr>
        </p:nvSpPr>
        <p:spPr>
          <a:xfrm>
            <a:off x="985680" y="741240"/>
            <a:ext cx="4886640" cy="3665520"/>
          </a:xfrm>
          <a:prstGeom prst="rect">
            <a:avLst/>
          </a:prstGeom>
          <a:ln w="0">
            <a:noFill/>
          </a:ln>
        </p:spPr>
      </p:sp>
      <p:sp>
        <p:nvSpPr>
          <p:cNvPr id="75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1D4D62-6A3B-443F-BF73-A5AC13404E2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2871A6-7BF2-48CB-96EE-C0670A9B17E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45" name="PlaceHolder 1"/>
          <p:cNvSpPr>
            <a:spLocks noGrp="1"/>
          </p:cNvSpPr>
          <p:nvPr>
            <p:ph type="sldImg"/>
          </p:nvPr>
        </p:nvSpPr>
        <p:spPr>
          <a:xfrm>
            <a:off x="985680" y="741240"/>
            <a:ext cx="4886640" cy="3665520"/>
          </a:xfrm>
          <a:prstGeom prst="rect">
            <a:avLst/>
          </a:prstGeom>
          <a:ln w="0">
            <a:noFill/>
          </a:ln>
        </p:spPr>
      </p:sp>
      <p:sp>
        <p:nvSpPr>
          <p:cNvPr id="7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EB6ACC-AD45-446E-AD90-B09B3D53F01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97FF9A-86D2-49AB-A861-56E412FAA09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61" name="PlaceHolder 1"/>
          <p:cNvSpPr>
            <a:spLocks noGrp="1"/>
          </p:cNvSpPr>
          <p:nvPr>
            <p:ph type="sldImg"/>
          </p:nvPr>
        </p:nvSpPr>
        <p:spPr>
          <a:xfrm>
            <a:off x="985680" y="741240"/>
            <a:ext cx="4886640" cy="3665520"/>
          </a:xfrm>
          <a:prstGeom prst="rect">
            <a:avLst/>
          </a:prstGeom>
          <a:ln w="0">
            <a:noFill/>
          </a:ln>
        </p:spPr>
      </p:sp>
      <p:sp>
        <p:nvSpPr>
          <p:cNvPr id="75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C4CC42-AC2D-4B2F-8D96-EE011DADE53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469F3F-2ED4-4017-B4C0-DD7AD60E2E8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65" name="PlaceHolder 1"/>
          <p:cNvSpPr>
            <a:spLocks noGrp="1"/>
          </p:cNvSpPr>
          <p:nvPr>
            <p:ph type="sldImg"/>
          </p:nvPr>
        </p:nvSpPr>
        <p:spPr>
          <a:xfrm>
            <a:off x="985680" y="741240"/>
            <a:ext cx="4886640" cy="3665520"/>
          </a:xfrm>
          <a:prstGeom prst="rect">
            <a:avLst/>
          </a:prstGeom>
          <a:ln w="0">
            <a:noFill/>
          </a:ln>
        </p:spPr>
      </p:sp>
      <p:sp>
        <p:nvSpPr>
          <p:cNvPr id="75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F3ADEA-FC50-47D0-87D3-B037067AA1C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CCEE2A-F942-4F8B-B97F-A84522A275B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69" name="PlaceHolder 1"/>
          <p:cNvSpPr>
            <a:spLocks noGrp="1"/>
          </p:cNvSpPr>
          <p:nvPr>
            <p:ph type="sldImg"/>
          </p:nvPr>
        </p:nvSpPr>
        <p:spPr>
          <a:xfrm>
            <a:off x="985680" y="741240"/>
            <a:ext cx="4886640" cy="3665520"/>
          </a:xfrm>
          <a:prstGeom prst="rect">
            <a:avLst/>
          </a:prstGeom>
          <a:ln w="0">
            <a:noFill/>
          </a:ln>
        </p:spPr>
      </p:sp>
      <p:sp>
        <p:nvSpPr>
          <p:cNvPr id="75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E58BC4-85B3-409C-B4A3-BACBA0D09A1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0E47B9-8080-4A35-AFE7-017313D5E63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73" name="PlaceHolder 1"/>
          <p:cNvSpPr>
            <a:spLocks noGrp="1"/>
          </p:cNvSpPr>
          <p:nvPr>
            <p:ph type="sldImg"/>
          </p:nvPr>
        </p:nvSpPr>
        <p:spPr>
          <a:xfrm>
            <a:off x="985680" y="741240"/>
            <a:ext cx="4886640" cy="3665520"/>
          </a:xfrm>
          <a:prstGeom prst="rect">
            <a:avLst/>
          </a:prstGeom>
          <a:ln w="0">
            <a:noFill/>
          </a:ln>
        </p:spPr>
      </p:sp>
      <p:sp>
        <p:nvSpPr>
          <p:cNvPr id="75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A1F5D0-6583-44E4-A4A5-E21800966EB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557E44-A78B-4E0C-B5BB-53CC037552F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77" name="PlaceHolder 1"/>
          <p:cNvSpPr>
            <a:spLocks noGrp="1"/>
          </p:cNvSpPr>
          <p:nvPr>
            <p:ph type="sldImg"/>
          </p:nvPr>
        </p:nvSpPr>
        <p:spPr>
          <a:xfrm>
            <a:off x="985680" y="741240"/>
            <a:ext cx="4886640" cy="3665520"/>
          </a:xfrm>
          <a:prstGeom prst="rect">
            <a:avLst/>
          </a:prstGeom>
          <a:ln w="0">
            <a:noFill/>
          </a:ln>
        </p:spPr>
      </p:sp>
      <p:sp>
        <p:nvSpPr>
          <p:cNvPr id="75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ADA9F-E3A9-4D79-B8CA-BF46E9866AD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00039F-ED07-4ECD-A88F-798B7EC37EF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81" name="PlaceHolder 1"/>
          <p:cNvSpPr>
            <a:spLocks noGrp="1"/>
          </p:cNvSpPr>
          <p:nvPr>
            <p:ph type="sldImg"/>
          </p:nvPr>
        </p:nvSpPr>
        <p:spPr>
          <a:xfrm>
            <a:off x="985680" y="741240"/>
            <a:ext cx="4886640" cy="3665520"/>
          </a:xfrm>
          <a:prstGeom prst="rect">
            <a:avLst/>
          </a:prstGeom>
          <a:ln w="0">
            <a:noFill/>
          </a:ln>
        </p:spPr>
      </p:sp>
      <p:sp>
        <p:nvSpPr>
          <p:cNvPr id="75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8D7A6D-B0FA-4728-9508-DAE19ACAA8F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C04756-BD39-4D06-8483-C882FCEAEE0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85" name="PlaceHolder 1"/>
          <p:cNvSpPr>
            <a:spLocks noGrp="1"/>
          </p:cNvSpPr>
          <p:nvPr>
            <p:ph type="sldImg"/>
          </p:nvPr>
        </p:nvSpPr>
        <p:spPr>
          <a:xfrm>
            <a:off x="985680" y="741240"/>
            <a:ext cx="4886640" cy="3665520"/>
          </a:xfrm>
          <a:prstGeom prst="rect">
            <a:avLst/>
          </a:prstGeom>
          <a:ln w="0">
            <a:noFill/>
          </a:ln>
        </p:spPr>
      </p:sp>
      <p:sp>
        <p:nvSpPr>
          <p:cNvPr id="75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639077-3624-4043-A1E4-6F6137CD7BB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8E6FD8-D297-4C15-9D9C-56864380D12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89" name="PlaceHolder 1"/>
          <p:cNvSpPr>
            <a:spLocks noGrp="1"/>
          </p:cNvSpPr>
          <p:nvPr>
            <p:ph type="sldImg"/>
          </p:nvPr>
        </p:nvSpPr>
        <p:spPr>
          <a:xfrm>
            <a:off x="985680" y="741240"/>
            <a:ext cx="4886640" cy="3665520"/>
          </a:xfrm>
          <a:prstGeom prst="rect">
            <a:avLst/>
          </a:prstGeom>
          <a:ln w="0">
            <a:noFill/>
          </a:ln>
        </p:spPr>
      </p:sp>
      <p:sp>
        <p:nvSpPr>
          <p:cNvPr id="75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7EBA8C-9CC3-4B8D-8890-A10A3DDC636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155E75-E588-46BC-BABB-5CC599402CC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93" name="PlaceHolder 1"/>
          <p:cNvSpPr>
            <a:spLocks noGrp="1"/>
          </p:cNvSpPr>
          <p:nvPr>
            <p:ph type="sldImg"/>
          </p:nvPr>
        </p:nvSpPr>
        <p:spPr>
          <a:xfrm>
            <a:off x="985680" y="741240"/>
            <a:ext cx="4886640" cy="3665520"/>
          </a:xfrm>
          <a:prstGeom prst="rect">
            <a:avLst/>
          </a:prstGeom>
          <a:ln w="0">
            <a:noFill/>
          </a:ln>
        </p:spPr>
      </p:sp>
      <p:sp>
        <p:nvSpPr>
          <p:cNvPr id="75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92FF1A-D1FD-4E97-A46D-C76970951C2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5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D0B4ED-06FD-4BAD-A899-A3DBF77EFF7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97" name="PlaceHolder 1"/>
          <p:cNvSpPr>
            <a:spLocks noGrp="1"/>
          </p:cNvSpPr>
          <p:nvPr>
            <p:ph type="sldImg"/>
          </p:nvPr>
        </p:nvSpPr>
        <p:spPr>
          <a:xfrm>
            <a:off x="985680" y="741240"/>
            <a:ext cx="4886640" cy="3665520"/>
          </a:xfrm>
          <a:prstGeom prst="rect">
            <a:avLst/>
          </a:prstGeom>
          <a:ln w="0">
            <a:noFill/>
          </a:ln>
        </p:spPr>
      </p:sp>
      <p:sp>
        <p:nvSpPr>
          <p:cNvPr id="75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223AB6-952B-4A1B-BB6E-64BE8561013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423D8B-AF39-4DBA-A77A-07CA914DD4A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49" name="PlaceHolder 1"/>
          <p:cNvSpPr>
            <a:spLocks noGrp="1"/>
          </p:cNvSpPr>
          <p:nvPr>
            <p:ph type="sldImg"/>
          </p:nvPr>
        </p:nvSpPr>
        <p:spPr>
          <a:xfrm>
            <a:off x="985680" y="741240"/>
            <a:ext cx="4886640" cy="3665520"/>
          </a:xfrm>
          <a:prstGeom prst="rect">
            <a:avLst/>
          </a:prstGeom>
          <a:ln w="0">
            <a:noFill/>
          </a:ln>
        </p:spPr>
      </p:sp>
      <p:sp>
        <p:nvSpPr>
          <p:cNvPr id="7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66BABB-FF63-43EB-9025-584E27B6AB3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68D571-1654-4C81-BC60-B02A214BBFD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01" name="PlaceHolder 1"/>
          <p:cNvSpPr>
            <a:spLocks noGrp="1"/>
          </p:cNvSpPr>
          <p:nvPr>
            <p:ph type="sldImg"/>
          </p:nvPr>
        </p:nvSpPr>
        <p:spPr>
          <a:xfrm>
            <a:off x="985680" y="741240"/>
            <a:ext cx="4886640" cy="3665520"/>
          </a:xfrm>
          <a:prstGeom prst="rect">
            <a:avLst/>
          </a:prstGeom>
          <a:ln w="0">
            <a:noFill/>
          </a:ln>
        </p:spPr>
      </p:sp>
      <p:sp>
        <p:nvSpPr>
          <p:cNvPr id="76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4A3A19-9D79-4DC9-8A04-AC49A5D93B2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6D961-55DA-483B-A7F4-6E00E34EAA3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05" name="PlaceHolder 1"/>
          <p:cNvSpPr>
            <a:spLocks noGrp="1"/>
          </p:cNvSpPr>
          <p:nvPr>
            <p:ph type="sldImg"/>
          </p:nvPr>
        </p:nvSpPr>
        <p:spPr>
          <a:xfrm>
            <a:off x="985680" y="741240"/>
            <a:ext cx="4886640" cy="3665520"/>
          </a:xfrm>
          <a:prstGeom prst="rect">
            <a:avLst/>
          </a:prstGeom>
          <a:ln w="0">
            <a:noFill/>
          </a:ln>
        </p:spPr>
      </p:sp>
      <p:sp>
        <p:nvSpPr>
          <p:cNvPr id="76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C53285-3188-4D8B-A80A-762937D26A8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D5099-24AE-40A6-8255-682A3086E97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09" name="PlaceHolder 1"/>
          <p:cNvSpPr>
            <a:spLocks noGrp="1"/>
          </p:cNvSpPr>
          <p:nvPr>
            <p:ph type="sldImg"/>
          </p:nvPr>
        </p:nvSpPr>
        <p:spPr>
          <a:xfrm>
            <a:off x="985680" y="741240"/>
            <a:ext cx="4886640" cy="3665520"/>
          </a:xfrm>
          <a:prstGeom prst="rect">
            <a:avLst/>
          </a:prstGeom>
          <a:ln w="0">
            <a:noFill/>
          </a:ln>
        </p:spPr>
      </p:sp>
      <p:sp>
        <p:nvSpPr>
          <p:cNvPr id="76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D17ECC-0425-48E5-88EE-DCA57B146A9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3F29B5-8ACD-4A21-8A9E-190C7C3E04F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13" name="PlaceHolder 1"/>
          <p:cNvSpPr>
            <a:spLocks noGrp="1"/>
          </p:cNvSpPr>
          <p:nvPr>
            <p:ph type="sldImg"/>
          </p:nvPr>
        </p:nvSpPr>
        <p:spPr>
          <a:xfrm>
            <a:off x="985680" y="741240"/>
            <a:ext cx="4886640" cy="3665520"/>
          </a:xfrm>
          <a:prstGeom prst="rect">
            <a:avLst/>
          </a:prstGeom>
          <a:ln w="0">
            <a:noFill/>
          </a:ln>
        </p:spPr>
      </p:sp>
      <p:sp>
        <p:nvSpPr>
          <p:cNvPr id="76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AE953F-6B78-47BA-8FC8-A6673D15267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46C0E7-3306-4392-A571-55A093790CE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17" name="PlaceHolder 1"/>
          <p:cNvSpPr>
            <a:spLocks noGrp="1"/>
          </p:cNvSpPr>
          <p:nvPr>
            <p:ph type="sldImg"/>
          </p:nvPr>
        </p:nvSpPr>
        <p:spPr>
          <a:xfrm>
            <a:off x="985680" y="741240"/>
            <a:ext cx="4886640" cy="3665520"/>
          </a:xfrm>
          <a:prstGeom prst="rect">
            <a:avLst/>
          </a:prstGeom>
          <a:ln w="0">
            <a:noFill/>
          </a:ln>
        </p:spPr>
      </p:sp>
      <p:sp>
        <p:nvSpPr>
          <p:cNvPr id="76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5F2719-A053-413E-9807-377317BF230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5B9B4-3F3F-4AD1-B161-C4AE8E676BA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21" name="PlaceHolder 1"/>
          <p:cNvSpPr>
            <a:spLocks noGrp="1"/>
          </p:cNvSpPr>
          <p:nvPr>
            <p:ph type="sldImg"/>
          </p:nvPr>
        </p:nvSpPr>
        <p:spPr>
          <a:xfrm>
            <a:off x="985680" y="741240"/>
            <a:ext cx="4886640" cy="3665520"/>
          </a:xfrm>
          <a:prstGeom prst="rect">
            <a:avLst/>
          </a:prstGeom>
          <a:ln w="0">
            <a:noFill/>
          </a:ln>
        </p:spPr>
      </p:sp>
      <p:sp>
        <p:nvSpPr>
          <p:cNvPr id="76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A3A78B-9F2F-4A80-9015-8C3E367FD4B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D81C34-6C5D-4F52-908A-969A8F850E3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25" name="PlaceHolder 1"/>
          <p:cNvSpPr>
            <a:spLocks noGrp="1"/>
          </p:cNvSpPr>
          <p:nvPr>
            <p:ph type="sldImg"/>
          </p:nvPr>
        </p:nvSpPr>
        <p:spPr>
          <a:xfrm>
            <a:off x="985680" y="741240"/>
            <a:ext cx="4886640" cy="3665520"/>
          </a:xfrm>
          <a:prstGeom prst="rect">
            <a:avLst/>
          </a:prstGeom>
          <a:ln w="0">
            <a:noFill/>
          </a:ln>
        </p:spPr>
      </p:sp>
      <p:sp>
        <p:nvSpPr>
          <p:cNvPr id="7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64A568-159C-4570-B7BC-EAD6C5C037D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0F2EF6-5883-444E-B2FA-42ADF0461B3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29" name="PlaceHolder 1"/>
          <p:cNvSpPr>
            <a:spLocks noGrp="1"/>
          </p:cNvSpPr>
          <p:nvPr>
            <p:ph type="sldImg"/>
          </p:nvPr>
        </p:nvSpPr>
        <p:spPr>
          <a:xfrm>
            <a:off x="985680" y="741240"/>
            <a:ext cx="4886640" cy="3665520"/>
          </a:xfrm>
          <a:prstGeom prst="rect">
            <a:avLst/>
          </a:prstGeom>
          <a:ln w="0">
            <a:noFill/>
          </a:ln>
        </p:spPr>
      </p:sp>
      <p:sp>
        <p:nvSpPr>
          <p:cNvPr id="76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1BBB7B-7C23-442B-A675-63289180BB7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B1201F-FA73-4F71-B0BD-9ECC578B49F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33" name="PlaceHolder 1"/>
          <p:cNvSpPr>
            <a:spLocks noGrp="1"/>
          </p:cNvSpPr>
          <p:nvPr>
            <p:ph type="sldImg"/>
          </p:nvPr>
        </p:nvSpPr>
        <p:spPr>
          <a:xfrm>
            <a:off x="985680" y="741240"/>
            <a:ext cx="4886640" cy="3665520"/>
          </a:xfrm>
          <a:prstGeom prst="rect">
            <a:avLst/>
          </a:prstGeom>
          <a:ln w="0">
            <a:noFill/>
          </a:ln>
        </p:spPr>
      </p:sp>
      <p:sp>
        <p:nvSpPr>
          <p:cNvPr id="76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3280CA-EE44-4515-AC1D-F8728E4E8D7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236EC4-7956-41C3-903D-7E418E35EB3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37" name="PlaceHolder 1"/>
          <p:cNvSpPr>
            <a:spLocks noGrp="1"/>
          </p:cNvSpPr>
          <p:nvPr>
            <p:ph type="sldImg"/>
          </p:nvPr>
        </p:nvSpPr>
        <p:spPr>
          <a:xfrm>
            <a:off x="985680" y="741240"/>
            <a:ext cx="4886640" cy="3665520"/>
          </a:xfrm>
          <a:prstGeom prst="rect">
            <a:avLst/>
          </a:prstGeom>
          <a:ln w="0">
            <a:noFill/>
          </a:ln>
        </p:spPr>
      </p:sp>
      <p:sp>
        <p:nvSpPr>
          <p:cNvPr id="7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9100B-71B3-44FD-AFDD-F5D58F70E91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6D38C0-720F-46C9-805E-FD2FCCBE444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53" name="PlaceHolder 1"/>
          <p:cNvSpPr>
            <a:spLocks noGrp="1"/>
          </p:cNvSpPr>
          <p:nvPr>
            <p:ph type="sldImg"/>
          </p:nvPr>
        </p:nvSpPr>
        <p:spPr>
          <a:xfrm>
            <a:off x="985680" y="741240"/>
            <a:ext cx="4886640" cy="3665520"/>
          </a:xfrm>
          <a:prstGeom prst="rect">
            <a:avLst/>
          </a:prstGeom>
          <a:ln w="0">
            <a:noFill/>
          </a:ln>
        </p:spPr>
      </p:sp>
      <p:sp>
        <p:nvSpPr>
          <p:cNvPr id="73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82A6D7-FCC9-409D-AA7D-EED54AC7062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F0FB37-89B7-410A-A54C-CDD884C4348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41" name="PlaceHolder 1"/>
          <p:cNvSpPr>
            <a:spLocks noGrp="1"/>
          </p:cNvSpPr>
          <p:nvPr>
            <p:ph type="sldImg"/>
          </p:nvPr>
        </p:nvSpPr>
        <p:spPr>
          <a:xfrm>
            <a:off x="985680" y="741240"/>
            <a:ext cx="4886640" cy="3665520"/>
          </a:xfrm>
          <a:prstGeom prst="rect">
            <a:avLst/>
          </a:prstGeom>
          <a:ln w="0">
            <a:noFill/>
          </a:ln>
        </p:spPr>
      </p:sp>
      <p:sp>
        <p:nvSpPr>
          <p:cNvPr id="76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FEA4F-13A0-4C87-A83E-221CB45616F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287904-FBC4-459B-8EAE-B9A6B385031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45" name="PlaceHolder 1"/>
          <p:cNvSpPr>
            <a:spLocks noGrp="1"/>
          </p:cNvSpPr>
          <p:nvPr>
            <p:ph type="sldImg"/>
          </p:nvPr>
        </p:nvSpPr>
        <p:spPr>
          <a:xfrm>
            <a:off x="985680" y="741240"/>
            <a:ext cx="4886640" cy="3665520"/>
          </a:xfrm>
          <a:prstGeom prst="rect">
            <a:avLst/>
          </a:prstGeom>
          <a:ln w="0">
            <a:noFill/>
          </a:ln>
        </p:spPr>
      </p:sp>
      <p:sp>
        <p:nvSpPr>
          <p:cNvPr id="7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E55FB8-B43C-4B84-9260-1FB991146A1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0C4F3-DC17-4B1D-8F70-7FE1D2055A2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49" name="PlaceHolder 1"/>
          <p:cNvSpPr>
            <a:spLocks noGrp="1"/>
          </p:cNvSpPr>
          <p:nvPr>
            <p:ph type="sldImg"/>
          </p:nvPr>
        </p:nvSpPr>
        <p:spPr>
          <a:xfrm>
            <a:off x="985680" y="741240"/>
            <a:ext cx="4886640" cy="3665520"/>
          </a:xfrm>
          <a:prstGeom prst="rect">
            <a:avLst/>
          </a:prstGeom>
          <a:ln w="0">
            <a:noFill/>
          </a:ln>
        </p:spPr>
      </p:sp>
      <p:sp>
        <p:nvSpPr>
          <p:cNvPr id="7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7E612-704C-4657-A2D4-96DF62343D4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9DDC16-DA19-408A-911E-5869545C1C8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53" name="PlaceHolder 1"/>
          <p:cNvSpPr>
            <a:spLocks noGrp="1"/>
          </p:cNvSpPr>
          <p:nvPr>
            <p:ph type="sldImg"/>
          </p:nvPr>
        </p:nvSpPr>
        <p:spPr>
          <a:xfrm>
            <a:off x="985680" y="741240"/>
            <a:ext cx="4886640" cy="3665520"/>
          </a:xfrm>
          <a:prstGeom prst="rect">
            <a:avLst/>
          </a:prstGeom>
          <a:ln w="0">
            <a:noFill/>
          </a:ln>
        </p:spPr>
      </p:sp>
      <p:sp>
        <p:nvSpPr>
          <p:cNvPr id="76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1CCBB3-DB3C-43A1-9368-41F020E15882}"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8CE643-DF64-4022-BC8E-58C22F98F91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57" name="PlaceHolder 1"/>
          <p:cNvSpPr>
            <a:spLocks noGrp="1"/>
          </p:cNvSpPr>
          <p:nvPr>
            <p:ph type="sldImg"/>
          </p:nvPr>
        </p:nvSpPr>
        <p:spPr>
          <a:xfrm>
            <a:off x="985680" y="741240"/>
            <a:ext cx="4886640" cy="3665520"/>
          </a:xfrm>
          <a:prstGeom prst="rect">
            <a:avLst/>
          </a:prstGeom>
          <a:ln w="0">
            <a:noFill/>
          </a:ln>
        </p:spPr>
      </p:sp>
      <p:sp>
        <p:nvSpPr>
          <p:cNvPr id="7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34FA5D-857B-4E36-994A-E99A00E97D0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239D6E-7C6D-43D1-AD25-9245F2F3BDF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61" name="PlaceHolder 1"/>
          <p:cNvSpPr>
            <a:spLocks noGrp="1"/>
          </p:cNvSpPr>
          <p:nvPr>
            <p:ph type="sldImg"/>
          </p:nvPr>
        </p:nvSpPr>
        <p:spPr>
          <a:xfrm>
            <a:off x="985680" y="741240"/>
            <a:ext cx="4886640" cy="3665520"/>
          </a:xfrm>
          <a:prstGeom prst="rect">
            <a:avLst/>
          </a:prstGeom>
          <a:ln w="0">
            <a:noFill/>
          </a:ln>
        </p:spPr>
      </p:sp>
      <p:sp>
        <p:nvSpPr>
          <p:cNvPr id="7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7089D0-1C7B-48BC-86F9-D3107476B3A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F2C952-EA6D-469A-A29E-80B4BA2057F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65" name="PlaceHolder 1"/>
          <p:cNvSpPr>
            <a:spLocks noGrp="1"/>
          </p:cNvSpPr>
          <p:nvPr>
            <p:ph type="sldImg"/>
          </p:nvPr>
        </p:nvSpPr>
        <p:spPr>
          <a:xfrm>
            <a:off x="985680" y="741240"/>
            <a:ext cx="4886640" cy="3665520"/>
          </a:xfrm>
          <a:prstGeom prst="rect">
            <a:avLst/>
          </a:prstGeom>
          <a:ln w="0">
            <a:noFill/>
          </a:ln>
        </p:spPr>
      </p:sp>
      <p:sp>
        <p:nvSpPr>
          <p:cNvPr id="76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77693C-8A2E-449E-9FC7-23F0BA8B912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6B4190-BC4E-4521-9DF7-7ECC202E242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69" name="PlaceHolder 1"/>
          <p:cNvSpPr>
            <a:spLocks noGrp="1"/>
          </p:cNvSpPr>
          <p:nvPr>
            <p:ph type="sldImg"/>
          </p:nvPr>
        </p:nvSpPr>
        <p:spPr>
          <a:xfrm>
            <a:off x="985680" y="741240"/>
            <a:ext cx="4886640" cy="3665520"/>
          </a:xfrm>
          <a:prstGeom prst="rect">
            <a:avLst/>
          </a:prstGeom>
          <a:ln w="0">
            <a:noFill/>
          </a:ln>
        </p:spPr>
      </p:sp>
      <p:sp>
        <p:nvSpPr>
          <p:cNvPr id="7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4ED6FC-E515-40F3-965C-4443707544C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8FC0AA-5B9D-40CE-BE51-1C306DD39AE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73" name="PlaceHolder 1"/>
          <p:cNvSpPr>
            <a:spLocks noGrp="1"/>
          </p:cNvSpPr>
          <p:nvPr>
            <p:ph type="sldImg"/>
          </p:nvPr>
        </p:nvSpPr>
        <p:spPr>
          <a:xfrm>
            <a:off x="985680" y="741240"/>
            <a:ext cx="4886640" cy="3665520"/>
          </a:xfrm>
          <a:prstGeom prst="rect">
            <a:avLst/>
          </a:prstGeom>
          <a:ln w="0">
            <a:noFill/>
          </a:ln>
        </p:spPr>
      </p:sp>
      <p:sp>
        <p:nvSpPr>
          <p:cNvPr id="7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EED354-04FE-4782-8DC5-2268C54AE34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8442A4-7732-4749-A25C-3A79EE17820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77" name="PlaceHolder 1"/>
          <p:cNvSpPr>
            <a:spLocks noGrp="1"/>
          </p:cNvSpPr>
          <p:nvPr>
            <p:ph type="sldImg"/>
          </p:nvPr>
        </p:nvSpPr>
        <p:spPr>
          <a:xfrm>
            <a:off x="985680" y="741240"/>
            <a:ext cx="4886640" cy="3665520"/>
          </a:xfrm>
          <a:prstGeom prst="rect">
            <a:avLst/>
          </a:prstGeom>
          <a:ln w="0">
            <a:noFill/>
          </a:ln>
        </p:spPr>
      </p:sp>
      <p:sp>
        <p:nvSpPr>
          <p:cNvPr id="76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47397A-DED6-45F3-9300-59654720C29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3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4E0FC-96A9-4BF6-9528-58299716AE0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57" name="PlaceHolder 1"/>
          <p:cNvSpPr>
            <a:spLocks noGrp="1"/>
          </p:cNvSpPr>
          <p:nvPr>
            <p:ph type="sldImg"/>
          </p:nvPr>
        </p:nvSpPr>
        <p:spPr>
          <a:xfrm>
            <a:off x="985680" y="741240"/>
            <a:ext cx="4886640" cy="3665520"/>
          </a:xfrm>
          <a:prstGeom prst="rect">
            <a:avLst/>
          </a:prstGeom>
          <a:ln w="0">
            <a:noFill/>
          </a:ln>
        </p:spPr>
      </p:sp>
      <p:sp>
        <p:nvSpPr>
          <p:cNvPr id="7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B32E13-AF8C-4BEE-9656-5610E7442E5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A4511D-F5D8-4790-968C-D91CBD260EB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81" name="PlaceHolder 1"/>
          <p:cNvSpPr>
            <a:spLocks noGrp="1"/>
          </p:cNvSpPr>
          <p:nvPr>
            <p:ph type="sldImg"/>
          </p:nvPr>
        </p:nvSpPr>
        <p:spPr>
          <a:xfrm>
            <a:off x="985680" y="741240"/>
            <a:ext cx="4886640" cy="3665520"/>
          </a:xfrm>
          <a:prstGeom prst="rect">
            <a:avLst/>
          </a:prstGeom>
          <a:ln w="0">
            <a:noFill/>
          </a:ln>
        </p:spPr>
      </p:sp>
      <p:sp>
        <p:nvSpPr>
          <p:cNvPr id="7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5024B6-8D69-48B3-BB9A-B34A8322962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8BF2AF-FE5E-4BED-A38B-DD737527EB0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85" name="PlaceHolder 1"/>
          <p:cNvSpPr>
            <a:spLocks noGrp="1"/>
          </p:cNvSpPr>
          <p:nvPr>
            <p:ph type="sldImg"/>
          </p:nvPr>
        </p:nvSpPr>
        <p:spPr>
          <a:xfrm>
            <a:off x="985680" y="741240"/>
            <a:ext cx="4886640" cy="3665520"/>
          </a:xfrm>
          <a:prstGeom prst="rect">
            <a:avLst/>
          </a:prstGeom>
          <a:ln w="0">
            <a:noFill/>
          </a:ln>
        </p:spPr>
      </p:sp>
      <p:sp>
        <p:nvSpPr>
          <p:cNvPr id="7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0A400B-55F6-48D1-AD9E-2138A32CC00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4A07E0-CBC9-48EC-9DE1-BB8691C7DD9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89" name="PlaceHolder 1"/>
          <p:cNvSpPr>
            <a:spLocks noGrp="1"/>
          </p:cNvSpPr>
          <p:nvPr>
            <p:ph type="sldImg"/>
          </p:nvPr>
        </p:nvSpPr>
        <p:spPr>
          <a:xfrm>
            <a:off x="985680" y="741240"/>
            <a:ext cx="4886640" cy="3665520"/>
          </a:xfrm>
          <a:prstGeom prst="rect">
            <a:avLst/>
          </a:prstGeom>
          <a:ln w="0">
            <a:noFill/>
          </a:ln>
        </p:spPr>
      </p:sp>
      <p:sp>
        <p:nvSpPr>
          <p:cNvPr id="76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FD2C3E-21A7-4DE8-BE14-C7C4300B95D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D254C-6295-47CB-8426-E42D0832E1E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93" name="PlaceHolder 1"/>
          <p:cNvSpPr>
            <a:spLocks noGrp="1"/>
          </p:cNvSpPr>
          <p:nvPr>
            <p:ph type="sldImg"/>
          </p:nvPr>
        </p:nvSpPr>
        <p:spPr>
          <a:xfrm>
            <a:off x="985680" y="741240"/>
            <a:ext cx="4886640" cy="3665520"/>
          </a:xfrm>
          <a:prstGeom prst="rect">
            <a:avLst/>
          </a:prstGeom>
          <a:ln w="0">
            <a:noFill/>
          </a:ln>
        </p:spPr>
      </p:sp>
      <p:sp>
        <p:nvSpPr>
          <p:cNvPr id="76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B3EE8B-34E1-4182-86AE-90A65D6384A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6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1898AF-336D-4034-A8A3-975B1A0D9E0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697" name="PlaceHolder 1"/>
          <p:cNvSpPr>
            <a:spLocks noGrp="1"/>
          </p:cNvSpPr>
          <p:nvPr>
            <p:ph type="sldImg"/>
          </p:nvPr>
        </p:nvSpPr>
        <p:spPr>
          <a:xfrm>
            <a:off x="985680" y="741240"/>
            <a:ext cx="4886640" cy="3665520"/>
          </a:xfrm>
          <a:prstGeom prst="rect">
            <a:avLst/>
          </a:prstGeom>
          <a:ln w="0">
            <a:noFill/>
          </a:ln>
        </p:spPr>
      </p:sp>
      <p:sp>
        <p:nvSpPr>
          <p:cNvPr id="7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9"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9ECCFF-646E-4684-A9DB-17BBD8FCCB9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677168-2127-4E3C-889C-FA0DAEC1ACD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01" name="PlaceHolder 1"/>
          <p:cNvSpPr>
            <a:spLocks noGrp="1"/>
          </p:cNvSpPr>
          <p:nvPr>
            <p:ph type="sldImg"/>
          </p:nvPr>
        </p:nvSpPr>
        <p:spPr>
          <a:xfrm>
            <a:off x="985680" y="741240"/>
            <a:ext cx="4886640" cy="3665520"/>
          </a:xfrm>
          <a:prstGeom prst="rect">
            <a:avLst/>
          </a:prstGeom>
          <a:ln w="0">
            <a:noFill/>
          </a:ln>
        </p:spPr>
      </p:sp>
      <p:sp>
        <p:nvSpPr>
          <p:cNvPr id="77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3"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48ABB8-CF11-48FC-AB00-92E9EAAB55E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543005-DE9C-42D5-AD14-04F3B132D58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05" name="PlaceHolder 1"/>
          <p:cNvSpPr>
            <a:spLocks noGrp="1"/>
          </p:cNvSpPr>
          <p:nvPr>
            <p:ph type="sldImg"/>
          </p:nvPr>
        </p:nvSpPr>
        <p:spPr>
          <a:xfrm>
            <a:off x="985680" y="741240"/>
            <a:ext cx="4886640" cy="3665520"/>
          </a:xfrm>
          <a:prstGeom prst="rect">
            <a:avLst/>
          </a:prstGeom>
          <a:ln w="0">
            <a:noFill/>
          </a:ln>
        </p:spPr>
      </p:sp>
      <p:sp>
        <p:nvSpPr>
          <p:cNvPr id="77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7"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4180C1-06A2-469F-8FC0-27D4EE4104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EAB74F-7913-4B7A-9AA1-818C20C441E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09" name="PlaceHolder 1"/>
          <p:cNvSpPr>
            <a:spLocks noGrp="1"/>
          </p:cNvSpPr>
          <p:nvPr>
            <p:ph type="sldImg"/>
          </p:nvPr>
        </p:nvSpPr>
        <p:spPr>
          <a:xfrm>
            <a:off x="985680" y="741240"/>
            <a:ext cx="4886640" cy="3665520"/>
          </a:xfrm>
          <a:prstGeom prst="rect">
            <a:avLst/>
          </a:prstGeom>
          <a:ln w="0">
            <a:noFill/>
          </a:ln>
        </p:spPr>
      </p:sp>
      <p:sp>
        <p:nvSpPr>
          <p:cNvPr id="7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1"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0A2B90-C45A-4668-9DF4-1E0EA89F4F4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BEF5BB-08BD-4375-BF07-CC5D938DAFC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13" name="PlaceHolder 1"/>
          <p:cNvSpPr>
            <a:spLocks noGrp="1"/>
          </p:cNvSpPr>
          <p:nvPr>
            <p:ph type="sldImg"/>
          </p:nvPr>
        </p:nvSpPr>
        <p:spPr>
          <a:xfrm>
            <a:off x="985680" y="741240"/>
            <a:ext cx="4886640" cy="3665520"/>
          </a:xfrm>
          <a:prstGeom prst="rect">
            <a:avLst/>
          </a:prstGeom>
          <a:ln w="0">
            <a:noFill/>
          </a:ln>
        </p:spPr>
      </p:sp>
      <p:sp>
        <p:nvSpPr>
          <p:cNvPr id="77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5" name="Rectangle 7"/>
          <p:cNvSpPr/>
          <p:nvPr/>
        </p:nvSpPr>
        <p:spPr>
          <a:xfrm>
            <a:off x="3884760" y="9283680"/>
            <a:ext cx="2970000" cy="4874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1EC8C6-7388-474E-8807-D38D2A6599D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77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B0A12B-72AA-43E0-A0FE-B300E5A2FAB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717" name="PlaceHolder 1"/>
          <p:cNvSpPr>
            <a:spLocks noGrp="1"/>
          </p:cNvSpPr>
          <p:nvPr>
            <p:ph type="sldImg"/>
          </p:nvPr>
        </p:nvSpPr>
        <p:spPr>
          <a:xfrm>
            <a:off x="985680" y="741240"/>
            <a:ext cx="4886640" cy="3665520"/>
          </a:xfrm>
          <a:prstGeom prst="rect">
            <a:avLst/>
          </a:prstGeom>
          <a:ln w="0">
            <a:noFill/>
          </a:ln>
        </p:spPr>
      </p:sp>
      <p:sp>
        <p:nvSpPr>
          <p:cNvPr id="77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8F54DD-CC5B-43ED-A08D-87DC842DC4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089DB7C-9511-410A-BD52-5B64B1319E6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A6B1126-8630-4346-921A-931B6135C5E8}"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7BFFF213-B16A-425E-B7E7-4817F34FFCB0}"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58D94372-2FF6-4DF6-A53F-7B65068C5898}"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4FDE4730-DA46-4F0F-A955-4DD2D9FCF3A9}"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A858B0D8-9A69-4AE2-91F2-091F181B29D0}"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153FAB22-942A-45A4-852B-651F864475C3}"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BEDD90F9-C08A-4208-85E3-D17640B7848B}"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8CF97344-9C04-4E85-B336-FD5C1AD922E4}"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0AA50137-8DD6-4BC4-9500-CF661F8F6111}"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31A4AD85-4E0C-4C90-B04F-F1123362D172}"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144F651F-4061-4E44-96BA-A7D6BD6308F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EAC5A29A-DBD7-490C-9E18-DBD32563E1ED}"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489284C5-3E3A-4AB7-B950-2526DB113963}"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31E6CB27-B1C5-4BFA-8EF7-31D9310C7FDF}"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DD19CA04-6FE6-4D97-A84F-ED21ADEA2648}"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65DBB9E0-EE98-491C-956A-59849A613EEA}"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58548762-A9E9-4D5D-9406-347A668AD102}"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BD9FB2E1-9B3F-4BBC-9B58-A8AE72DD4646}"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6E8E7E75-F331-4001-8EC2-575C61F24E0B}"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74333611-7C77-454A-916C-3F004C3770C9}"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AAAA55C6-9DD3-4780-A5BB-BC55D32F3E7F}"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C7F4999D-DFA3-4B72-93E6-65DBF76B050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A5DF7840-B62C-4021-B2F6-959A050FB10F}"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B59ABE81-3B27-44D9-A6BA-A93BC3DC39D4}"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6D164492-E837-49D5-89AF-F0FB81119862}"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F4735965-B2DC-4014-8B28-3794DC8B2910}"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2ADE5D2C-1A6D-4F61-9A42-841DAAB0FBEB}"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C7C76D6A-93D9-4961-8AE5-C8A7E93689FD}"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20DD79A8-B472-4C53-8066-045D13A406A0}"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2297E254-0A64-4329-BAF3-4A838CCD8FFD}"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D4F32476-BB83-4DFB-971B-C53668435EBA}"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8F1A9E48-3EAD-4301-B07A-BABB56480FB6}"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2868B36D-1DDC-4731-9BE7-88A67C707B1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7FE69AC-FA8D-4A5D-BD3A-90E7E32D42D0}"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1AA23DAA-60C7-4580-9C4F-85DDB54B228F}"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A8BFF271-F013-4A07-B0EB-0002B2186FF4}"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89D7DE8B-818C-44FC-A15A-FF143D4BCBB6}"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AEBE118D-90DB-4110-AC8E-CCDCFFC42E76}"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8527B048-4715-4AB3-BE85-023D8F9C8B5D}"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6A50A215-A89A-4FF2-BEC0-D50C21DEF517}"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FA595458-6EF3-4462-A0A9-674A73FB81B9}"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F48A83DB-BEA5-4EF8-A671-4784E6336A5F}"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A939313F-29ED-43CB-B9A5-C11E49514E4A}"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189D9CA2-D94B-467F-993D-373B674954A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9005E28-241E-4A11-B311-738CB64B9A81}"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072B43B1-AE1D-40EE-989C-6CC95A92DD95}"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898234EF-84A5-45C6-8D1F-A04A06C93668}"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AA69B5C0-B40E-4B01-A2B8-1994A65C3698}"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D9F12E13-1FDF-49AD-B7F7-4E8840E7ACF3}"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83B317E1-8011-44DB-95F6-F6FF94F62C14}"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0F93B495-A560-4B83-AE5C-283887A716F1}"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83EA44CB-49B9-48A8-94C8-2573DD23A333}"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4AB546A8-19F2-48E2-8923-CF4FF0E695FD}"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8838804E-F3A8-47B0-B3A7-7E087D8240FE}"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3405FF9C-B127-4F4B-99C5-A7D89D84DCB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5F1D753-D1C9-45BD-B0E0-D9385D5452B4}"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AAF122EA-F12C-420A-8DA8-735F6771D5F6}"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7F78C690-17E6-449D-8387-FBBEA680B53C}"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C11199A5-C048-4897-A43D-F2362E12CAB7}"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6E34EC73-B3FB-434F-97B4-4F7E45D841F7}"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6A39B63E-0AA8-4B07-9D95-AFB38DA21E71}"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0C2F3001-A4BE-4D46-A6DF-D652A6A884C6}"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BF347923-E42C-4759-A1DE-ABA6EDC96CE9}"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F7BE063B-0D5F-44BF-AD55-8F5113538CBC}"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D1FF13B6-C049-41A8-828F-AA0D0C8EFF2A}"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507A85EF-31ED-4A08-B7DF-315186096F0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959EBB8-19DE-413F-8260-1DD09F97B163}"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8555D6B4-1F64-4AD6-B629-5CC38E21B1AE}"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61C4229E-F6BD-49E4-A7FE-A235E5C83A4B}"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2EA02001-A1C1-494B-9398-F8C201F151C4}"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66A46460-FD23-4D7F-A2DF-A9A4F68340E2}"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C7755B94-0E8C-458E-A8F6-9FBDACF41A86}"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0D4C9EC1-1012-429E-8E6F-BA6C9DED02CE}"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C16DAA4B-7052-40B4-A92A-BD2B60DF0CBF}"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B3BEDEF0-ED00-45D1-82F1-E1F5DF4DF5D4}"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50030D73-9AD3-4DFC-97A9-DA2394B50106}"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489B2D3F-F0B7-4ED0-893E-7FE4A76B7C4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D7A6485B-8BF7-4C1A-BEA9-9B7F8951AA6A}"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D1C16C24-94B7-42AF-9FE9-0F71BCCD7562}"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485ACEEB-8728-478C-8DC7-10C277AA0E3B}"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7A1AB21E-575F-40E3-B5AB-F8F2326216BD}"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75184C00-0D16-40AB-8EB5-C8E395D60911}"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079AA245-888C-4451-B5EF-8DFD82D2EAE4}"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8F0EACC6-C25E-4699-94BD-22B078F12D66}"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84DA55BA-EC5E-40DF-B7DC-4447C251744D}"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312FCDFA-7F4B-4F98-879F-79A54EFA8F53}"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D3B9DF9F-54D6-43F7-82A8-8CBE4A117252}"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4C4712A8-ED82-47D6-BAF2-0B1C6114DB2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884342CA-8766-4D80-B902-574D2401A74E}"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1EDB0B76-D206-43C8-ADC7-26FC1405D4BF}"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6B015ED7-4B3E-400C-9FCE-E0AE10826BB4}"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F58B0EAD-6E1B-4D2A-A2CE-F92FC07A19F6}"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190E8417-7936-45DE-B3F2-D2665560D2A7}"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5BF5CDB2-D060-4216-AF68-BDEE65D0CF6E}"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710997E0-7A94-43B2-8AF1-A624DE5A3EF9}"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64A29C3C-3525-4910-A579-4F831AF71BD9}"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4EBEB803-FB58-4CBF-8AC6-3826CD905FD0}"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DF96C342-2869-4E00-BB89-61178DA0757C}"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1C3EDA75-143A-4B67-8315-DE2CCCEC1A3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249DEA7-123D-4FF7-9EB7-6DC033E39451}"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62558638-BC19-4E15-AB59-98C512D00F08}"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8EE3EDCA-0F3F-48E5-A98A-171815FE6836}"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C0AE3398-4A3E-43ED-A5FE-2FE9D5A57EB3}"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84057E9B-0827-4566-AE15-4AD0B25374BA}"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9E6BDCE3-C6B2-482F-AFAF-D279E6820F3F}"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C3FAEAC3-8AF0-468D-8892-27FC46C315FF}"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3F3E0DB9-0D51-4535-824F-C803B4C71703}"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AAB8255F-602C-4D48-A660-6EC4E9DF531C}"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F37D647D-954C-4E30-9B08-8D35DD4E68C5}"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48ED6757-6954-478F-B84B-55B3E038F0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A0AD86AE-6E03-4F3A-9CE6-4C23291E66A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F16F6FE6-EDBF-42F6-B33E-302EDC4E53D5}"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02D43EBC-991D-4BDF-964F-FDB1FDBCA165}"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A0653C45-4D86-48D6-8BE7-78F7C146315A}"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4F3BE548-AA89-4096-AA71-1DBF87CFC440}"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34CCF774-2F22-4CB7-BA19-CDDD92DB3D1C}"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F65FC879-3118-4466-AFD4-DE27346CBB5E}"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19335F62-5856-457E-82B4-DF3ACF512CCD}"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23C3F3B4-D925-4307-B654-95B116FE349A}"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78250571-1D0D-4513-AD49-17374B224093}"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2F301FBB-AC34-4E17-AAA1-D7B7EEA0E439}"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88B517EF-2148-4842-A3CA-506DC059F58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45B3AD5C-AD71-4886-BD85-191A25B70DB6}"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B6C678EC-79A1-43D4-B1C4-37258B39C8BD}"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440B9BA9-EF06-4B1D-A8CB-C91027E9EDB7}"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97C3005A-D6C0-4DD6-AA60-906E284144F6}"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7A72E186-D919-495C-BC3C-3D7759FF3062}"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A2FA53F7-4A69-4170-9C39-A3ACC9A6DF46}"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2DF772AF-93B8-4F96-A337-623A8B2A063F}"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A40C89B6-E5EE-42F4-A1C0-39DACC055629}"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39ABC73E-157F-4421-9489-989B9AD41A21}"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CFAF0570-CA61-4D53-BA85-5809986F36B8}"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9F0049E7-EA3E-418B-B016-BBD0788D508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7E84B5D-C1F8-4963-991A-DFC4CEA8BF0E}"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568BA8C7-8127-4A28-9CF3-F4D0B5604DD2}"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558890BE-4555-4934-BF1E-50D84CE3DCEF}"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66A94D2E-D4C1-481C-B628-59D02DCC7FAF}"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D5D73F6A-6B52-4D7F-941A-894E051129B2}"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11AF3437-E8D1-42ED-95F2-3A9B429D4A2B}"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EDBF4197-9F2A-44AC-8301-098719E5701A}"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460CC025-B186-4AC1-8B0D-00158B0A5C6C}"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650184DB-6FF2-4220-BD05-03EDE12EB065}"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C30FAB66-22B6-4217-935F-0BF11C1277DD}"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4158806D-01D9-4984-839C-6479CA0FB68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C9D6DA38-5B8B-4A10-A3F0-26A05200E09A}"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8864EF1F-445C-452D-B9BE-89A3DE2345CE}"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D578115B-36F5-4F0B-804A-755D965EFEB3}"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AC0820F9-449D-4268-BCA9-7E07BE137E44}"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FF9858B2-F5AE-465C-8DE3-0E39397C9BF1}"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7AF7E59D-A0EF-4FC2-900B-AACDD6964ED1}"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EA21D5F6-8908-4ABD-B561-CE679F970B12}"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2C19E6E5-FA77-433E-9F97-FD35AAD3E3EB}"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CE7A4CF2-D17F-40FE-88BD-B4A5ED313D59}"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B00B4184-C979-4ED2-A111-CE51280CA579}"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55F6A51D-DD18-42B4-AFFB-7945CE6BA6F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E7F6325B-72ED-4438-AE60-9C708D3876EC}"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04E61DA5-FA54-46E0-AE9F-EB7A3E89CBD1}"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99042B99-1846-4787-A203-A07A048E8245}"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746C56EA-8087-40FB-9880-F7E94CB87C02}"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F10DD087-85CB-4B8B-8288-6626701825A6}"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2136D6DF-60FB-4461-828C-7907DEC0FC1A}"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AD301A92-2D2F-46EA-9374-552A0A6A16B7}"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FB487E83-753A-4717-9375-048883C1262D}"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2C815800-43CA-44A0-B069-FCDB20063885}"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720525C0-0008-4EDD-A594-79DCB4106C19}"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734F1988-6840-45F0-BE49-A743D5238FD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A07E3DD-69D5-4980-BD06-360852837192}"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38646BC3-C22A-42F2-ACDE-A1A355D7128E}"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16B68FA1-3926-4B3D-B257-9FE4D70F1050}"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623AF764-EEBC-40CA-B351-4D36A007F149}"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4AD6273F-7DD7-4E21-9C32-F8DC542F156E}"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EAF7D338-C5E6-48A8-869E-375EA39144AB}"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C3591982-4F2A-43CE-8279-8DB203053E43}"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BBAF429F-0A8A-445D-B391-87189E40A3DE}"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CE19F071-AB5C-4B4C-A582-A58F8DCF524B}"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AFCB933C-72C8-4750-A641-A55317D444DE}"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089DC7B9-C75A-4848-9CD6-C70F27BB356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6052F0A-85A8-4D62-8230-6F460748F13A}"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96483566-0B58-4400-AD4C-252D564EE347}"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FED3D147-CCA5-4415-A29C-33C744FED09D}"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7BB6D606-3048-4CF7-A170-495BD916850B}"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6EC60932-F8D7-4163-8363-2A6C02E507D6}"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4CDF4986-E00A-44BF-8694-8E0AFAB30C91}"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63E58BF1-01B1-4887-BBBA-73B30B6C3BDB}"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BD6B9FF1-81E7-4CB9-A44D-38F63129F24E}"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B622C3D5-D24D-4D3F-8B62-7C46AB73BD9A}"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E6572B1A-BA20-45AB-AA95-BE7B69D447B6}"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D9B37A59-EE79-4F94-8BCE-FDE5704C27B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E9833A3-CCE1-4885-A621-86D4DCA33BC7}"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BE14573A-4611-4D18-8FD5-1FC62E7732B0}"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2468F71B-5818-449C-BEFC-AB97ACD89318}"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B08968E2-844C-4885-A5F1-F3BEB75ADFC6}"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431A66C8-D231-471B-AA1B-985A7197E927}"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4E668175-FDEB-4736-8AA5-710CEA9BBE46}"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438737CF-36A1-41D2-8470-3686F2F62D93}"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8630877C-F78A-405E-A94A-FC86EB6CE83B}"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A6C20EF3-CC42-4148-8792-CC2120EE3161}"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FA129AD0-C4F7-4EAA-BC35-6F64AACF1EBB}"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F1199FE3-45D0-470C-BBC2-1E6511A5373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FAF550D-253C-4001-93C0-1293270AAACC}"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87E703EE-A362-431A-96EA-3BF2F7AC2AF2}"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CC1B61D6-4696-4FC2-9CC7-37A4580C15A9}"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188ADCC9-11FB-425B-A269-85BD0F861302}"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C44F213B-6DB1-420C-BB48-4421B2C71E74}"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E604CB32-90FE-4BE3-8EBF-82CC9FD7EB0C}"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66FB33EF-4CB3-451E-A48B-88470BD0EA86}"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BDF901CF-6D50-4122-833B-A921B4DA30F3}"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E803E8ED-7F1A-407B-9E7D-F99494703250}"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74D9CE11-0E00-4850-90DC-E29CF4027145}"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E793A2BA-BF23-4059-B472-2BBCAFF961D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064D84AA-53B2-4EB2-872D-83D82DB396C5}"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5E9E8136-0AC4-473A-9624-6E2AA9583F0A}"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7E9A00D1-2D73-4D47-B076-3074137CFDC7}"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9ED9BDCC-E10C-4B44-B506-D6773546E957}"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A43A9DF1-9DE6-4233-ACA1-AFCC44ABC966}"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FB532140-98FC-4A55-B138-89171D18E888}"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4375B472-26E0-4AD0-B414-928006551F83}"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0AFFC099-D321-41CC-AF51-46C544AC1490}"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BACBF1BB-324E-4444-B726-E85F20EE3786}"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F9DC0418-0A3C-46B4-9CDB-3B63723CB981}"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AF237923-3FAA-4C53-962C-52F6F5044A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3765E48-8E2F-452C-B237-3165CA0F93C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CAF50ADC-5358-4E5C-A05D-62658EFCC351}"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6325461F-1390-4678-9FF2-1BE357857877}"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A8378C57-0F25-4CB7-B5DC-893A884FA405}"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BD0DFAA1-38E0-4EE5-8174-C270B301A6D3}"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3E8FDBEA-40FB-453E-849A-99BB4666108F}"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1ED0A0F6-1480-4858-84C8-EED280ED42D8}"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F765B4BB-89F9-4BFC-BBAF-5C37B0A94139}"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439EBEC1-97A7-4BA7-AF75-854BF1CD5E04}"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87E59EB5-82A5-4E36-ACE7-76F78CE02D07}"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847857F9-4DD6-4D44-B146-F0E24659D78E}"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E1EA4B64-FA42-4A22-A4B2-0737B033441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3F2D6E0-ACC9-43BE-A784-85CD7C605837}"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56FD4AF2-44D2-4600-9A10-95065AE4DE3C}"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72C102F6-BF32-4C21-AEB7-02B54FD4AFF4}"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38EDC45D-191B-499D-B2C0-D0B060274B26}"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D47F2379-D8AE-4AEB-9F4B-64E326FB6DFE}"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9DB49AD7-439E-468B-9ECD-16F5C58C5B03}"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43495F4B-4433-40BF-BC73-D60999C489E7}"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42199603-5620-4743-84DB-7F43E585F954}"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E4064E17-5109-4F83-9FAB-BADFE0D8F82B}"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D7BF084E-CB45-4393-B1D5-99A07B7FA206}"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ACF3BEF4-54F0-46FB-9FE4-B7CF03656F2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85D55C1-996B-41DC-83C7-2782D76478F8}"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C05897C7-F957-4E7A-ADD8-4240FD08A90C}"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3F4CB0B6-E5CE-4FB7-8204-365E84E550BA}"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C18BCEE4-E1A3-41AF-86C9-FBA3A7D7682D}"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6C0048DE-8D3D-4110-92DB-389F1535E060}"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472A2E44-E9EA-4B8F-87D9-339A6FF0A0E3}"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B0A86640-8B57-46E3-97F5-71D3E01233CC}"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049D3A2E-0E19-4F81-B963-763ED04D7173}"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5700D6EB-A9BB-4E93-ABCB-06F2B06BA9E6}"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3EDFB793-6728-4723-9C66-6BBD4CEC3C06}"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602C7EB6-B767-4145-874C-D406BBABD65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8BAE783-B644-4242-BAB6-CC082C48FBAC}"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EE13460C-DD23-49FF-893D-23655C452BF6}"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D0691C51-5603-4838-95A3-E6A63BF4A352}"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87944DC0-0385-403B-AA8C-E93B88F152A5}"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6FA1722B-5AAD-4E3D-910B-A959F36CFEB7}"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13B71C01-FD12-473C-8435-1891622FBD61}"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D27CE62F-4AED-411C-8B7B-81E1C80B647F}"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09821D4C-72A9-4EF5-AC22-56583CE916CA}"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D70BE5A8-42EE-49F6-B4F5-1AB821931CE7}"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E3864DB4-B000-453B-8BB3-F818DB4BD187}"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97A47963-18CD-498B-A8B5-4C6D3302A43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1821C87-BE2C-4A26-BBBE-76BE03112641}"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282FCBE7-5AD5-4C0C-AACC-4A57B33FCDD1}"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86620A5B-56D8-4F17-8DCC-CEA582B33491}"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C9AFE30E-700A-4B99-8D6A-9C0FA32BD0EE}"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76C65919-72BC-4F54-B7D6-36266544CD67}"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911FFD98-E5C0-45E4-8FA8-B2E949D13F13}"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F893A7ED-D7B3-4724-BE97-6A932CB72E19}"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7B322399-951F-49FA-9FA2-0E65B5F56FFA}"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9B93E52A-D962-45C6-BD1A-295C91829642}"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54A7ADB6-41BB-43FC-AD76-40905F4A1CCA}"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19646C17-C316-4FC0-BCAE-F29342C1ED9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9B6BE2C0-3121-4256-9156-2E98A818887A}"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C9732A63-4994-403A-9996-3A8293465E19}"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5EB568A3-0704-4AB2-A8B0-E01BC2BC786F}"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13DE0599-A3BE-4558-B7E7-ECA07F4664CC}"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726BCD2D-F10B-49AB-A8AD-490172752AE5}"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C35F75B8-B7D6-4FF6-96B7-E00EF0357D22}"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AE1E1D83-5468-4F91-AB4E-453C57D4AFF0}"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7E48B4BD-E223-4B0A-BB6E-6B4E16DF13AD}"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DCD54A4F-0B7D-476C-AC12-27FFFA2C559A}"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969248C6-752F-4ED7-A046-FD046B699051}"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B7A3285C-067B-4FDB-902C-5EBEF407B50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066B378A-EA41-4F22-A807-D37D5B63DA13}"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CE14A223-4E17-489B-AAF4-170AE871CE06}"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4AA6E91F-27DA-4B67-83CC-343EF6657AEA}"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5D89E50E-DB9D-48AE-9930-3A1C1150D1B5}"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91DD26DE-48B8-4AED-A747-62950A5F4FE8}"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7725F92F-E1E2-417A-AF1C-04CD9A2622E7}"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48764A23-A3B9-495D-994F-57B7797FFC4B}"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BFCE4622-29FB-4870-A867-5ECC5D990590}"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87B338BD-7609-486F-8410-5C49093A57D2}"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924F45F7-A9C3-4100-8373-B11A92085FAC}"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98D7EA66-1AD1-4058-8C3E-45A6A6E2F4E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3012F45-4376-4751-8DE5-6BF3DAAA3A94}"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9EBD1584-98A6-4854-9AAD-D5CE78008EE0}"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FDB8AA45-637A-4D18-865F-7A64389A9CE2}"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5F814A5E-FFA7-49F1-824C-7911A482D650}"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6CD05CDF-1097-4C20-8C97-7CD613C3FC17}"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BC0199C1-B67A-4D07-9E21-282722884244}"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CC575EF8-B8BF-44C2-B3C8-D80D9B7BE319}"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705C742D-2A0F-4F34-BA5C-58C38D5630E2}"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1D90BF61-9AC2-4944-B4B9-0EF0EC1B1470}"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F2606DDA-EE19-448D-B607-86F303E723D3}"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64FF6BA0-A045-48FC-BD05-9F25DB4E92E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0006D56-4F39-4798-A19D-B752D8FDA6DA}"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5AE66AA4-0498-4474-A02E-D641A05F5A49}"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D262E8F8-2459-484B-9171-E7EC04758B67}"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97982985-4036-4F07-A22A-6FE0323B9718}"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7E513B0C-1E81-4CA6-9733-F264022117DE}"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A7C250DA-B7D2-441D-8B46-B2F19B8E2BE4}"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66417AEE-C60C-4008-934C-9D155985594A}"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6EDC4274-4AED-481A-984A-760CE0C06F59}"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4E9293B3-2A36-4C91-BAE9-174D0DF13E99}"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54E704C5-87A3-42CF-8DCC-C338792FEE9E}"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5CA3477B-C4BD-451E-B588-C4BCA64901C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3E40F50-0BCC-4856-B55C-3683B033942D}"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13F0D858-2E65-4DEC-99CA-5B88060C25A7}"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18717F93-D980-4A7B-B83D-11A7A96B70A7}"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DD9B1E8F-FBCD-45C9-9561-0A9F81289F84}"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6EBD9E93-3B73-477B-B132-FB4D0988107F}"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FE51FB2C-151F-4CB0-AC32-7EE48B041D16}"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0B777185-CF4D-439D-9EEC-87CC1DEF80EC}"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D342C683-48DE-4C35-BA92-5A3D529ABE89}"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C7DD6C67-5AE3-43DA-9232-069C0AFD8CD7}"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2E399CA6-4D4C-4B2D-ACC7-322D73B6D042}"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00690811-A63A-4248-A6EC-7830388EB5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AE2D31-265F-4AF7-B8CE-DEED12AD9E8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C7E673A-BE8A-4307-802B-5967D02A04F4}"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763FE6D5-C7D1-4473-85FC-F7104C7F1EA6}"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BC9AEBAA-34E0-4CC6-8233-CA49232F8D60}"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6CAF6C13-0DF9-4536-A0E0-98DC4C16EBF1}"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17F27F37-443E-454E-8C29-9A7E6E1389A0}"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6004EFAD-078B-4FAA-9BA3-3385ACEC25FD}"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E1E1270B-4717-499B-8D6B-FBE2E8A2B1E4}"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6B37F953-B682-4190-8800-3B905FCCB6BB}"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52C64DE2-BE46-41B7-908E-2A902FDE3BAD}"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6B9D0C2E-C9A8-4BF4-BE4A-ED855B24E464}"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A552559D-55FE-45F4-BA09-5E86CE626B1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F28640B5-7914-42E9-9489-79EF8E91A980}"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8E620C0A-5291-4AA2-B041-806B8D96DA73}"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75CB5481-F79E-46D5-9723-39659213444D}"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A216796F-C9CA-4DA7-B06E-9FB0AC145B2E}"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AD678BFB-2E44-4363-8EC8-9590E39DF8FD}"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B39BAC8E-7DF8-431C-B048-E10F214024ED}"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FB7CE66D-DF19-4C3F-AD45-6D9ACEFAE30A}"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2B2F373F-01B8-4E82-9E94-A1E991E00FD4}"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0AAED513-30FA-4934-8283-3EA127C7AA35}"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A17AD323-8609-482A-AD6F-E921086A039F}"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4E643555-8D0F-412A-9AE4-926628DD242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1702D19F-FF7F-45DF-B173-694EAA33F923}"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F15F9366-44B9-45AA-83D5-75DF4E1AA36F}"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3A54941F-6020-450B-B70B-6FA8B24489CA}"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C605795F-078B-44F5-B636-51F335758F7E}"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23A7481D-A120-4B92-A8EF-9EA835B44D30}"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4B058130-BBFC-4656-A058-B3FA4C935D03}"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AAF31D85-EA47-4F79-BCB7-997F10E0DC4B}"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789CC45D-0C08-414E-80D8-7A8D17231E69}"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CBD1CB89-21A7-46A3-92E9-A9A4B0BBA0EC}"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7089A535-8EB9-432B-ACD1-836B62BACF0F}"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217411A0-4A0E-4E1F-A2F8-B99B112AD6B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2615222-2631-4ED3-A3FE-EB17574FEB80}"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2C060AA3-9BF2-455A-AD64-D67E385F562F}"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1FA4ABA7-75EA-4083-BA93-9CC106AF1180}"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88A8E2D6-FFE6-4D97-87B9-92D2BD83F4E4}"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D47803B1-E323-42C0-90B2-7A0BE9AF4348}"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48A432D1-98D5-429C-8995-E4D485AC2D2C}"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B7ACF5EB-80AD-4194-9987-60500381463F}"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38BA94CF-013B-43D4-AFFF-C8108DDD4C28}"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D0174F65-CE0C-4820-B53D-928C21B775C0}"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379886C2-91F1-4BC2-8CE9-6B4A160D015C}"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54010072-1B8F-4E0C-828B-C6268F8651B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5784BF9-6EAE-4AA3-BD6A-4A9143C9E557}"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279E70C1-7BB2-424F-9F0C-98D20CD17940}"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8624E909-7D09-42AF-8F9B-B31057E918BA}"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56BB5A77-6AEB-4E52-BCE7-39E0360D34F5}"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0EB67901-355C-4181-9636-177748440EB5}"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E2573651-1AAF-4EAD-9417-EDE84A92651F}"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79D262FF-54A4-43D1-ADBE-0B8746DEC434}"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E5DF62EC-A86A-4A34-8A9B-B4A357537509}"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BFB017F7-A787-4DAE-AE54-6EE3BBFA1B97}"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8B9A4077-0BDE-43F4-BD2E-A84D78C0B945}"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2179A1C5-B669-4449-B037-0D2E755EF11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E5CBEFD-DE64-417B-B0A7-687BCF314B80}"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277561DD-BDA7-4598-8A5C-B8082CAD754B}"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2A00F637-61F8-4F8A-9D07-1FF612F3781B}"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BBDD5C10-4612-40DF-827B-D0E2E502B14C}"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92A013F2-2558-4AA5-9586-F05CFBC60D82}"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5C9504A4-5396-4485-831A-DF62D6654DD8}"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A9144CE0-5C26-4A68-AC3A-CF1011301186}"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67865FB9-A5BA-41BF-841C-074A29B59660}"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E1081D2B-B274-4A23-A90D-C744175B8B9B}"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E4BFEFBA-EE92-4C39-B9B0-F4474C80F292}"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72633112-EFB8-4BE0-9D7A-A9A38A58284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A544EFA-2888-45D7-B029-E2C918F0F319}"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A09A3FE2-64D2-45F3-9514-D1661AC48BD0}"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FC42E3F3-1A17-4CE2-BAC3-DB44C77226D1}"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404524B8-0EC0-495C-AEF7-20E1EF69BA0D}"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0BF22945-5355-4423-BB7A-B505F7CA0C1D}"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F3B0C40D-BC3A-4C91-B9A8-97D07ECBBBA1}"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2149364E-BD94-41B1-9700-9F2B7E78C643}"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A5823ADF-5C8F-4F89-B670-A851E1116931}"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1CF2BE33-5955-4AC1-8958-ADEFF62990B1}"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AD6AF90E-C1F0-45B6-88A6-5D2B40E17AB2}"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1419492D-9EFB-41AD-BCF7-E54325FDEDC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CDEE35CE-0D6C-4814-B892-2CFB2893C701}"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1E291370-E6A9-4E02-AE77-30178AC6A1B3}"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38467E28-0B28-4E3A-8539-886689C01D8D}"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ACA7760F-3BA5-4E06-B301-647244B0D82E}"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54DD3081-38E9-43BD-888E-85A03EA21F38}"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E88BDE6C-9242-4596-AC86-3400C243F57E}"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0C4217E1-41F3-4640-9E6F-5D33F553F1D2}"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7F2AA07C-6647-430A-BB0F-44D1E0BB4556}"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B9E41D57-75E7-4FE4-8644-5F077221B065}"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0B197169-0ADD-4AB9-BAE9-E084B97C727D}"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B320858C-D0C2-4199-B891-1C91EBF01D4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131EC2B9-0E02-4A6C-BED9-7C730C113C61}"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E1908883-1CDE-4E96-A922-C457D9AD6918}"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C39B2D06-91A2-406F-A010-6F4714F5F3A2}"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0D927145-A9A8-4B33-8334-D1D992716FF6}"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644D109A-E719-4BFE-B85B-1197EE8A0A94}"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3F452F81-65E7-4A9E-9030-4651D364B791}"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BB4F25A8-9FF8-4301-84D2-9F4652F76169}"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68E9F666-B69E-449A-8059-F0A1149DDA37}"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E3B689B0-D80B-4345-A6FD-39FE6A65BA16}"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6DF1E97F-EECF-4E91-8CDC-8060887466D2}"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7A09B726-3F69-48A0-9716-938A4DC1B27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C70C46A-5ACA-4B2E-BE64-C471B7987899}"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0C516736-C3B9-4111-9F26-325C2DBDD5C1}"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E54A3FFD-5E46-4ED8-B61E-593ACCF8D88A}"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150491EA-305E-48CE-A77C-07E79194B0BE}"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93C73714-BA20-4280-A8B5-7FEB6C7ACF28}"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6C46F886-2D9F-4250-94AA-DA10D6184A7A}"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BF340F34-6AEF-4FF1-81B0-201670ACFB64}"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758DDE58-9B89-40CA-A8B9-284CD55AAC9E}"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D4ACBD23-171E-40E4-8B8F-9D4DB6A96A25}"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76211008-02EE-4C58-8B26-3B8FBD349FEC}"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1AA7E215-9230-48EC-8648-B4606798ED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C7E66D4-1F3A-445D-B02D-8C02A0487BE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C1CA004-7885-4813-8084-00E9B63FD483}"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A6E61BBD-DB5A-42CC-B026-4A9D1B0B89E3}"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CEDE13CB-0581-42AE-9869-61A6611ED187}"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A1F17487-9F18-4630-B235-00521576BBD4}"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D76E25DB-6CBD-4066-9EC4-41200E5D3A36}"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C2E79556-69C2-4E14-8630-8EC0433FC8FB}"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4A965511-7202-436E-8224-29078060E8FC}"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003C4B36-B6A3-473E-A6E4-BF2C57379949}"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43BB1A3C-0EE1-4900-A2AD-6CE999E8129C}"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9588748F-97A3-4A3B-8099-3C17CB3C4529}"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9868012C-D463-4392-8288-E4F84C2D298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5D442D6-3872-4D26-B1AE-CD7743660A40}"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4D6C9794-2F17-4AAF-9312-2CA24F7590ED}"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129F681E-C837-445D-AA64-38E0A7349A36}"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69F862C3-AF91-435F-BB5E-4E634C0A370F}"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F23CAA3D-009B-4AA3-952E-9A2494C228E9}"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54E93E31-0058-4D2A-BA42-D685F21355FC}"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BF9BFD21-9416-4AC7-9CD6-CC628A117F51}"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7F02CE83-1A0D-4374-9F3A-C7D35FB5AEDF}"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FAD0391D-8487-4546-AF32-FF1857EBA132}"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CB8BA1BC-6F1A-47D0-999B-EB46BA9E838A}"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E2012E71-2322-4A8D-BA7C-9B898962837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45AF79B5-91E4-45A9-8ACD-5AF96DF0768E}"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EF551E19-C46C-42C5-8CA5-7940801A1887}"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7B377202-59B0-4389-950F-E2750E4C3233}"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D1C05686-C971-427E-92B1-2DF88A05BF5E}"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5EAF5AB4-245D-45B7-BD47-9334F2A250B0}"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4A896449-73C8-4982-85C0-C2A2F994ABE2}"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D12B327B-8868-46A7-9070-042570D0F1DD}"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8C4656EE-FAC4-42BB-A267-DAD7A86CFFBA}"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EF9719E7-F934-4453-855E-CD4368178ACD}"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62487F5C-5E01-4257-B473-CAE78EE00538}"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DE8B7AC7-D056-4FC9-9160-B5EA1F5713C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873DC066-4075-4B3D-BD2A-AAAA0B069DE0}"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D2DF5F67-5B54-4CCF-8730-AA0AEBD9A365}"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2DCFE501-EA0E-47A7-8B18-07F6DAAF8444}"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8A5D062B-6605-44C7-8EF7-1D9950D19B5B}"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99F28981-33C4-4017-8905-13ED65029E17}"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BF850B57-F4FC-46EE-A125-4EED3E0FBE03}"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7275A839-7C6C-45C4-9F46-BC8718C32D48}"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01D08288-BBF4-4405-BBE7-284F1E5759B4}"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C56E9968-80A3-41EE-A0B3-087BE4443BBC}"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406C0EDE-4CDE-439B-B007-77EB00414994}"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D249C4CE-0311-4CE1-A6E7-894A8C9FD57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11858CB3-E897-4D7F-B993-915B520DD8CF}"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A6520744-CDA6-4E97-9726-64443DB54BCD}"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3EE5A4E4-A7A2-4BA0-8E9A-8D3EB604F5D6}"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9C3A1826-80CE-45E7-BF29-E503A31F9FA3}"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D81415F4-8F08-4400-BC10-641867EF6B21}"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6D03DD18-ECFF-4FA9-AC64-A43E94607287}"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F4116D3D-D901-4145-8FF3-6409094419ED}"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819A7D9D-696C-4817-86F5-59902E53233F}"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FE3E7E6A-429A-4F65-BF8C-F14FA4A0F664}"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20C7D2AB-B219-422F-8C56-9D6ED225478B}"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157E35C2-D54C-4871-A937-98A7A241C0E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9680975-661B-4376-A700-A13A0B9B6DB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7DD85D55-5314-4400-B907-7E069D18C1E6}"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0400B10B-7920-4737-A198-43A3381E7327}"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2F9771A7-70C9-4063-BD33-62FF570F3AD4}"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1E86EAE6-473B-48D1-A617-C2EBE58C57F4}"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C2C0E816-33DA-4C83-AB50-988ECA5BADEA}"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9D5A5CF8-1D60-4078-A2B1-B4FBD9349911}"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3729A041-08C9-4FAE-B562-CC8BA5403154}"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E4BB2757-384B-4088-B043-4F25A856D17C}"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45A2E897-B9B2-4BEE-BF08-DD336061EEB3}"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4AABCC57-78A7-47E7-A758-AC347D84D69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3D6C8738-CBB4-47AD-8665-18E5979D31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734B2CEA-FDA3-4DD0-86A3-41C6E02911DF}"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7B006B87-CDEF-4E3D-8120-0A181209F84D}"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173FA33D-4B4E-4C41-9EC6-46211936370A}"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D1D7D4AF-7662-41F4-8F5E-6837FE86702E}"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8A94BB67-6EC6-42BE-9C1F-B4130208C34F}"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C9AE2540-15DA-4021-BF7A-58A9973CD268}"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2B41833E-99F7-4FE4-BC8F-D0762AF0BA1D}"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370B5D03-1206-4C7B-BDB6-6B5EA046840C}"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C8534EE9-88A5-452C-A41E-F43661A5205E}"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8C28639A-C90B-4323-8FD4-618E6451BDA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5941D551-5ADF-46B5-A8A0-2205C13EA6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DD2D3DDE-D80E-4377-B795-6230B0D07F56}"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FAA201BD-CFAF-4265-B2AA-BA7B3113F968}"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BB4C8DD2-BD08-45CB-AD35-DDD73BA05AF9}"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F9CA091B-7FF9-440A-8C8E-73531F490093}"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09429E1F-5AD7-4B8A-BD73-3EF45B342EFD}"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F2BCB389-42C8-45E0-A7E8-0E95B1F30EB6}"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26D77525-4BFE-4914-AAC9-B6FC2F139579}"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B7DD3F06-1B02-4B10-8618-1DD06F6F5845}"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AA2A0D50-1C28-4497-B2D0-AE974C11E212}"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8FB32F4C-5757-4BD2-94CC-FE6071ECB19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328D51FE-5937-4DA9-83F4-5137E4C02D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23EC5ABC-4DD1-4BAA-B662-70CC2F9D17B4}"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A9B663D8-DCB3-40DD-993F-E8C5850A54D2}"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5CA43A23-D13E-4991-9D1A-10DECF3AF3E9}"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84F4E893-8033-4F99-9840-DD468C08335E}"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1CE4B997-3F4F-4AC7-87DF-F0754AD959E7}"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57B6DB92-CAA8-44D2-99E5-1DA5B040600C}"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D0858D03-A8AD-48BB-BB79-30C17FC260D6}"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F9821824-CB5A-4B51-8D41-566326FC9A75}"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190B71EE-C823-4D97-8DEB-7A5A1BE0AB9C}"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0934AC07-E809-4935-A042-D935BA3B038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C172EFC8-D9FF-4749-903C-1E71132CE9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BD0B3FDC-A42A-46EB-AB47-58815496A2B5}"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8F799C28-37B6-4732-9670-F715F5595A1F}"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7BA6A9CD-E820-4F14-8BAE-47F1CBC36AD7}"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67284C81-C7E0-4090-A7A8-E1D96084BA9D}"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FE46BBAD-E3D8-4BB8-9188-B8C5A7CE9C65}"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88CF00A6-778F-4E5E-A1F9-615B35C3ECB0}"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A248D272-3947-46F2-BC5A-AC951D40EBE8}"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EB7DDD5A-A2EF-43B3-B060-E87E3FBA027F}"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933C4B1D-EFE7-4F82-B6BB-39F3AA4D860D}"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7586FFC1-262A-4F28-93F9-D603A09550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D1F90F2-2F21-4F1A-AD54-DD8EAAFE52E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F46CF942-9C54-4BC1-9625-185EEEE790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3FB00B9D-DAE8-4DE6-988D-BF6F4C59BDB2}"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75E37488-D457-45BA-BB5A-FEB2398C6F57}"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253C795B-F8EC-4268-A57F-447831C10509}"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B3A72550-F1B0-45ED-81AB-2ADC140C8120}"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15812A2F-64A6-4983-8A96-89DB13923C90}"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039C729E-F5DC-4049-9C25-64FA243927D8}"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CD88AD19-795C-48FD-B96C-4153426C2729}"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EC5B9824-72E3-439D-845D-D2BE9AC70C9A}"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5DE98853-ED2A-4291-9E9C-B3E6DDB54E13}"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9D4C64CB-82FA-4E65-9BEA-407C16BE9E0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3044F68-35E6-46CB-B407-C734E3E2A7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92C38F7B-7322-4936-A846-F9E60F2AE5DD}"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EF51F5E3-9E73-4D44-9999-082070EDCB8B}"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8413FF6B-1FF8-4836-BB17-6C7349CED888}"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5CB5FD98-EA94-4476-B7DF-580E61E8DC85}"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9423A59D-14B6-47D9-8D35-654634F73C2D}"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1B4AAA26-63CE-44B2-BCAA-680D90C516EA}"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98A30E6B-B7A4-4D97-AAE6-60FE87321625}"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512F237A-A052-44D1-96C1-8F4CA69E4C01}"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4E71B9D3-E5CE-431A-9462-0E780A2CC76E}"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FB5D2B81-7A43-4A14-9124-4AA1219D181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4307403-FB53-4697-A6EB-BCD8521AED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6A7D5587-83DA-4710-B079-FE0688FB9490}"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3689275E-A434-4A5C-B4F5-99291757ECE1}"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699B7D3B-3B09-4024-82C5-12B0DC49B667}"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BF69183A-11E9-40CE-8619-69715BC2418C}"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24FFBCCF-C7F5-4BD1-82BE-FA720024C6C7}"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E0719682-FCF1-408F-98D5-085B4ACCAF9D}"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E470C3DE-7C27-4E0C-AA11-3F22DD5A7DD3}"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43273B5D-002E-49C9-8A72-A5C14D0F86E9}"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0A7D93E4-3E68-4CD9-8EE3-BA43E357DE42}"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0F184D2B-1B8C-4477-8DC6-0EA0CA78178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42DF24A-DAD4-4521-B11F-1E9821D288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D68A48FB-751C-4A47-ACE3-A7EEDF8D7BAE}"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BD7C1721-CF04-4DDF-B062-69E9C08DA8A8}"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9F6AC6F7-0709-495F-9BB1-BE3099DE5BBF}"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2923CD57-BFF9-4803-A080-35819E0DEEF6}"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F189B25F-3CAA-42CF-8807-6FF1B0914EE9}"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873818D5-6451-4B80-86E3-D89474F5D451}"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E7D7D78D-994B-41DB-85E1-48266D9DBC33}"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101B72F8-E5EB-4C18-8961-7AB770122BCD}"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1A80AE86-5A73-4C4B-8797-506683D01CCE}"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DCF8140D-F6DC-4B9B-B03B-6871FFC0587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F66883C-0A28-4542-A9BB-235FDD7547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D60C446D-9736-4D06-A56D-B57EF59E11CF}"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321C4C05-E827-4DEC-9585-283B02B29E66}"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7AE4C748-8E86-4436-82B1-074859ECF28E}"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8327CBA7-9BD5-48A3-BF13-BAA67CE901B4}"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79D6E7EA-7302-4663-AEBE-11198673A307}"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B2374F27-FCA3-4CC5-B8A4-11260BECEBE6}"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730EC66E-FF72-48F8-A53E-15614C59D8BD}"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C06F438B-9657-44DD-AAE7-4EF331BED550}"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6296FB9D-CE8D-43F9-BDE6-C8E67AD429BB}"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1AF9640A-C1C3-4163-82F7-B98431937A3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1589DF25-6FA5-4219-8700-6623D075CF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4234101B-B089-46A2-998F-A5B8B1A4BB37}"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0FB10B50-965D-4299-9198-6BC207E5F39E}"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2279173B-40BF-46BC-8059-1644027576B0}"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48F3A4A6-6350-4CF1-8498-7FC242C5EAEB}"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DA77F78A-9FAB-4191-9D4D-523643A95235}"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99323391-10E2-4920-970A-344BD7347B60}"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430D550C-C89B-447B-8F63-187E0FCAB16D}"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D193AFD6-1B52-42B0-B7F1-761CC89FF824}"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8B974BB5-7A1F-4112-99B2-567E72AB73DF}"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FF65BBA4-1F72-49F2-8DAB-2290778FC2F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E237B99B-2550-48D6-A0ED-FC2D237DB910}"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5A1A9958-92D5-48F1-9DAA-AE23ED8AACE3}"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732E18FC-7B21-4E4F-A2F2-5FA6A3F0E6D0}"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F9479124-F66C-42D8-92C6-FD0CBD714542}"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912951C5-E6F7-4E70-9552-5F7B2BFD417A}"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E5E2931E-65BE-4687-B931-C5E2687F93CE}"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17EAB768-26F1-4399-B5AF-7FA0ED993756}"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3898AFA0-BBDA-433C-9E90-61B66125E3E7}"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85CC17B6-78CC-4CC3-8A4A-BE9982050BF5}"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2F77080C-8C9D-46E2-BED8-14170EBFA276}"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9676DA9A-BC45-445A-B848-58063AA9399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900BC48-9C43-42E3-9714-2A84B07B6919}"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DFC2D0AC-20FE-471F-8A88-0E43070F6EBD}"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BFC49194-12E8-4871-88A3-2C732C4C06CF}"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B9417411-BFFD-445A-96FC-E58534C09922}"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6A1AFE03-5C38-47DF-B2F9-F644AD8CB524}"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2479B39E-9690-4D31-8599-8FEF404C5B62}"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5DF7BED0-F04C-491D-9FE9-43E458F9AB77}"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7CC0F2C3-6E00-43A3-AA13-B925C21E17F6}"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A078C7D0-1F0E-40AF-987B-F1BCA702275F}"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B59948E4-69F7-4EA5-AEDF-5EDC911DA9E8}"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24D77393-A651-4144-8CD4-1D4400C3624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2141E9CC-9619-4733-A401-7F045EF27EA8}"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C774BC2E-2A2E-4C5A-A0E4-4685D63B9658}"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D250D7CB-DA55-47D5-B135-98C606D1D165}"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EA79FB5B-DF67-4092-A17B-43454F3FC031}"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86A3F0F2-D783-40AF-9881-07F638A8E089}"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44112FF9-8FDE-4DE1-8302-C73C9A275ADA}"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7F168C16-112E-459B-83AA-010A0A010E2B}"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60C277BF-FBE7-4C37-B84F-9D53E3706D93}"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8CFCB3F9-FD2E-42CF-A50D-1C4186171D52}"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C25BA696-01B8-4237-B8F4-324A4F9FF684}"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B69BA7EF-7A0B-49E4-ADCE-2AA9FCFB373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DBCE7763-0D8C-498A-BA1E-205FCEAD2A84}"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D7D4C20C-E4E5-4565-AE6D-FA935819A75A}"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4AC4814E-C2DB-434C-8678-E770A3368F2A}"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590025B1-C99E-40F4-9EC2-96A7BF3CEA37}"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24761BCF-F1BE-4EFC-8043-4ABEC6C68D17}"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1F73BF46-AA7D-4284-B73D-BF86940C1060}"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82DD4F9E-C7BC-4F88-B768-C4ADA92D8727}"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35FC682B-396E-4541-B66D-ED7105BA0AC7}"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C3E479CE-4048-4030-B997-69BE522E8D13}"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9C26DDE5-D139-4B0B-A965-05467A927806}"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F6977D42-9989-43D1-9F65-27FA43C3F0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957C7F6-B489-42AE-8D52-4958A36F903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671AD20E-4E4C-4511-8C29-00EFA91BEE1F}"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472A08FC-C902-4C02-BB1C-C963A78605A5}"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729322B0-E6FA-4E02-8A38-1D38A83EAE17}"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1332F13E-2C07-4010-A830-B81D263FE631}"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CBE488BD-D0CA-4E02-84FF-79B080A30349}"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FFD6B002-4B45-4E88-9679-9CB3B3E336C7}"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B1BB6BE6-E666-4166-853A-242BEC823D9D}"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6FA8D34F-D287-4B2F-90BB-8AA73E603EC7}"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2F0CEC8C-4B97-43A4-99C4-9D63C461F045}"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57C3D392-D215-4641-BE42-F27887073674}"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43749C82-FECB-4799-AB9C-3129900D6DD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300568E0-AD28-4273-B968-78B7C88B615D}"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1BA4FBF4-0846-418D-89D9-3EFA3D3188E4}"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6CA07620-4CC8-44DF-93CF-E91FCC2C1B4C}"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15C91BDA-3AA4-4AF5-BC41-47277E7699EF}"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92D352DC-147A-4F61-842C-1C53FD1C717A}"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681D5B97-4977-43BE-B44E-988E5B9E52FA}"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53AAF1E6-057D-4EB8-8880-DAEFF47D3FA8}"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1D16A824-F752-4BAF-8EEE-13822CE53D98}"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3B5C2562-2058-4F8A-8578-17E8253C6997}"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0A72699F-FDC6-4A6B-B98E-32C35BCD31BE}"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31664D68-3959-482A-B74A-C905FD4FF15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99621027-4A27-4CF9-B381-FA37215BFE37}"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31B1B47F-1AEF-4410-86EB-C17003725204}"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E01A6CF4-D672-46E7-BC4A-3F2A9415D971}"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BB31CBC9-1CDF-45DA-B202-4D681EC3E434}"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FCEEFB7E-3528-47DC-BD90-010B04B6ECF1}"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985FF24F-FE40-49E4-A46C-6743AEC2340E}"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A4FBBCE6-18F3-4FBC-9DEC-DEE63ACCE39C}"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829A1F56-0ABD-4A37-A671-15A3A858AEA0}"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5AADA077-F0E3-4931-8531-39C5941643EC}"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BE6EF862-02AF-45D5-B79F-7C57CEBB3359}"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9877F546-62A2-4220-A5D1-7E7475A5CA5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408ECFF1-1631-4BCA-A591-C935A8B79607}"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A19FC4E4-CA5C-46CF-9B90-5E12D11CB9EB}"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4472067F-8B9A-459F-8B2F-EF4ED3983015}"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CE4F7ADC-5596-47B3-95FB-9DF6076E1229}"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4D884818-5C16-4992-8FD6-7AF2A3797DAC}"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25BBACCE-8CC9-4D6B-8A31-C5541AA3A32E}"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C8B709F1-0DBC-4E25-B052-B7B5C9F051DA}"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A5B02119-167C-4F60-B4C8-0673B8840FAD}"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56576388-7752-420F-8247-48D7150563AD}"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3115A9A8-5DA3-42A7-ADB9-0FAA4058D9B0}"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CDA25B2C-F7A3-4AE3-8A37-C8D8F5A0E6B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A67F6B6E-4F82-48CF-B9F1-5DF0A0C286B6}"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95DE38A5-3698-42FB-86E7-269AC6174916}"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7ADBE8D2-8EDC-48E4-8985-1805F9D9B543}"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632A69AC-EF1B-4065-9096-309669E24FF5}"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1BC4403B-1AD7-4239-8A21-00D6947CDFED}"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B58D395C-CB56-44C9-BE27-DFC6EEB1628D}"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634C8744-2E99-497D-B42C-8B4F0450092E}"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C24B0E33-3A64-443E-A2E8-41A22ED5D907}"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AE2940AD-677F-455D-8E27-8929B1172DA8}"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8C6F786A-C19E-4779-8B59-3D6B7BFE022B}"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1E3B7FF7-9EDB-4DE7-9B5B-3B7141FF844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3ACD5F8C-28E9-42D0-9EE2-44FC1564B199}"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8D86007B-04C5-4188-8CE7-52F8987B10C4}"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6C9636E8-E66E-4A1E-BA05-62FB77603F25}"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4892D426-D746-420E-BAF9-6C213AC66346}"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1EC93205-F5F0-461F-9EB2-6B63CBA2569D}"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81DAD88C-131D-449A-BD82-94F5D9070FCD}"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DE3FFFBD-4983-4C0A-BF07-6DDB403E5CE9}"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A6E6B2AE-3D9A-43E2-8ACE-9062180CAAB2}"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9A36D305-CA83-4E0F-887E-96F4C1B7B311}"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7FA8D89B-6328-43BC-9182-2C6CDCCDDF00}"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D56C6106-CC54-46C5-9147-6ADE22DC951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F0432C28-63BF-4407-B0A0-D518F8664D66}"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56B2CB75-1029-4FA3-A02D-0A89D4B11FC2}"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86D7BAD6-238E-4D0D-B0B8-5C833F3114C7}"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A4B5726E-7848-4A37-928D-158A8E7333D6}"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17F2AD5D-835E-45ED-AA21-5286A2A49422}"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16DC3C2A-4374-40A8-B126-1698482F23A7}"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87789AF8-E427-487D-BE77-D347DAD708A6}"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2EF0CB1F-D606-470F-8AAC-5F399BF7A3C9}"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4754743C-4506-4428-A646-22C76EFC73B8}"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3E5CD62D-658E-4FB8-AD5F-077F60A621AF}"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A6A2EFF2-BFBD-4605-90FF-B3BC377D286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84F42B52-45E4-4531-A694-135F6EEC2A48}"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EC6FA7A4-3A16-471B-9184-16FB902DC7A4}"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329823EA-270E-479C-B2F0-92FB996FF706}"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CCD5C1E3-17CE-44A3-B6C1-191456E2E55D}"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667524FC-D49E-459C-B0A6-036D769DAF79}"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B16A9A25-2AEF-4C4D-9B81-FA11B2EE337B}"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8F131247-3241-4A48-8932-E8BB7FD88AE6}"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0AC45B29-3B8C-44D7-A259-F6BAF4FEE1B9}"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2D55E929-C38D-49C6-83DE-4CCE92EE8B49}"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6B36CB19-395D-4674-BC02-C226BE6A5591}"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7C7B4CF3-2367-4F22-93D8-5B3261424FD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C3273AFF-10C9-462A-8344-1B670D43F0DF}"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27E6A1E1-6FD5-4E89-83F9-E4690B61B58B}"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1E40BE5C-923B-4DF1-A6DC-C83F83DEDC35}"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9691C6D4-6C40-487B-9693-70CD302DB681}"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F307E53E-C1A0-4361-BCDF-86812F8C507B}"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F28298E4-F336-4609-AB6D-999E4D11E5F3}"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EC2B936B-959F-4E54-9A81-B9FBF563106A}"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A49596FD-BE60-4CD2-AC78-E4357933A020}"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BF313739-6382-4E67-A0EB-5C9017B19BAD}"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BF5A9576-8B20-4FC2-AA02-53DFE0561B20}"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C82C416C-D084-463D-9815-536745B3E5D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A8621C8-D510-4D98-9242-C1FA1154300E}"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24AD0562-DF91-4E7C-8327-23078EEA1130}"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30DDC4A4-189A-4253-A1F0-96AC8F9D854F}"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EA054ECE-9F1A-467D-B4BD-14CA5809D352}"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29E33365-27B5-43A0-BE84-AEAD722D45BE}"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5EBCCD20-54A2-4B1F-80AD-60EEFFE5DF40}"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2340D7DF-D9CF-48A3-BF3C-390F7202CA84}"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EACB85C9-CC60-441E-86FE-894DF8601946}"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93C0AACC-0550-4BF4-B979-D53C3CBCB860}"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DF2028F3-AA3E-4589-8D6C-EF581237C361}"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98D0C044-5565-420D-BD43-7C42DC5C89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F121962-D579-496C-897F-22CF0E738F4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0E2E8D46-0061-4488-A9D4-15651F368B5B}"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D5A1F8B2-307D-44D6-9D2D-3B9627FDDE2C}"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20AE7A04-875B-4416-89BA-D520B3A0D131}"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18F7AF03-FBE4-4339-AD3C-DDC4476912DF}"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EAE233B5-88BC-4E86-8A21-EB3FB4CB229B}"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7365505A-8A65-4B05-90A3-06ACAFF27F09}"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8214E0C1-111C-4822-BC50-ABF10183DDF8}"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3B644020-1B0D-4404-BDDC-A1B412EC1B4C}"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567B4983-0622-4816-B365-F0217AE368D0}"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F6B3B4A4-0D38-4F74-9D33-3B5686EB990B}"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CE3F0156-1A21-4DF6-BE14-93BCC2E0F83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14F15CDB-F5AF-4227-9B67-CEBCE04E8C93}"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0A5B875D-C420-43BF-B1BE-B9E01D390C17}"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41AA989A-3F59-446B-9A6F-A4D7F1968E59}"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6874FB96-2C50-46DD-86BB-786887C8EB19}"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19A2E42F-824B-4473-A557-369D629CB5BC}"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1051BD43-8FD9-47A3-AA86-1455FD9FFF9F}"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138187E8-C781-419C-8716-432FB69EC3BB}"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4AC50C2F-9E65-4401-AC5A-7B8339320360}"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D2C9F6AB-7F8A-4881-829B-BBD272ED450B}"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79CE2B09-E050-409C-8330-6EBFA0CD3147}"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A4B2C09E-A8F4-4DBF-B53D-2DEA23D3ECD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366B6A37-13F2-4FA8-98D4-FC3A2AF122EE}"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BD80F2B7-F1CC-474F-B7D5-55472EC4EB2B}"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55DB8B05-C1A3-4541-981A-B82F8B713761}"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F4C34111-6714-4579-9D74-FCA418155A3D}"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627855B0-A75D-42D5-8C28-6ADF1EB93C02}"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012F1C3B-4A38-4C0A-9137-3C9CA1571802}"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E6C6CD63-9CDA-457D-AF3D-E9A33681D59C}"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621CB2F8-1703-4AA8-8B8E-77B63B8335A8}"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536872A0-F00F-4464-BFB6-7D9AC19BACF2}"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EC07FB99-A369-40C8-AA84-E54A1410AF6A}"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41789625-9E3D-49FD-8FB7-AF623356F5A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FCB7655D-F39F-4CDA-939D-720A127FA32B}"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A3408955-EFBC-4D5D-9CE7-1BD5E263B1D6}"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D25196A2-1418-4DE7-9CEB-57D338942CF7}"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83AE4827-FB5D-4AA3-8C63-F09F0050B5B9}"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D7767E71-1DD3-41E0-A30A-A48A69A8D963}"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400C1A5E-5A01-4BD1-AAB3-2BC7B6052813}"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BFEA3D73-D440-4E51-AC16-D0B88CCC8594}"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23049D4F-2D14-4A26-BA41-9CB44088EBC0}"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55164F9E-FE97-4F1B-8933-D74E4038BD32}"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6434697F-93B8-4909-981B-AC06D7BDAF6C}"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8D8E3642-3A61-413A-BE1A-3DF3865FA70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985DCF2F-90C7-435D-9910-243295514FA4}"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557D6683-0987-4B2E-A732-168DA3CD681F}"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906EEA36-CCD3-453C-8958-832794882226}"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D6FDAC74-D1CE-4E1B-8C5C-E3D10837C986}"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A003AA5A-5052-435F-99FC-8A4884652F39}"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204F77A1-91F2-43D8-B0C7-12EB26363C27}"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09711E50-2D9E-4B99-8C68-56F32B005591}"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43E31E5B-3C8F-4D48-B297-D03D9142AABA}"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B5C3E8E8-7C6F-4B86-9E1F-705738C2CD96}"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BEFF0640-622E-42C4-A45A-24A36E1DD365}"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2994E687-33AB-4CF9-89D7-50DE513E346F}"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5A3ADDF2-71DC-47A2-A8E3-D00468A41D96}"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14826004-6B5F-450B-A7FE-44B058CAF4C0}"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2869FAB3-65F9-4E8F-8245-4C7AEE26C9D1}"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BC5B4F57-55A1-4E45-B373-5D6F3EE9241D}"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367DCB8E-7FF9-40B1-BE58-749EC45A9FA9}"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7F601607-6AC3-4B19-BBD9-6A97ECE09C00}"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864A7AEC-6204-458A-B801-624A0330DF61}"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B0264B7F-200F-4AEB-AECB-8C19BB4E241D}"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410E5B63-DCDF-4D43-AF88-1F02722C08B1}"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0C19D198-DC28-4B9B-B07C-FEABC0F10B7D}"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13E3E514-660C-4324-AC16-184ECED52D1C}"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31EC5853-FD88-4BCC-ACE0-08A221709501}"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E54D6EB3-2B1F-4462-A0F8-A3149EB1035E}"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F92EF536-AE7F-4C0E-A7FA-D971D73F254E}"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50971339-7797-4CDF-A447-05A316ED1DE1}"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F9315A4A-5F17-4EAD-BB59-2D25307178A6}"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2D81840D-B3C3-460C-B0D4-96A5B0C17151}"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5EC434DC-11ED-47EC-9751-302C5F07B68E}"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77B3BE9B-7EDC-48D0-9B6C-FB64F6353C91}"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4FBC5F80-4240-4175-95B1-A06B2AB83DBA}"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7162DF4D-12CC-4436-A4D1-BBA8E912AB52}"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0F140ADB-0F72-435C-B9D7-C7498235C48C}"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F9A849D9-2B01-4CBA-B382-FAFA3F80DACC}"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812D3A91-7E33-4273-A1CE-4AB3B2BEB6CA}"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BFE49B29-AE45-40AA-B139-1C93FF01204B}"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FB754AC5-C292-4274-AE15-C30D046C18CC}"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6CD5CBC1-E296-49B7-973E-4572319C7664}"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5C458921-695D-4AA3-8863-305E4EA25E9C}"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EEC3AD82-08C0-47FA-AA3B-6906F77FDBCB}"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2EA7C779-84B8-4FFE-80A2-63A0D514D7DD}"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CB1D5899-7CB8-4D62-8F1B-2C743CB4C7CA}"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04309615-FC58-48B5-A642-F0E803F60347}"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D5289CFD-7BA0-47F8-98E1-7A7F38D1C82E}"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C5F70FC7-8A74-4107-9511-C7AF8BD066BA}"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A45FC09B-C6BC-43C5-94B8-1454BAB2370B}"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FDB7B7BE-7C2A-46EB-9907-FB9564B3892D}"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AE86BB30-119F-4DE9-A6D6-76C381EF8FEE}"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59C8141E-601F-42E0-972E-950F37ECB689}"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D9DCE31D-0A63-40BC-B4E8-79CFF92ABC81}"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28445714-EC82-4C05-B137-4A0CA55683E0}"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162F966D-3903-4254-9E09-ED1C13664062}"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AF7BAF64-E6DA-4F2B-8323-861256189ABB}"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1777AF08-DBAC-47C9-86F6-7D123C83A6FA}"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E54D4D05-B908-4FB0-9010-7D9998FCB378}"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C5D3BB72-2A1F-4715-9218-3D4D5BF91CA5}"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F692E5CB-2610-461F-ADE3-0F569E303A43}"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4C65F3C6-F764-42E4-B8BA-84862719EE6E}"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7D097278-87B9-414C-9BEB-F1BB05B7E7EF}"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FAF135CC-8BB4-422E-9B2E-66A379CA98ED}"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573FF2F1-5B1B-4203-A4FF-D65DEB9898F0}"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7A3A38B4-27A7-450F-8AA5-009F6ADF054C}"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9C0BB939-9C90-4839-89C2-4E14D1C4481A}"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F51B2A9A-A720-40A1-8E76-5E8E73215A68}"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9C8D3A05-7884-4C23-A704-D41983795469}"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4B1E3274-D87D-4AEE-A2D6-4FB2C99B89D8}"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20A9FA4-D67C-4B34-AE2A-5C0A69E640D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B2C43D4F-C0E6-4E41-B9C0-BCBF9EF17104}"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698B739C-BC28-40E9-9B7E-9562AAB5A1E4}"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AD9CAD70-7E51-4118-80DC-CD1DED89B01E}"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433DC1BD-E6EF-40A8-B59B-4F2F8B699EC7}"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643B39FB-5708-496A-8E16-C703D66E79A6}"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D77519DA-CB99-4B94-803D-5D771A867B58}"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DB7BBA82-4556-46DD-9F8D-736B0900066A}"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ECAED325-5831-4621-99A9-9B518C71F805}"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36EF4A88-7405-42ED-B3CC-8AAD79E1D279}"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8095748D-89C0-42B9-A6F8-EE70D081CDD4}"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FFA87A24-AA6A-4905-9FCF-760DDF8DA845}"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95D4817-6A78-4AB8-B3D1-B2A326B365DF}"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D0067EEA-9AD1-40AB-9550-BA2840B6E913}"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477285D8-20DC-4010-A189-F15F7203BFE4}"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4579AF6A-FB0C-4AA2-9DA6-1E810D6E61C1}"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EE55E500-D0D4-4DD6-B517-9AE61C3EB763}"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4A008B1E-93BD-412F-9ACD-CD156D39E95C}"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BD97C51E-615A-4608-B15B-CD299AC3095C}"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6BDBFDF5-530D-4155-BD8D-BCEA02E7A4B9}"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D8EBDD18-EBD3-43BB-A795-B06CED62ED65}"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3075ED52-C593-4A7B-ACD7-7CE4D07AD997}"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FDEFF262-0B3F-4B37-BA3F-3C3200E0820D}"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12539BCC-972D-4ACC-A0B7-4D60B8F0661E}"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83706FD7-D3DC-470E-AAA6-8E1ED1CC503C}"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32456CE3-01EB-4AF2-8AF2-9200E8C60C3F}"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6D2EB274-65A6-43EC-A81C-5AF90D73F9E8}"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6ED23718-0B43-418C-9D75-087C13A67455}"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E1C70236-DA9D-433F-87B7-BF60825F4F74}"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791EE59A-1CDE-4AC3-89ED-6EB0C47DC1EA}"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E789B278-8AC9-4AFF-8E2F-AEA3E0368A8F}"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26C9D4F3-7815-4963-A1A3-E05E2F6FE717}"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22AA3D4B-419A-44FB-9F87-5B8426DE17C2}"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864316E1-9419-4EE6-A4A9-93798E1060D4}"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8FE71B9A-3C87-461A-8C7B-87CBC10335F6}"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97C8F551-8818-4E13-A664-95CD2C2B92D8}"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BD942E62-E558-43C2-96EC-B7D42D7C491E}"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53A40191-66C7-4689-859E-8B0D4371318F}"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030A4907-1A27-405F-8419-04523690932B}"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8CD013F4-3C66-4D53-970B-CEF5AF85195F}"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AB238182-6E3B-4D72-AA5A-9086F709C975}"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52CB9E61-9CD3-40EE-8FDD-9BFBE83411FE}"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21747597-47CB-4655-9458-3872C5035472}"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5A26408D-8667-448B-AF2A-52E56EBC8FB0}"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4E023B38-077D-4361-814F-00C38E6BE529}"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E6B694FD-FC7B-4C3A-B680-356918122727}"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638F5661-9022-4A3D-87D9-B6487ABF5081}"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31AA572A-B361-406A-A287-42EB6C3224F3}"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106FBAEE-6649-4CC7-8C13-75228EE2A0CB}"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7914C924-55AA-4151-9588-FA4590434A8E}"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27C714AE-5E66-4234-9D8E-4E02AE28364D}"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E905EB6C-D303-406C-A4D0-DE8E99C64B46}"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46275F2D-E2B4-4733-9FEE-4EBDABA231A0}"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E6B3CD74-2516-46A5-9765-B15E493D8FC0}"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8EBE0526-21C7-4808-99BE-45D0E9F6A035}"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DD0D6F46-D63E-4AE8-BA9D-537E37BAC456}"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1C4A36AA-E7A3-4F6C-9918-8D563CD12715}"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CCC66EE8-64A5-4E01-B9EA-29EB0A13700C}"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724B388D-E4DC-491A-8D7F-3EF8687552DF}"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425FEF96-3E72-46FC-B2CB-F5B2B30EC267}"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D19D8F94-C854-4CD2-94C2-A0F2E2309C6A}"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893461D8-F0A3-40C4-9B44-9001FBAF74A3}"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7C061ADB-2024-4070-B0DD-D99DCFC3B932}"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0F3270D5-499A-4FF6-B7CF-53E5F02A204F}"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47377D1D-EC32-44AD-BC13-57BE255C10C6}"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772307CA-D0A8-4821-947C-DE4206FB99A9}"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684D39F9-A8C6-4C14-B2B0-A815074DB133}"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D20CB477-2A62-4760-9F9F-4C164A3E276E}"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11AFE821-A35C-47F5-9D12-432D935FB2AB}"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1891B9C1-1EE5-45E4-9386-643068D55187}"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CFE82D2B-527F-4534-A12D-651A2BC199A1}"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D562D6F8-2824-428D-A82C-E8247514FC06}"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431C82B3-76B3-4BA7-A75F-969C9CD161AC}"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19AACF2F-73B6-4714-8F62-DFA1CBDAF46D}"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61D53C8C-71BD-4099-8794-C0E66439833C}"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469CA949-F950-495D-A685-1D0C2C732224}"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5423409E-13F9-48BF-A305-6FB9985E6D65}"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6B34DDCF-FEE1-4CB3-9308-FB254036BD9B}"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C5253C1A-B8B9-4C62-BFC4-805EC1F17C0F}"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B0008257-5257-438B-B05C-7F3CF1B7BB80}"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311B3811-6604-4AB7-8E7C-B570A4FBD2EF}"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5F8BC48E-B5A1-4694-8EAE-82D72A48F6AE}"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6EAC23FF-3C9E-4E70-BD75-F488CDCFB39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2246120E-EF1C-447E-92A6-6AF54D0028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26A74D7-3034-409B-9592-B90F09D83B6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42909F92-BFF7-418A-B1B0-134BA92A3C6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21F57F2D-3F68-44F2-84A2-19D63F9485D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544A5B97-22D3-4CFD-B17B-217D159FE86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F182AB1-4BB1-4242-8B78-07C08F5D1DA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3FB6543D-2059-4994-80CB-856E973E404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7BE2F2F0-16E3-4D7A-A3C6-12E60C23039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6B247254-3F5D-4F7A-B20B-7F6C606C1AE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F72B8358-08DE-446C-854D-D286D44E95B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48DBB35F-CEE3-4B3E-89C8-F05EB63DB9E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A4D09837-2501-4744-A239-6DC9C0A518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877B6ED-9431-4987-A86B-1EC9115A8B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9C613E3-E9E1-4CFD-8474-2F427778385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C36A1377-1F99-490F-A95F-F7AEEF830DA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27D3E0DB-D0D1-4998-AE5E-CA488798BC2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5DF66730-1320-4680-9357-6CD55F4CA65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60B24838-5634-41E2-97AA-D948520141B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12722540-03E4-4147-8C53-0A2360AE396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B64F0C4-4C3B-418D-8FE7-1A64351660E6}"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AA06B618-818F-462F-8716-DA8EAE17A1AE}"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1D3A7E60-9EF3-44D0-80B2-EA35BFA7F68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7318B2CD-3A20-4DE9-B93E-B79DEF8ED699}"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D65BB648-97F9-4F13-8E72-20F4CB630B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5BAC264-10C9-4630-9643-59F18922E41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5F573457-880A-4D9F-AFA6-2069E62DC75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91C40123-DC74-47C6-96E5-01827D49A70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F1DE48E6-EF92-4E42-9173-1EA862D1D00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75848808-EBB8-4DBE-89D9-B57FA6FAA67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993EA81E-51C0-4888-9BF1-50DB3C8B191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95630998-5F3F-4272-A28F-23C68E226C4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2707E2AA-61F7-46CC-8666-DD00CD14716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43E1B06-FAEF-4FE0-847A-6632DD3DE05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15C7C3DB-56D4-4705-A882-C9C4AC34235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9F458B3A-891F-46CF-A2E6-E539B73196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6C1CBAC-3DDC-42D7-962D-DAF0736BCC10}"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D61765E1-AA39-43AC-B734-9E98B071F6E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D41FE606-53E4-4766-B551-44FF2DDDB17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9185C269-EDC5-49AC-B16B-8AEFC39B8EC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3EE261BD-6146-4645-BD70-273D1E85E7A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2CE72A8F-0580-4576-83D8-3AB89BC984C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60E39BCD-5583-4702-A11D-8DD4DBD0935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58627167-06CB-4E04-81D4-16B170395EB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B91FCB1E-558C-45BF-8957-98CCDA76CA1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9498C2ED-FC4F-49EC-B5E3-B7FDB6585B8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0F0A8A1-EC46-4E3D-91B9-E1546A11DC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5246A526-4355-4159-B799-EA9706F4DC67}"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7CCD1161-B5AB-4A3D-A49B-4461BD572C1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7453AA7F-D59E-4944-89EA-1B78FAC8660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FEA3E135-EB29-46BF-B3FF-D16383C2DCF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CC4EFE65-660C-4BF5-91A5-53760843E0C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4261D024-E4AB-47E5-ADB3-A6C53780B89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4E809A2E-034A-486F-AC77-3B3C56181B0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55F33A33-6F73-43AB-9825-5F9A04D2BC8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7778431B-9123-4DB2-AE30-499137F9384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CF92346A-56A5-475C-A2AA-CD53E57CDB8C}"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2C9B3B98-9753-4AA0-8C75-D7123B137F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25DE364-40D8-4D49-AF17-BBC4FD69D196}"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349186D5-2298-47B5-8E5A-BF3AE3EE29F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ACBE4A2-847C-49CC-A3D1-452B6D59138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C3F72DE7-8347-4AE7-9D35-CC53A7D14C8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68A2EB7F-A383-44B6-95DA-11FF4F12519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73CE4542-4D06-4D70-88D3-CA6705204B1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093273C9-7917-4316-9E69-A502780D7BA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3C9ED4B3-BA79-4FF3-A3A0-42A4689BE50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3A547545-FBE0-4BC0-860E-B1B483E5D3E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565B2217-6728-43FC-BEF6-775DD762885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A42F4B87-5F28-48B2-9D88-27C47FD5B38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61E2EB2-4B83-4E5B-A68A-1898F1661A1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BD5588E8-B994-4A7D-ADA1-4F5C706B3C1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87C7D500-2DBF-400A-8596-395CC98249F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4C101B7B-4659-4724-A546-9404F1F10D4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F516988C-337E-49BB-AFAF-BCE70DDC9B8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AC36F145-06A9-41A2-93F8-893E439D0A0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C580A806-A5E1-4EAC-AC94-5E39F9EDFD7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1D195E0B-5337-4FFB-8965-9F1508294C42}"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33B9F8F4-39DE-41BA-9F7E-F2CA7427C54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9E9A35BD-1A54-4D31-8C84-8827CACABD76}"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FE40DEAE-DCFD-4FFD-AEFD-288BB6CC8C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347F49-0F54-4AAD-81BD-60C19D3D16D3}"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B90523BF-9288-4CE7-98CA-9DB3940EC8F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AFFD8879-D115-497C-8560-9FE4B561234C}"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CACA4875-C3F1-4D49-8478-B198A0153C7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26F69C1C-9A84-4409-A9CA-64FEC827EEE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AAC5ACF2-A821-4D82-AC20-F7733078D399}"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DA6D53B-6363-45C3-AE9B-F574B07A965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23691E7C-73A1-4AEB-90FB-DA038F7BB13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1542450C-4BED-4249-BF9B-8955A0C4908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6476CCC7-9205-49A3-9BE3-16068FB25D2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78531A13-E837-4DBB-8E0B-F8CF4F2065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F48EEA-C0D0-4EB8-A70B-64A5C1B8AFAD}"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F4FEC90D-5640-4F2B-BA71-0257A3AE6AF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746E2892-B50F-4001-9152-BA8C2AF10646}"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6AE6E698-7831-419E-9864-B402B03ADB60}"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6C5415DE-9B15-40E8-B550-6F1FB7C87A7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9D3DEDDA-8459-48B6-8B41-43D0E3974EB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FF1D6D88-7185-4F7E-AC09-96BC85C0463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ECC4C59D-0F5E-40BC-9A82-7B8A7BE92C4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0E471D1-219C-41DD-81CE-5732B313904F}"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C8CC34C8-4DD3-42B4-847C-7F60D2DB2EAF}"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2FE1A331-6E36-479A-8296-B0595423106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B4F2421-69E8-463F-B2F5-37D1F029A01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A581E7C4-CD6A-48CD-84CA-26D63D9589F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ECE5613F-FCAF-450C-8CD6-D53DFF50F061}"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D5A9C866-4576-401D-AB99-F49EB31A8BB6}"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97BA5795-4B3D-47D4-8B36-5CD3ACD98784}"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74560D26-7431-455D-B447-DA2B8E16088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F3F76086-1940-4D55-A3AC-D44B1971EBC5}"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D77CCCF9-97F8-4478-A0D4-16CD9837D284}"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5FC6A7A7-FBCA-494B-B097-38A41CED4C0C}"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0F6615F5-11E4-438D-A8D1-B60ADCD7CC8C}"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83E4113-AFD9-415A-BF0E-CAD8CAF30D9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4D757D-1E55-434F-AF97-B2DF4953F6A1}"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FFD91C44-C30E-4E97-ACEC-302AC8CCDFC4}"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AEC1D882-F7B0-4899-8767-13DE05113FAC}"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659629C7-F05A-4043-BD95-5364C78A9652}"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EA852BE6-14A9-45A9-AF02-4D2EBDCA77F4}"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B0695A1D-4DBF-4D16-8814-ABB59AEABE3A}"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5093F399-503B-4E04-B13A-84E5B94833FE}"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45D1460F-937A-4788-8E75-4D2FC7D360C3}"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C990A308-2A04-4C02-80F1-4099E2EE6691}"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A198756A-4678-4FF9-B366-80C7990EA866}"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65CD60A1-BD12-447D-B16D-748123CB7A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FE722AD-9931-4BC7-B4E6-50DB09F70FA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9E5A8F6-6D3D-4C1C-A14C-5CD171AE0E1E}"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1B22EBDB-C998-4C25-A062-F4FB412E3565}"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045234FB-824B-43D3-A4E0-3F4574046D29}"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10A17541-BAFE-4E1C-A31F-6FF7D91761E8}"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8557D660-EBA5-4EA1-A8DF-D0A1A6219EAE}"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8BED0EA3-F909-4AA7-B77D-990EF81AB5D4}"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2CD14E06-6142-4381-85DA-A00679A99C9F}"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B882B024-D7AF-4B2D-99A1-8149DD43AB59}"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843434BF-0D90-4CB9-9771-77543D73569C}"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2E8458B3-0372-4B45-8FDC-322D7104E232}"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83FE4E30-C786-497E-B35F-9D8D914D45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B47F8ED2-FD51-4AB4-A16F-691094CDB617}"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26D79D79-C0EC-4C5E-B26A-DA959E5D0352}"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4D9785DB-0C09-4EEC-A383-BB5398C9822E}"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1A17294B-5477-4C27-B439-2332551E1393}"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C0D8DE38-D8B3-4B5D-92CB-3069174698FF}"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9B93B3AB-1C92-4C83-BBD0-47047CB7A2C8}"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44ACCAB5-05DA-468A-BCBA-F46A966044C9}"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14D5F17A-503C-46A2-A51B-365F1EE7FE02}"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CE8A2623-6967-4781-BB3F-5E85386F5D83}"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5503667F-A1FB-4D4F-B1E8-D6441DE63C65}"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252350F1-2F85-4D90-9DCB-B349670CCC1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A66FAC1-8E1B-4B32-8052-7309D6E6C768}"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672CBDF3-4CC9-4015-8A2D-7D9A9BC6E031}"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17AF2988-C2E7-4132-89A5-69475ECA4403}"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422FCFBF-BB42-4045-8189-17427645274E}"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1A203FE6-554F-488C-BDF1-F474A45AD566}"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06B7E41E-6BAB-47EA-9E07-A6783DD78E71}"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55E51AE5-3FF5-4242-B354-038FD69AD92B}"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8E16C877-BD21-41F8-AFFC-2EDD44CA37D0}"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9883846B-6394-43A2-BEA8-CC29E8A4C341}"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97B34391-1657-4F93-9C06-F27A914F0011}"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98ACD9D5-E987-480D-81AA-83A4D4B13B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52F3E45-DFDA-4C53-A4B9-94EED728B1A0}"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EE161BF7-4E81-459C-8E67-1311873FAC3C}"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DB536CB3-8F5B-472E-AD15-B4D86D74076D}"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3B0A22FC-C9F2-4748-B2CF-CAC8BA299E1B}"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01AE71AA-0706-444D-B99B-16695EE8F184}"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A35421F1-E341-4F34-9957-7F0B7EFEC977}"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2C21D3B4-D514-4109-B0D6-8E8ADBFA8DD8}"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07F693D2-8005-46E0-921C-DDBCAE50D419}"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12642967-DFE7-4CBD-A69D-7D0AEEA6EA31}"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031FF58B-9A7A-4925-BB1C-794620BC8B3C}"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5F5B1CB3-5B07-470B-936C-B3E4080585A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05CD4CC-E830-4FF6-8403-C4FDC1A4978E}"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0D6AD43A-099F-4A64-98B4-3E9BA9C8A76D}"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641C9855-4D94-4776-A57E-1790324F1789}"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C5E93667-CA8D-40E8-8CD6-A0A73D92C280}"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18D94F7D-B092-4B77-8998-B4713AB7E3A5}"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A93BCF5D-7A82-4A13-BCD7-C80C8D05B01C}"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B8034722-BEF2-40B8-B401-D545954A0521}"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5C84C2C5-0133-4A1E-8B17-8873B142219C}"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2D9FEAF8-56FC-40E9-9298-02C13A72ECEA}"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080A1B79-F4C9-4C6A-9215-1FFEE1D0AFC4}"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C30255C8-4B10-4550-9760-65DFCD0BB7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3399AFB-C2EF-4663-9591-6E3C59261092}"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373E1E7E-830E-4B50-9C90-C4096D0F30ED}"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900F0CDF-4459-4ABD-8BD0-2A617262E9A4}"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393F5FC9-67B7-4B87-9E5B-693A975865FF}"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B82DADFD-D110-4877-BD8B-955003E14D79}"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E3FC7EF4-445B-42FE-8DF8-891DA787A9A9}"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73426CD1-C907-4301-9BEC-74DA538D68A0}"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5D163E1F-8087-4917-9CFC-E97692D6D1DA}"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D19831B6-DA68-4DA9-8501-9A8F44AB3BFF}"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0C4AC28B-B0F6-4F01-9EE4-21001EB299D5}"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2FE7A25D-779E-4FCD-B131-5F6093F9B7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10BB78D1-7D77-4905-A587-A48173DA4CC1}"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3E8B3076-EFF5-4222-B06B-D533EC4195B6}"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D6FF32BE-67F5-4E6B-A8AC-735967CA64CB}"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EEAEFAF5-A580-4BAD-8730-A15CA2D863F4}"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0E178815-5515-4016-A74C-494E91ACDFC1}"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C2C72A74-6BEA-4C80-9512-FB4F814E6B2A}"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AB86F012-CCD4-48F1-88CB-62CB31558308}"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86A0F62E-83DC-4680-A97C-404E08450BC8}"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6802878E-2D4E-4763-A204-026323D9ADEA}"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020D7036-38AF-4B43-9EA5-B4C19563C392}"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CD8153FE-D66B-4257-943D-CB09EA6868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AC0972-27DD-4E80-B76C-F8EBEEEACFF7}"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6C96F3C2-94EB-4841-9930-EBE3AF85D072}"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0DF1D732-70E7-410F-8747-36AC02AD3BEA}"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D1601F7F-286E-4A17-AB19-A2088A95C913}"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1968B079-4777-4B04-8ED6-7F1B69E42C39}"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7CF7537A-2D2B-4B63-A638-AEF1939AEE58}"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42273299-FF7B-4E54-8ABF-E06EA5182A3C}"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33C00B1F-021D-4D6B-8367-E3537A962936}"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C3DF4F1A-1AE3-4A4C-A7A8-3B80DAA31A6E}"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CD7D486F-9964-478F-B34E-DBE0EF33870A}"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D7BAAD70-6A40-4F38-A185-5453FD57EAB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F18AE9D-CC52-46A7-972B-71C1104DF4B4}"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D770686D-D9D2-46DF-A673-135463D3AF7F}"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D96529AB-2AFF-4DDB-AC50-37C64F849BB4}"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E202754D-89A9-4D9F-A10F-41F21DC82AD7}"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FD2AEF86-6B7E-49C3-A77B-0AED3E572A30}"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878F7248-5927-4321-A8F8-95E7A9D530B1}"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54E36B08-8B9F-4218-8833-9C54C68A0326}"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D7B955A6-C2CD-4D89-A629-D459DAC9C331}"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528980BE-EE88-4CCC-A2E0-3921BEAC36D9}"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98DE2C53-07C2-433C-BCB5-C5E65D6AD694}"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4816EEC7-9A19-4891-86AD-52E12DDD223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EB849C7-FE6E-493D-910F-2C2C49C33C07}"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3A4F03F2-5F82-4216-8A94-713D77E08A81}"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3E7013C1-E88E-45B3-96DD-B013EF83E992}"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0D8FFF57-791F-454D-9BBB-B7BDC221B063}"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CFC4E703-97F7-46F3-9230-F5FB74A667C0}"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30851BE1-1C2E-483C-B8F6-F329F796B6E5}"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720E6B4F-052F-4981-88C0-BB74C6C086E3}"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351815D0-9391-4BED-9697-A4C92EDD0FBF}"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2FA7A182-528C-4E3A-BAEC-05C882A02A6D}"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D38E46DF-4441-494E-8246-DB1F5C0C0AA1}"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1519752F-B49B-43E2-A9FD-6A1E8E7237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DC42FFF-5438-4EE9-8D42-862B70CA94F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55E28D3-6CE8-4B93-BCD0-844021E07567}"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033D1A41-3F3A-442D-8E2C-50E5A0D60C26}"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61EDC459-B318-4644-B3E3-1D5934264905}"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D1535AAA-4B03-4AE2-8719-A3BB54549070}"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2497D98F-02A3-4713-950F-0FE5D9DA56BF}"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4D647C71-FC55-43A9-AB00-A1EF71E876C6}"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7E4E2D20-46B7-457F-9D18-C7B922508B1C}"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55E7AEC2-B340-4E2F-8D07-9301BE74A48B}"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3E1FC116-8E15-4032-A913-14E9F816676A}"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D431C38B-5CC9-447F-A4D9-8B3BB59E14A6}"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00B7777E-3195-43FC-B7B4-5D73E401FF3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7CC565FB-057D-4A59-9D3F-934C88F9DBA0}"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4BE14A69-28FF-4822-AB41-88BC9A7ED0BE}"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B5AA480D-90CD-49EA-BB02-5B6378CB4CB7}"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019DAEFE-192F-42DA-8B6B-2A7C9F1D7760}"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32C57A46-6DE7-45E4-9638-74FBA91ED463}"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150758DC-951F-4E4B-A31C-02D6AF2732DB}"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9DA1A258-2809-445B-AE71-4AF88A0E14CC}"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0951431C-3FB4-4660-A2BA-EE8E7D27D1D6}"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D69113E0-3F10-4553-8D7D-4A20B7B57990}"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1701E34E-AEA3-4B6C-9F07-0F8D5E840AA6}"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4DBB9E29-F546-4E2A-AB0E-DC4D1E4D7D4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E80B35D4-A1BB-4687-8078-9F66E491393F}"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495DA41C-B737-4A1B-A45B-06FD93C199A2}"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DA412FE0-FF14-43E8-8E7F-DD838E75F74D}"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F7E831E8-1F37-4CC1-9B1B-4B8136EDF419}"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AFC6E574-DC2A-4638-81B0-DBB90A61D1C7}"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99065501-1DFB-4DF5-8CB0-3CC6BAEC1D31}"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4F807219-CCCC-4652-A069-3FB72C04F569}"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E68E37D5-33AD-419A-AEAB-2A515F73A972}"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E4A0D8A5-E23D-4634-A0D0-CBF047ACB226}"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A22267C5-9272-4D14-B180-7BE1DA8F79B3}"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3EBFB1CB-A2E8-4741-8EE8-5A57944C57E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31B8C0C-D2C9-44D2-8566-40886E0634A4}"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DBEC21F5-6C16-4C12-9F96-02159D8510ED}"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AD9435D3-2101-4525-85B1-B543374854BE}"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F34A92DF-6DDA-4850-9BBC-94209AB96E4D}"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AA40EE6A-A049-4A18-94C1-25976BFAFBDA}"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A01A4D91-1B2F-4574-B8D4-1D931557E2DF}"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3F11E198-AD72-4A95-A1E3-2B63AA69B5A7}"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712C431A-AFCF-4EE2-B2B6-CFA371E105B7}"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8CAFBE65-B475-4CBF-9B60-D837AE40A112}"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BB49E68D-53FC-43A3-9A6D-3314658CA090}"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EDB1B23-500E-421C-83E3-D3BF3605A71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450A3DF-4260-4959-8EC4-4B4C81C84DB6}"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BCBF1D5-07EC-49E5-8E16-FF51D3F15FB7}"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B36F18B-5172-40F2-8167-9DEB43014C8B}"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119ED82C-E057-46D6-9789-E70041F69389}"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16D60DA2-6011-4DE1-824D-20EDCAB3D6AF}"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D7E7815F-19DC-40AF-88D8-753CF92B3CC3}"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9CCA81A0-EB27-487F-97B6-08732601F403}"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726D790E-B423-4C10-86F0-3181421360DC}"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E39CA9AD-6FC1-48F0-B80A-B26304787385}"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FF14D2C7-B61B-4212-B79E-C13BE9C6F1FD}"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F1D1CE74-8B8C-46BE-99C8-782B637CF53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4E69396-E2CA-45EF-B653-5C7B8193B802}"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1F16B12E-092F-47EE-B778-CCC3B3103E7D}"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1B55D39B-66A7-4701-9391-D4F72234A80B}"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EDC5E680-70DE-459E-B344-27FFCC22FB70}"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0FFC5F88-B9E1-4562-8ADA-CA3B893A1237}"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1FA70A18-0180-4FCB-9487-4F4E908F2128}"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10BB771C-07AB-41A1-819F-735DE0E6A4CD}"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F7B7E100-0D16-472B-9F64-56DC3ABD08F3}"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17BFDC2D-2072-4538-98A7-61E266AD264F}"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8AF426AC-8888-482B-BC15-985A849AA4F8}"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A9B93014-E050-4FA4-BDDA-A9F5720FABC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94A7469-E0E3-4EE5-A91A-20858029069D}"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520FDEC4-B59B-4D85-84A3-607643ABCE3C}"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2A0CE404-8575-4604-AC71-7209BC62DEA1}"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7908A631-B95C-46F8-B94A-69988465D616}"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A3EF2DE7-6745-4726-B1DA-3BAE13896295}"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3380CD2B-4365-411F-A04D-950472A0F1F7}"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CD7EB1B0-52C7-466E-BB62-62582C26F7E6}"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85ABC232-9D19-4F74-938C-6DD4C616AEB0}"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1DA7E05D-37BD-49E7-95B3-4278068DEF97}"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A2DF97FA-C9C0-49A5-9810-1B67B167AE3C}"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72814D64-217D-4FED-90D8-8ED2D0AC4D0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94EC7D04-F344-482C-8289-D9946C4962D1}"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8759F5E1-AA8F-4A58-923C-E1C0BC90E7CE}"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76542A48-0C45-4A60-BEDD-C352AA0AC76F}"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5C59ABC4-05A7-4B8F-9187-509B8A754512}"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14D62446-88F0-4ED1-BBB6-56387491531D}"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49D75D3A-2A4A-4CA1-8FA6-BBFAC689D56D}"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2C31A2EF-8F0C-4DF4-B722-7706DD566EC1}"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300DF3D6-5E22-429A-9D5C-6DA7A5D87247}"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6791DC55-CE80-4B52-8C2E-376E33749232}"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D2BBE708-EFEF-46A1-B770-B906900E50CB}"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DD58BF4F-21E1-408A-A302-CE57096BD5E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DDEA0565-BD19-4D33-97D4-70CEA843F07B}"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3A13EA54-7903-4108-86D1-2BCEF9FB2E4D}"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7B012396-AF92-4BB3-BE95-F0A5E4600EEB}"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FAEEA9B6-CBAC-4DFA-9018-76A9A92A068A}"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7D59B1BB-BBA2-42F0-9BA4-3499AD3711E7}"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0A31E5A6-F609-4298-8340-C2BF91056BA6}"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C4FB9BAD-4F24-4B67-8F72-91BAF98DD20E}"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886A072F-F377-4DEB-AE22-881CD2EAC938}"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73D5318C-C17E-4B1E-94A6-92D734526B71}"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DEE3D188-6C7D-488B-B450-381FB5ECA439}"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D801FB34-A4CA-4175-A9AA-637718BCF5B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E4BE883-FF56-46B4-8517-263C1A8041ED}"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04AA53AC-66FD-439F-B0E7-38943C0F8AD2}"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965F2B88-9116-47B4-8D40-500993B475D6}"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6437C11C-DDDE-4EC9-A3D5-5AA829BF7014}"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872E1D70-3582-4781-BA3D-E92A94FEBA35}"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75B38F6A-041B-4772-B9B6-A5CDFB0CECD5}"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179FBCFA-4338-4E56-BC37-E92DECED08AD}"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D97464C9-8295-4A76-825E-670B8DE22CDE}"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3D02721F-910E-4A48-80C1-7E47D175E9A8}"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136ED314-25BB-487A-9CED-029A29B8FC39}"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065706F7-6CBC-4770-B9AB-9098BC47CE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9DED8703-FD33-4E8E-B2B6-6E04FE690AE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3838C05-F175-4B6F-8EF5-4DF309A103CB}"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51DED555-C505-4D16-8FC1-AD3B0405F050}"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B9B0E643-FAED-46BA-969B-4C7CF38F2BE9}"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13895479-CD4D-425B-AAC8-3848BA8054D4}"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F65117A2-E058-47B8-A2B3-63082BE15F32}"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F1324521-EC55-4983-B318-DBA2CC9C2781}"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94637CC8-092D-4203-BC58-986F595A6F1D}"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9D6D701E-2FA4-4678-875C-B374A7800A90}"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33E1AAD7-BC0A-4C60-A8CB-0494239A9CDC}"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3170429A-A3C8-4D4C-BE3D-21009FAF4465}"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530F1C13-882E-44B7-BC22-F7C6D8F54CF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FEAD49A-31ED-4679-A364-2DA20BF06B02}"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749CD653-F250-4080-834F-230317D2F045}"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4438EB6A-4493-41A5-B148-6FC182A05B97}"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940BA963-DFA3-4F0D-BE79-5453BA28BE07}"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89D52FF5-3718-431C-B449-6C252B503801}"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64AADB34-5F6C-45D5-B7E4-78259D8EF375}"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5CAAA21A-A940-4A83-AB71-B363B8CC659A}"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B8E23680-A656-456E-A212-6BFA9605AACA}"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02E21792-C7D3-4E3A-8DDD-739E783C135C}"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4E0C76B5-B727-4748-BF6B-DC97A8F69555}"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7A0988F3-B38E-4978-BC5B-6F6D4FD490E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3068C0E-E1E8-47C0-90D6-B409102D3C8F}"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99BC2900-11CE-4607-949C-0D8EC866AFB0}"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0488F97B-00D1-423A-AAAF-53922AF918DE}"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B86D3B52-3BFD-4685-94C0-B616DE0B33A4}"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E0249160-F659-48BB-B07D-9F691B11CD18}"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B387198E-1EE6-4083-BFF3-A525EF759F4F}"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04D38290-2B21-463C-9049-31F4D84F9341}"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FD6BDEDF-A25D-4CA8-B1E1-086BF3F0015F}"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66B2FF68-7C21-4835-AF94-54E025D518F4}"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6D829233-9FEF-4025-B100-419419715307}"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6DF45DCA-B055-4064-9BA7-7E9034DA18A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DC7D102D-9C37-4800-AE18-8A0AC11283D1}"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0F4766DD-29E0-40A9-8860-89A57113E600}"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9B6AF9FF-7078-4A07-BDAA-91D74D22D0FB}"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0A1EF4A7-A762-432C-AEE4-6C02AB1806C0}"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43B9F690-0020-4DBC-B118-FA0EA153E5BD}"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8DB04C97-5A9A-4C8D-A887-80616241390B}"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7EE317FE-FB93-40B4-B573-F862C0AFC60A}"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AE21C3FA-1EE8-4512-8132-83CD43FB3075}"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E02245CD-3169-44B8-BA6C-A04CC27A6353}"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E0E35931-938D-4F56-9E19-BFE31BDBF39B}"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226A45AB-037E-44F8-9A38-A5CB3A54A8F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9DD895FF-9682-4BEE-BFD6-C37B65D1AFF9}"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5B79B423-9D79-4B91-899A-94045507A6BC}"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29D8300C-141E-47E8-9B59-54ABD5914B2A}"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E5C2D943-D656-4340-9009-77BB092A386E}"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2742F26B-26BD-44CE-B34B-89BE576E906D}"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ADB9519A-7444-4104-BEB3-92EA7BFBE5BE}"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B6482988-9725-4B06-A96F-04164481B139}"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FEB5F39C-1644-40AE-ADF8-22540C67255D}"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9BDEEBA5-E4A0-4588-A5BB-932EA2EEF84C}"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EC0B65F0-FFED-45FA-8EA7-B27105E381E1}"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718F2F33-506C-410B-AE3D-5C4D9E8CD4F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72CD9D8-07D8-41C3-B9EF-53F1C513B3F4}"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F1BB74FA-8265-4967-99A3-0006C04F7B59}"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EAE904C0-759F-4EE2-940D-36A6BC0720AE}"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E162D0EC-9609-49E9-8FCE-82B2DB0DE128}"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F934F078-ABB5-468E-9CFA-39F1147C914E}"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9BD4276B-6BDB-46F4-9AED-BD912771267C}"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0E9C8EE2-FE8C-4ADA-BD30-54CD2B58AC57}"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0DA4B6EC-9A52-4032-91D2-0CFCAE48747E}"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19C48C32-0CBC-4739-8562-A2724574A1F2}"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41B9B075-1540-46D3-868A-F4F8D16D8C96}"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16365B7E-1FB2-415C-9588-C426101D31E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FF82F5C-FF5C-4982-A10D-16E97016C149}"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8D5E3479-4592-4FD0-9095-37713C09096A}"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53641EE0-E068-4E4A-87E2-02443B32C3D7}"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C2D2B466-C562-4050-B7EE-14EBB268169B}"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C8BA5EE9-6539-48D0-93BE-E9B0E0D30D35}"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E236B45F-65F2-4F9B-9F5C-3EBEBFA61E8C}"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39ED5D0E-9D7B-4873-916A-7E58D6463FAD}"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511A3C1F-7689-4933-90A5-352FD923B703}"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32C259CC-B46F-483D-A48C-EAD4EE6A8526}"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BFB33258-E589-4FE1-B19E-AB1F1B5EB424}"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48FB4C5B-0392-4997-A767-D378266B79C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4F44515-0871-4202-9BEE-0F7C2BF81BCF}"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E0652E38-E4CC-4B4B-A686-8ED0E165E0B0}"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5F45EDF8-2146-4DD4-8509-7C056BBFEAA0}"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9E5DFCCD-DCC7-43FB-8F0E-844493D3C008}"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159A697D-A9F3-488C-A919-588909BD2390}"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9FB1B08D-178C-41B3-9FC4-7F2CE689CF79}"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F68C388D-8ED6-44B6-9CC4-4C5F07FB8A70}"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0B1DA16A-782E-4156-B6F8-823A019BC86F}"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1ADCB0D5-612B-4311-828C-71E03492BBCE}"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545DBDE8-E3A0-411A-9B21-8D611C8FB1E0}"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C85B204D-78D3-48FB-BA4E-79198EFA6BB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0212632-2F34-41E3-90FD-98F9886B5FF3}"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20CFABE0-262A-476B-9263-B827BC20350F}"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3AD29CB9-A69A-4E17-9EB3-006F2D3264B4}"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D0DC9B70-9F5B-4576-AB4A-C738CA6C2B88}"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F3598ACB-4FA6-4CFC-A7E0-33D86C213305}"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9DD5C693-2A0A-4E8D-9736-83ADEFF72A8D}"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1CE3704F-F570-4A43-A3B9-8206D35ABFEA}"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5A93012F-2650-49C2-8EBB-E718A24243C0}"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BECE3EE8-75E0-42ED-B5E1-CB405238CDD2}"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15A7E4E1-327A-4F22-B410-FB436ECD0A50}"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AE8CC816-25B2-49FE-8D43-5CB0091F3CE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87CCCD94-2073-4E41-ADC8-F16FAE13497B}"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689DA78B-FDCA-4ABB-9267-A57AAF0F21CA}"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60A7E366-E33D-4EE5-9D56-A69A4BDDEB40}"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471C1A42-DC7E-4EF0-8CD3-13BA22E3FC86}"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1FAF5E9C-75AA-48A8-A074-AEC8E7C3B18C}"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1F35A4E6-F8D3-4A94-8909-FB2AFE6433FD}"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0ED61A66-D5BB-4AF8-B1CF-77B95E58D014}"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02AABD94-4F8B-443E-99D1-2795977FAEE7}"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62B1CAF9-1EAA-4C8A-BD97-FBE3F0F90CAF}"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4AE112C4-97AA-4EB1-BF99-89966A77E163}"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2A1D8F4A-A4A4-4E44-BA76-1ACA6CA38D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03F252E-F57C-4A27-9F03-1B33B3D9B15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1AD87BAB-99D3-4A95-B8AC-826C4249A86D}"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54DFFB40-DD63-4C3A-9BE3-3E43DBFDFB94}"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E6BA3DB6-880A-4B5B-B326-33CFF9AE84C8}"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F6196EEB-9738-44F1-9380-17466CDF58AE}"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AA2EA17E-70F6-4685-9919-B25A58208CFF}"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04A0ECD7-8CB4-45CC-8402-BEE49530C595}"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82121D62-D1F7-4F38-918D-2F15D687DF81}"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139E2125-97D7-41A6-A813-655D9E5EC4B3}"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B6130359-6291-49EB-9473-E61FC764E51B}"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0213B868-1A32-41D3-8ED6-9B2B1CE97330}"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5E4F1055-178B-4ADD-9E55-ADC4AD1DB4C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9179C2C-6CD9-45A2-B23D-0CA52AA9327E}"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87EAB0D5-D623-48CB-A00E-7B807F9176C2}"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FC52A675-0706-43DD-924A-1838C07D367C}"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6C91D723-E1A8-49B2-8A49-C8F821D36ABA}"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4BDE5022-336D-4A4A-B13A-52C52424D5E7}"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127F4DEB-4D4E-4239-91D8-53FED172AC49}"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1C72C588-A37E-4D38-8DA1-72F2F290CCB2}"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3FD7BB17-4BAD-4F8B-BB43-C3D139C54339}"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CA17CA71-E1DA-4BC8-AE99-A36E15FAA58A}"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341DD74F-44B6-478E-AA63-30E07E5F426D}"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79448F20-5A81-406B-9340-BA9407442DC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B5E9A7B-23CF-4EE6-AD98-D90361E80E3F}"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56F8527B-9424-4FEB-A4FA-02C57081D40B}"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5245BFBD-3380-44BE-A7B0-70C9185C81A5}"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41D4FCD2-597A-4A3D-A0F4-0F47E29645A5}"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E9867AF5-22F2-4069-9EA2-43DFCFCADA82}"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7019E3FE-1B92-4ADB-BA8F-80731CB134C7}"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666536FB-9537-4E1B-A3BE-ABC9056F7ED8}"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3CD3A443-7617-4D4B-BE7B-440657BF586A}"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97F26231-CB5C-4EAE-BF54-E0CD6DC003D9}"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D095D9E3-13AF-4AE9-B663-FC51EA56AF4E}"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D68ECA7F-71E1-4DB1-95AC-348BE4F4C82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AE8CE54-F102-4089-A82B-23880B8A698D}"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9C497CC4-4DF8-47A1-B891-496AC8A0398A}"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CB9BE84E-06AE-48E5-8C6E-D7E5BEFA4D5F}"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6BF08EFC-295E-4519-9C91-24BC9FA91D89}"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D1FA16D5-842A-4621-B8D9-B42EBF8DD677}"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D40467E9-A864-49D9-A37D-905A1FD32B86}"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70A4E979-D561-4C5F-A97E-AA37825CF841}"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60164759-3E1D-42EF-A3E3-E33B6966D54C}"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91358F2F-1CD6-44A0-82C0-89A2ED0A62C1}"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613BFF11-03B1-4A83-A96C-2F3D599E2A63}"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696B3EE7-5762-4129-A20C-605F64C7F60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A77F6A3-5E27-42CA-AA8C-649CCCDD753E}"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19E6178A-5838-4DBA-B81C-08DEB37A3356}"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965960BD-9668-41CB-B1F6-CB15F802BF90}"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716E4FF7-415B-4B82-B064-F4EA3820F065}"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D4EB550A-A31F-4D15-85FB-69A25804A164}"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35D84054-F171-4C0F-AB7A-0F1F6FE83C02}"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1B572198-3120-4205-87AF-C21BE1D050DB}"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AAF76EF8-EAD1-4A21-AC19-72AA601532C7}"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9813172F-34FA-4704-9B62-C3EA3254913C}"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30EC7CEB-6C53-4B0D-9183-51675EF96CAA}"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5FCD0740-0E7F-4A35-B239-8D8C2E34BAD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E16DD415-17FA-43B4-B8B2-9DF5BF09B1C2}"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E7EB1138-68DF-4BF3-B510-E5ACA7BAE389}"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81148BCF-D701-4698-ABC2-891802ED4C75}"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740D848A-44FE-46A9-B33B-E2B53BB5CFE8}"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3D3D1A78-C37B-4918-ABCA-532AF7AC2139}"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A1F1465F-EA03-4EBE-AE42-7CC8334FA324}"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4EDD318C-6135-433F-99BA-CA4789110919}"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9E1F9700-CF77-4BC0-9D75-600D3D3E0816}"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016E71A1-EB94-455D-B059-DBDEFB16DEA1}"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840474D0-F74A-4038-A59A-C4E541098CEE}"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DE31BEE6-0A55-4735-9354-EE91495FD75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D6CD4693-BEF2-4F59-B8AB-D14F5001BDE2}"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724E5BD2-D96C-48CC-897B-02ACC726F5F8}"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03682C27-B0C4-48D3-B639-99D868463CE2}"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652722AD-6550-4CE3-B0F8-4B296677BB3C}"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879E22ED-17AA-4412-94F5-A7978DAF3B11}"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73BFE2C4-33C8-4525-846C-7F4817EE0693}"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F1654EBF-4DA9-49B5-8E39-8D7B18D46021}"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AC5971CB-AC65-4F0C-9BE4-76225AB5233B}"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7071121F-8BC7-4A5F-AF1E-D440104539E5}"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0AA378ED-A7FB-4D10-B1DA-6CBF57BB676A}"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A22ED24D-3A6E-4F98-83F1-3D1594E12B1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E30408E-1FE1-4C1C-84D2-5CA8125350DE}"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EBFDE55E-955F-40D2-9029-AFF97D427341}"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BA25F5AC-D2AB-46C4-A693-16A476C5FFED}"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6FA9A788-B0F4-4095-A204-578A0C2CD2AB}"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7B0AB365-2CB0-4EE1-B7B6-99DCAA84B04B}"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6C4353E5-2C49-4B48-8A1B-6D7EBE694902}"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7273B469-F409-4065-91D9-9FA164033DC3}"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BF304B64-5AF9-4F0F-9140-534875A6BDCC}"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EA1EBCD6-8484-4AFF-A8BD-2FCC6FC0CF59}"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40B3D688-0937-43A8-B735-79DF5F2232D5}"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C81E72C5-F8BC-4DEC-8DC7-E742A08D167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3349A48-9410-41C7-8CF9-755A8D03F8F6}"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DC011B43-8314-4B02-93C8-A914D73C4044}"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A24A502A-8175-4F65-BDCE-DC8BCB29C7F0}"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BB0E8508-A5FC-43DD-ADF7-BF744BF0B79D}"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12359C26-BBD9-41AD-9C78-855DBCF7CAA1}"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F4555FD8-B4C6-49E4-906E-9CB352687A18}"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21A80D8C-C476-4F38-9488-8F1BFC4A6CAF}"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9C1363B1-84DC-474C-A347-673D4414ED4A}"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FD1141D0-8DB6-4822-A0F5-EFD0F8182860}"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ADAABE56-412D-4708-9A8D-9DB3FFD71FC7}"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1ECFD701-71A6-4535-BC50-F13E0D3E566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3048913-B292-4E1A-838A-123A68E2CC77}"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6475E2E6-DAD6-4A10-BB53-E5A76681076C}"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5BCCDB96-8328-4CD4-AA2A-845352C6DDCC}"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F3CEEF67-6028-4A1A-9621-8C6381355217}"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46C6410D-5A41-4550-AB29-A5103FF16E1B}"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7A5B5BCB-CB39-4EDF-8EF9-8F9FC0825A48}"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DE875D76-1C14-40A3-89C1-64E5B7DD8CD5}"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0342BE27-06E2-4359-936C-FCA48BBC487E}"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AF3173FD-1911-43FF-85D4-80B240F724E0}"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D3758C52-A2E2-40AB-B21A-88ED7D828DF7}"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C40A4291-54A5-4C9D-BA24-C4D72F7015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B2793FB-B782-4455-A76B-20FCAD2302E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2E6CF939-7DCC-4350-A486-A4B6460DD6C6}"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04A89AFF-E350-4667-ACD6-463617A3D7BC}"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8743B6F9-8D7E-441E-9436-B711946E10BC}"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FCD5EAC1-0646-4786-9F96-7AF791EB68B6}"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81E1B386-17D0-4C8B-BC1F-8C93C8E7CF13}"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808985E3-199F-4EB7-A738-F58897EA85B1}"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EC59615A-6735-486F-A2E3-FEA714CFE301}"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B9746880-D4E6-4C5A-AEE7-3A3E3BF8C8F9}"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D91C951D-5AE9-4222-8C4B-0D63C549BDE5}"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00162B4F-4904-47AF-B7BE-E3463A5A229B}"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550CC5A7-BBE4-49F6-B0CF-09CDABF8FD9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F237E09A-5733-4DA6-908B-260C473DB65E}"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D1DA69D4-3F35-4D65-A981-8EDEB9DA4672}"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9B07CB9D-DD49-4D46-B4A0-8581BEC02EBF}"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CE8692D0-A6C2-4EC3-B743-EA21EA96610E}"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E081A548-3FDD-4C59-9A14-133C68B16930}"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0BD032E2-AA8E-40B1-B189-A8329804E5B6}"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4342DF0F-28B6-4758-AD93-D359F25C757D}"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88D0F1AB-8D49-43EB-A83C-7259BD52C97D}"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1BA996F7-466A-48A6-970C-1F89688A8811}"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37757D65-390C-4321-966A-49D6B9E1E82F}"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BC7B9E03-89EE-45AE-8368-2C2F6965010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79E38F8C-D4E7-45D2-8AAE-69552001B6C0}"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A161AE13-B6A9-4F09-971E-4BD54493AA07}"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79773ACB-7BFE-470D-9B2F-6E0954579750}"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435FA9BB-C46B-4FA2-A43B-FFDCB6D41DBC}"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27422098-23E2-48B9-B386-1784DC5AA31B}"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3A247830-5DB4-418B-ACE4-31D26EE7B9C8}"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361A4B5C-698A-499C-9BD4-4214A64E3F62}"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826EDD29-175B-48D7-819D-414BBA1DD857}"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049CB2B6-B92C-4C5A-AB5C-C88AE0CE918C}"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77B49B6A-2DCF-46E6-8BA7-7FA60A61D295}"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1A1A8265-888C-45EB-A6F2-ED906B3E760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6A7359A-7E14-400E-A307-064FA9987D73}"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607F25C2-72B7-4FAF-BB3B-D352AD6A461A}"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3874BF4E-5448-4792-9805-430EDEA98DF6}"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86721398-98A2-4B73-A11B-31F94E797DBC}"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A840C524-C98A-45EB-B266-13E1399CFFB2}"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2F13DC8E-1D03-4947-9642-F4DBAC72B884}"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136B7CE8-F1B6-47FD-83B9-4DE8FD14F63E}"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25E5DF61-FD3B-4EB7-AEAE-28C36F743CAB}"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80710EC6-DCA1-4895-9F46-8920893906F2}"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62390DC6-32DD-44E3-B108-655D6E9819CF}"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8F25DE38-64D8-45BE-9041-4A25B27638C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134C58C-F0E0-437C-A882-C955EE59C5F3}"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3470427A-C4A0-4D34-B487-8E02ACA5FAE3}"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811A685F-0E4E-4AFA-B5B2-BBFCD95556FA}"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7842514F-9F16-43A8-86D6-2F072765E233}"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31B04A3A-327D-4DFA-9C24-245E0E0EDE4F}"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15FCECD4-E8E3-43AA-8496-F0630E94A418}"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5A5A9797-F2B8-4B55-AF6C-A6DC6A88A162}"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C7DE4182-10FC-46FA-9F0D-973F101C05A3}"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525AE6E6-6D31-4482-935A-13A9FAF5ADCC}"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07A99615-F6C2-438E-ACBB-2156D4D61AD3}"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72E92CF3-F548-4FC3-90AF-C3F7FA46BA6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D307A6A-7A88-4478-8A18-4BEA2E1C9585}"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F13EFEE6-1367-48EE-8FD3-1E21E7D79A35}"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E1A6F293-3C3C-460C-8478-401C7B121134}"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41FE341F-EF3B-45E6-8EB4-0543F9B66610}"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0711DD06-6163-47CB-B207-26B701C55792}"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11D5AE1D-904E-491E-94C3-B18BECE50ABB}"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88C78E2E-5F84-4DD1-9687-97F76509A23A}"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2E82C509-2D73-475A-B9D1-69C93044A608}"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BD4D3EC8-D86D-4AB7-82F9-6D5A1B127116}"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B21A3F0D-58EE-42FC-A940-D1698D648BA8}"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0EC6E58C-C0A4-463F-BDD6-167635FA1C0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8B418502-DE44-439D-814D-1570FA02E9BF}"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8B3E045F-7B95-4B47-BADB-6728FA9D5E61}"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1117D356-DE86-4746-923F-6E593043D2B6}"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1900451B-2770-4092-9653-AB54FC35CD89}"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EE2DD5CE-B835-4810-83C7-9A9BC27BBDAD}"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A86751FD-CF1D-4AF3-8FE6-85755CC383ED}"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EA6FE0A1-9AF0-46A0-A293-3B5408067A38}"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02D17053-49B4-44BC-A44C-5570F7C3180A}"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8F77A558-AD29-4394-BD1C-5CC8A6C012BB}"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5D6648B5-EEDE-4E4C-AC05-94480E341CE2}"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31E3EC09-7F0D-457B-B8C0-DACA5AF4955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A14692DB-CB1E-4856-807F-2345480D576C}"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753730EB-82F3-4571-AB14-E5199A885DC7}"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F0CCC5A2-99E1-4E0B-A1BB-4D5427895A6D}"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03A5F9EE-0BEE-4B41-8F99-F5AB4A6653B7}"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9780913D-57A4-4332-BB27-BEC7BC6B5A1B}"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7F08928B-CA30-48B3-814C-875DEAE4DEDB}"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74B4154B-B902-41DD-B612-0C95002C2CFD}"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A360B4A0-BEF8-43F5-8C8D-F67C3A0947C3}"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903AE3DE-EBF0-4741-AE72-56DA8B83F9D6}"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7EC00EF0-C55E-428C-8137-9887EC3A9B5D}"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1199FCA8-4B75-480D-ADB9-058BF9D25C3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CDA95444-FBAF-4045-8370-0BF0226A0AEA}"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0464CEDD-ACD7-4AED-882E-30DC76F87E0C}"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46055085-C9D5-43CF-AD6A-AFA195CB1F4C}"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ABCCCFCD-393B-47E8-9173-53D87449246F}"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F8212C2E-6683-4CD2-9A3A-E13310B7499C}"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991BBFB8-5BF4-4508-B67A-2F1CB0142B46}"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0D85476A-F6E4-424A-8938-ACFFDCB3E92E}"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682EFD60-D56D-4558-875E-D790C53A382C}"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90E0D168-6B4F-49B8-8F02-6FED17627AE0}"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5EF027E0-8B4B-4599-AF15-B30AF4100D49}"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944BD073-25DD-49B0-8982-B6E363528CB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5A90FD8-573D-48F8-8D5E-1C10FD742442}"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8F5B4B08-D1CE-4898-B1F7-7D1579C94173}"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1CD47092-2DDD-4C0A-B143-7EE034697DE2}"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FB6B31A5-1C9F-4411-B5D1-1A8517BDF83B}"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568EC4B1-63E4-4A49-98B7-A6C1CE8D9C3C}"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E795E85A-4B58-4FF4-81C0-525681091B90}"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CA43ACD1-B2F0-4F99-A188-899AD1BB20AC}"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7822C231-16F6-4269-8865-EED82DCACD17}"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A9DE6CC4-EA90-4591-990E-0F17E428F6CC}"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AF041D95-79ED-4705-9FA6-9CF9B1C27345}"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D1066A4A-CDA4-48BB-8EF5-13704CEEB5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6737A12-073B-4C63-AB5F-218750A79AB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AD87104-4ABF-4931-9559-32466AC94F21}"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F608E45A-1310-4CB7-9684-587AAD90B4B8}"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37A6F75D-68DA-46EC-B9BF-4D04E6AD7E00}"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ADC0B218-D8F0-4816-9A6C-CCA212D52DBD}"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67F117FF-F4CD-45F2-BBFD-9EC4738C6787}"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114A63F8-E47B-401A-9E7D-8C5AC26FBC23}"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76C6B7C3-AE2A-4DC9-8CF4-B8FA84235B20}"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731901EF-3E68-4679-B1E3-5F923C5BEE96}"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C99C1E17-8699-4577-A504-799F1EE11551}"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B8F8F627-93B1-4132-9E88-B61800E8E3DA}"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EE4B00C2-A6CF-4B09-B00A-264AD7771DE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E8BB78D-3780-4B77-9493-19042B71A312}"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43895377-DA24-4725-8C9A-C06F9A75BC13}"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8D479962-D500-4F9D-BC6A-10EBE3DEB1A0}"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C6943437-27CB-4AAC-ACCC-E1C63DB5B377}"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3AE696CA-DB65-4CFA-91EA-6833A50BD072}"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63A61BCA-2DC9-4564-84C9-0F3E36D744A1}"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963C2E2D-1546-4D90-A0B8-FE5B83050872}"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73523A84-65A0-443E-8FE5-E14456411913}"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4A8B038E-4098-4CAF-B821-A362F577ACDB}"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50D284DC-1B0F-485C-862A-81AE6B9C3763}"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099BF9CA-CD3B-46CD-BB29-B8BC2D2056A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3905A08-BE18-44B6-9891-C4618EBEF126}"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D8A06342-4E15-475E-92B8-2A1EF50CF175}"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D2B6220E-1175-48D4-BC0D-EA87126E5415}"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FDCDFC65-83E9-4943-8A6C-F447293BD4F6}"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0EFEEBCE-F5F4-4045-A7EF-C72475E32CEE}"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05C35703-0FC0-4BC7-8668-D9D712B72345}"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39AD02F0-02C6-4A8C-8123-5DF29DC954D4}"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08F17425-C9F6-4A8D-A02E-C96F0F3E3AAE}"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0736F8FC-A703-4676-8E35-ECF3BB954F02}"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6C2CE50E-3737-4419-A7D8-7C1702D784B5}"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0AC56AE8-A66E-4535-B695-8E3A3CB4892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6879B7D4-001D-47AC-9E18-7729909B95BA}"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7E6CDF88-947A-4E95-8D6A-EF3895666067}"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C9811F7D-FB1C-4375-A84A-F77AB13ADB5B}"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7CA6D9A5-F87D-4201-9589-D2B65E23F85D}"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189D4A95-60B4-401B-825E-26F4027D70BE}"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BE4A49A9-DE2A-461F-B04E-AC877F5E3528}"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884D8FA0-A644-4B94-A576-046B28EB86EE}"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63673160-983A-4D87-ABD7-6F0432C841E8}"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E0F53B62-7421-488F-8DC7-940C0C81BBF4}"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7FBC5FEF-D33D-497D-8B74-B89C61880DAA}"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3F56D75A-7C72-4079-BBD2-A5F15F2010B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8AF5F4D4-F399-441B-9F55-1814E2097DEA}"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C0A682FF-6CB2-41A7-AFC1-F6D386D0E926}"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A0A59613-6F6E-4644-AB81-BFE98FEF4AA8}"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02198FF3-E0EA-4A6B-A9BC-3432A3537B0F}"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EDA98CFE-4B78-42EA-84FD-96FEF7694EC1}"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641CD7BF-975C-41D5-BF0F-FE924DEFF2C9}"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8355D971-BD35-4193-A25C-05F0481E3A95}"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0C019C4C-844D-49CA-9A4E-CC4F5E1525B0}"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64163B77-3547-4618-84A1-5445E44FDCB4}"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CDC6A07B-4551-4022-890A-C12B2B30C7C0}"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102B6B2C-144A-4D06-88BB-F428EEEA833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D650F2C-307E-4BDF-AEA0-57C975DF6D9A}"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1D75FF1E-E8C4-413A-9C89-1A2F52A9026B}"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1EC6FCC0-8F9C-43AD-A927-8C38CE6893A1}"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103941AC-8F86-429D-B923-C322C2F693BF}"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252334E2-1A7D-40B8-97B0-AE41ABEB1D5F}"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5E8B643A-8EDA-4286-AD10-9056FA37D6DA}"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35F3D06A-BA99-4D5B-BB21-F5D73E177C8B}"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4E9B7AAD-874B-4C94-A238-81EE40C97E8C}"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6C893BB4-BF4F-4A47-AB69-4621AE9DF6F8}"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F94932AB-C6EB-4CE5-A69B-47DAF86B164D}"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4940DC24-E513-44DC-9CDA-FB315089CEB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24AAEDC0-0821-4306-8AC6-0C4B217895DD}"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822E815C-103F-49AE-891E-B230AA60CEE7}"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5020FABD-1041-4E53-B94B-4D5D3F8F4156}"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3045FFD2-EB45-48C2-85FA-92DCA9F2850E}"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5CE5D6D1-E51C-4787-A4C6-062C01CAABBF}"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BFCF96AD-7BA7-4603-9FB6-21F9D23829FD}"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13D8CA2E-5BBA-40E0-95C0-6F88D22B7741}"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67416332-AAC3-4B0E-A6B8-6FB503F02B1A}"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5EEF92A5-0BD2-4C45-8F10-DDEA3F80E97A}"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46CE350A-2689-4884-A655-048BBF8AC873}"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14E5CD50-549B-444D-8ADE-80F6B56D001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7FDE991-DB85-4D40-9800-92FDD9798017}"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0ECFE26B-2EFC-4222-AADA-1F3B4BEBEAB0}"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78172F1E-77A7-485C-B9D3-AD21BF6023B5}"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8F2DEC7F-0B51-464B-BB57-AF49442F3A35}"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5336F50B-1DFD-4112-AFC2-F47E8C7E52D2}"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6E7EB6EA-71C7-4DB7-9540-C20E0C7E5713}"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7C4E1BBF-453D-4E79-86AB-A5DDAF718651}"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0139CE8E-EC3E-49AC-8A21-F8AB4E7E1348}"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D65F4C3F-7AB3-4F97-B2C3-3D47ADF4E4B6}"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A86B667C-3147-42B7-AE51-8876B6FB0744}"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384547CC-1BEF-4F89-B8A0-111DA560805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B20498A-B04B-408A-AC6D-D10AB2A5B896}"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9FCA8781-864F-4244-8E5D-F069CBCE7060}"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A4D8005A-27F9-46FC-A49D-1D39422C46A6}"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D67D3A94-0E56-47EF-A7E8-E4A231341394}"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7DF6DCE7-6711-49CF-8331-1FC31A5ADFF8}"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5E0C8598-4A6A-4FE7-A847-B9922AC75677}"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F79BE304-6764-4FE4-9332-54252F2578AF}"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27AEA2FE-B223-4EBA-86D0-28C0411838D8}"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D1886126-478B-405F-91AA-93A46CB71F49}"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18EAA22A-BEFC-49E8-A821-17C4533A7C87}"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AF75B2D8-3A68-4C4A-BED8-D61218D3917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6CC90515-6571-44ED-8CFC-9A3CAA2B4591}"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A84A9AE4-B6A4-4905-B3C5-A2DFAA49A0DA}"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D5D71348-EE2A-4947-B0EF-2DCB8AB21218}"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A35736E1-7A27-47A6-81EA-C3BF2FB1EC15}"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72CCF3C9-D0D7-4DFA-ABF3-BEE01BF6F2CA}"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4E5E4D9F-7D88-4F31-8CD8-ABC77C816CAA}"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807DB747-8E8B-4E73-BAFE-F4638EA3680E}"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6791FCDD-8E9E-4E00-B1AC-4670C3D53FA8}"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847A2D71-C68A-4352-9342-D3602F7DA566}"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B074326E-0FFB-4ABD-992C-9C7C403D10EA}"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1C64019D-7340-4620-B4A9-3B5B93A918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5F88D30-3D63-406D-A8DD-755FB66CBE8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CAC7F381-FD5D-444D-AEEF-F0A0809BF341}"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AB90A29E-600D-4560-A4CE-C74EF0DDF399}"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9A10736C-2775-4D5F-81D0-3A6A33AEB356}"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8A1B20B2-2470-4F17-ABFC-016DC7FC963E}"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6BA9581A-34F1-40BA-9D64-87A9E18204EA}"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25983434-B063-4296-AC40-514BBD3C14CB}"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93A439FE-50CC-4AEF-A0E4-FE0406C87471}"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19F3863C-CE96-483A-92F3-EB514E87ABAD}"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F57F0339-721E-4A6B-A554-1F0CFF311F24}"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86F348F9-CD64-4A5A-9F27-1FA47F282840}"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F52AB336-7F2F-48F7-AC8B-7CF838B08A2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70DC7E7-81E6-4170-BD0B-7CF69D41BC12}"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2ECC4667-D54E-42B8-9EF0-788FF0520F45}"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B54C581F-DCF3-4AE2-AA8A-7AAE36DFB11A}"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91287FA8-CAEA-4649-935C-BE55532C3070}"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CF12CFAC-D39A-420E-9097-6D41FA621447}"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D5781610-D359-4317-B05D-26410EFAF1C2}"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607F6EF7-80CB-4C5E-AD48-39D67DDBBD6F}"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226A55F9-EA89-4DD5-9CCD-FD12A64ED5A5}"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8E5B5820-610C-4ADE-95A6-37DA7765A9E3}"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0C303894-758E-4594-A199-301FF831D278}"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DC79A424-C850-4D7B-93E4-A229E243CA8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788C424-3081-4DF9-8464-FEF010ADA488}"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FCBC3B23-4B07-42DC-B045-2EA6E5799E7D}"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36EEF6D7-F1E0-4452-A274-DD9725B49A66}"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012B6439-042D-497A-946F-FAC161B877F3}"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7AED37D8-63F2-43D6-80F9-6B3510B8F5C0}"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8ED40D8B-E3A7-454E-8205-9F2DCAA8B366}"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4E1AE7CB-A2EC-4954-B481-3F24840057FC}"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38BAEBDB-160E-4AD8-A19D-4D738B2CA221}"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07E8BB82-917A-4B13-8FBF-CFE8FF8D21FF}"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E3D4ED72-BFE5-4528-9973-3ABB3D5F7127}"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8BB4BB49-40C9-41DB-9D2F-DBFD2DFC0D6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DA1D8F7-E302-472A-AAC6-0B45B797F254}"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6DEF6126-C966-40CB-80BF-F4A679C9795A}"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452BCC10-A499-4C02-A758-6DEC182948A6}"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6D2B457E-9486-43B8-B0A3-6E9EA739F4EF}"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B7F340B8-A5AD-4683-841D-33FF1DEE41BC}"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6436BF3F-E212-4EA9-9E28-3B0209A49E38}"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1DED983F-B5DF-46FE-9D4D-7B80DE7C0E6C}"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70FD2C1A-30CA-4BC9-8F18-0349347FD80C}"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82871EF6-CE5E-4BA1-8CC3-D6EFF7642A2D}"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32CA8932-0A62-4AD0-8EBC-000EC7586ABE}"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A7305C8D-42D6-4FE9-B3B8-6AF1998FCA6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AE6FE25-A01F-4DF2-9CC6-71F9D80880EA}"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84EEBB36-77C1-4B8C-BCE2-97397FD8ECE1}"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E1F02571-8A35-4F77-AD71-2112387A66E0}"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60749150-C1BB-438B-BC4D-68FAB5C530CF}"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0E197C7E-0EE8-45F1-9779-376D66A05BAE}"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9B1F466E-7E8B-4110-A020-83D0D56C3C22}"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76A08DA5-DC44-40D3-A856-E75A9FA96DD8}"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B341715B-3CBD-4A74-B6C4-99C647B7CD6E}"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FB07CC6F-B214-4EFE-848F-4C1F44A1E702}"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33495226-895E-41E7-81F3-E873C3A91D29}"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D9F487E8-C6A7-48AA-B528-A807B303CA8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0A1C2E49-5E67-4936-A32F-D2420B5CE35F}"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8FAD3911-094A-4AB6-A50B-D0A2D0C16372}"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E55E23FC-9C21-45CD-8984-D89F82EFEA0C}"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880719E1-CF9B-487F-BDD2-FAF6CC448102}"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2B5B7FDA-BD0F-499D-B70D-BEA556E827F1}"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EF62F5CB-3930-4A06-A1F1-C85400850E3F}"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DF128BB5-1300-4943-9160-23A7BF43A79C}"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C1D9C153-E721-4766-9498-0BE7D7F7A5C1}"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32D7E8C8-1051-4833-9C09-DDF140792771}"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3BCD5DED-B923-45F6-8CAE-B989E64B04B6}"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E88B9BD0-AF9D-42F7-91B5-AAB31EA5160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3EE9DA40-47E6-424B-9FA7-BF624AD9FD22}"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6205925A-BFBE-404E-87FA-C23DCFB1E14E}"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5399C7A9-9BBC-4B5F-9C47-A2437E7D4851}"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F142DB53-BA46-423D-A4B1-C16C8D10AE60}"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EDEFD4B8-B713-422B-BAF2-8308A64CC779}"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201B0CA4-7426-4EFA-8F3B-D50777AE15E8}"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08A32A86-5774-446B-A689-630DB48E429A}"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12BF8F00-7398-4999-9AEB-7C24C29DF959}"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27952D96-4EBE-4AED-9F89-79B8B505EEA0}"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BF8AD07E-DF65-474E-8434-5516180816D0}"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4AD5E93C-82F4-4F59-AE8D-BA50F8E5486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962D117-9726-43D1-8FED-88204CE27602}"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11161C0F-50A9-4340-A912-368D57C48124}"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82F9C0DC-E17F-4319-B3AD-C0454F09A668}"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86FA01EA-1DFB-474D-B0C9-9ECF60D8960E}"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A7E027A8-DC19-44B1-A96B-F8FCC73ED78A}"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5F0757DC-8547-43EB-B350-61ED5E765E8E}"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46DA0A36-5AE4-47F2-A65E-17088E38F497}"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E7131625-35A9-46B2-BD0E-F3CF2416A2CA}"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AD78A127-8871-4640-8118-F45739A1E95F}"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8FF0A405-C844-4709-8D01-A15D50EFE5F8}"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D6748E29-5E64-44D7-9C0B-79814C33DB0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8215293-1DAE-4F1F-99F4-6A4B5B3F7627}"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A2EB5A97-D260-4DFE-9BD8-B782B70E68AD}"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205816A5-B4B6-4E91-AF61-9BBCDE2197E1}"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17246180-C154-4544-8EBA-8CCD3D650BA1}"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4B0FF455-4B1D-4DD9-8F2D-FBD3709D3B58}"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CB0D4381-E6F0-41D6-A556-B5470E06DA94}"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9112EFFB-054E-403E-98C4-6A981367973B}"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0EDD73F5-6096-4CF5-A20B-B62CA8BED026}"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F23E2DE6-EF1C-44B6-872A-A8F348F2150B}"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4ED05C5E-B827-4CA2-A38E-74EEAD8F82A1}"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179B58CB-899D-46DB-91BD-254D123B5FD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C1AEFAFE-D69D-4834-88FA-04DC5076AB65}"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468851DB-0DA3-415E-A8BE-A9AD24E0F86A}"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E7355FC6-EDE0-4F82-B76A-132A2F2BBA10}"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9881D9AE-4CF6-46D8-983F-61FA0B67CE3E}"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C3300771-E420-46D0-93E1-A3298E206A67}"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67849254-34D8-4F3C-AC14-D762A0A37299}"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89381206-47E7-49AF-8736-F7928554047E}"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7DE5C61B-0DDE-4594-A5BA-569C47DA82BC}"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0B954AF1-9E19-4609-81E2-D3DE237D236E}"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BEFE6B31-D78A-47ED-8E3E-32D6E079731B}"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483895EF-BC09-4E4C-A499-DB8DD0F763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715A13-57CE-42B6-B2FA-90AE8EFF8DE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7B601B-C1EB-4596-A205-9F5BB53755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CBB8D-2988-439D-80B4-11B738716D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CD7F01-161E-41BA-9C97-B8ECB41079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399472-AE5E-46B4-8985-FEBD1390DA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33A72B-EC75-4768-AD08-FC20D74E64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37C6F1-067D-4187-975F-26B59A0623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186D5-8206-48F1-B482-FD3D79EADF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AA6C12-51A7-4993-BB7F-098D7069FE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0FD86D-C45C-422B-AA4D-6F7B037431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0C40F2-1A3D-401D-96C0-041CA6C931C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9EE956-281F-47B2-B310-34FDF03E47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597625-4A79-432E-A9FB-9A4D8E9D97D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94D310-56DA-4699-91D8-353A624EB9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B4D1B6-3D31-40CD-B641-25EE8EEEF8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D90BD8-2021-4F31-AFDC-05B3B9320C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7715C9-3699-4195-9423-DD2F6C12333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B2B473-C344-4506-9D44-1F603D32459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ACB27C-ED02-47AC-9D09-3EA98465E6D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61B1FA-DA71-4EF6-A499-D182C352118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9C5F25-0895-47DE-96D4-A57BF0BD0E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6826EC-ECF3-425B-B1CD-7383502F4A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5E55E8-82CD-414F-B9E9-7D48A9260E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967B27-18EF-49B5-9C89-4FEE00096D9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9A0968-89B1-420E-9F2F-1D5656022F4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F81C18-676C-4F9B-9401-416C2F7A7B6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7D5FD0-E1A6-4B2D-9D80-AEC4C0D9CA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362232-7364-4207-83D3-1B68397523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18F4C4-5A35-41AB-8E93-96871BE431B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DE120D-D1FB-4AEF-89B3-B970100CD6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ED7B8-D65B-4085-9A59-FAADCFADE24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6CAAFB-CCA5-44BF-8AA1-BF0C88DB00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F508D2-5F86-4025-AEFF-8B2EC96521B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BF9585-8335-4B8F-94C1-7ED0336CE2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682583-5336-44BF-A22B-36480DCE28F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252A54-0466-40EB-9263-191100F6DC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D5EEA5-2C1A-473E-B301-9C64E3A3D0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6BABC-5B08-48F5-8F2D-0474891589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704072-5F9A-4A8E-9939-5B073F05AA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F60577-0DEF-4B2F-B777-0240410274E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6923EC-07C7-453D-8A06-D62B6484CA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0B9FC8-B094-4D40-B403-83DE594A1E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5437BA-CDD6-4099-9C35-7C944A29D06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AB3541-B23A-40F5-8970-9417CF892C0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9A5C70-A6EB-4C0E-BFD4-753E10609A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2D0214-0F2F-4CFB-95CE-E655CB0FFB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9B9A4C-827A-4EF4-90DF-01FC165EE9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AEA734-1D55-4D32-87AB-EB4F7FF251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9065B-310C-40F1-A6EE-7A878AC730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4AEBAE-FF9E-41ED-991B-F81E434486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08B570-193A-423A-87A7-4C06C1CA602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38ACA6-F72C-4AEC-A874-BCBABA8D0B8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18C4E-9543-41B1-AFCE-908FA1E2516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14BDB-E897-4984-B4B3-DEF1A8D1F64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F01EBF-CC8F-4D96-A5BE-ABC886BF856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40F9F1-54E2-4532-B603-2A84F5B12FB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23BCAF-5219-4D12-A7EB-20DDE66C0A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48CFE8-F011-4A33-A77D-E6B68D0F112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FFFE3C-7E1E-4012-BB95-D16D77CBB44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D1D7E5-C7CA-496E-9CE1-F20197A02E6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B849FB-7BF8-43A1-93E6-965A5558B0B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F330D8-48BB-4D47-B92B-F46FD21AB48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A4A7E8-8A6A-4A9F-AACC-D62ACA95DB1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1EBA60-918D-4D90-BF59-8182AE4C006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D5A1E-78C0-4339-87CE-E8601908E4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A8B1A0-3E71-45D8-8B41-5B597FAB22D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1D38BF-78D5-4F6E-996F-1E459B4E19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8C8298-0DE1-4F9E-B045-ECD3582716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F73463-2B95-43C6-AC39-2979F19CC0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1B892F-22B7-43DD-AACB-9E4BB9BB83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55493-7C96-4D4C-BE98-7733412199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3A72AE-06AD-44CD-9746-7D3D7381E7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AA7272-8453-4C73-99B9-EF0B8CEA74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47B0EA-21FC-46F7-8E65-F754ED6BF3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53465C-4F16-4B49-B7F5-794E042FCCC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B84A0-ECE9-489C-9003-7AF1075253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192644-913B-4056-85A9-4878549AF26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0D2884-C777-4E5E-816A-0D464B49F2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D667A3-6491-430F-93E5-5161F8DF95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9FA0E6-3262-4842-9039-739DF8A730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155AA-E9F5-43C2-96C0-5D4F5F93FF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B51221-CF97-4531-9106-B3186FCA93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F5B078-C647-40C6-964A-8540AB0891B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FA31D-F4F2-4963-BFA5-408C2F86962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0F252-25FC-4542-A902-4A81C7BD40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6104EB-2E5E-4C9E-8244-749E58F36E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C983EC-F10E-4E9A-9B5F-E2630DABE0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1C311D-0B6B-48EA-A613-75AEB899E6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DCBD8D-B5E3-4BA2-92B8-B2C2C5622F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459ED-AC74-4F41-AAEB-FE4BD08F26A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45DCA5-90F4-4F98-AC61-01084175FED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2134E-3E4A-4322-88D2-60DA69F08D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B802BE-357C-47A4-9E4B-B690CCC9AA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33229-A2DF-4157-8694-25224CD07BB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7B9B2C-9714-4C5F-913E-139D669AA4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8C39DD-E794-4BA9-AAEF-1451205114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5F29F4-8745-450D-8057-4009305DF3B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D0A97C-9B4D-435E-B4DE-55DE8B5870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3A9730-EAC4-499E-A05E-098FDAB5E7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88E21-07A9-40D2-8007-8B88C8CE13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7B0CF6-F8BE-4E1B-AB2B-A25B5CB7CA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11A239-0C91-479D-AAE7-F2B9EB4D6B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BE2E19-6B56-4F90-93F9-BDF8079D4D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62FAB-6F95-4E99-B68F-F17E6A02CFA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69659-6822-4608-937D-5F0549DAF2B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B08AC3-1DE9-4B6E-B5F2-E795A2B26C8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49194A-B2EF-4A60-A9E7-EF823D3F4D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4F5549-4E7D-4E62-8622-8774EDEEDE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8A8AC-F731-462E-827E-D2139C0F5C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81A012-7CBE-462B-A024-264E4DE0AA4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5188B4-6F18-4D98-B6E1-58F084D540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41E73F-A307-4E2C-A575-98A302BCDC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664898-DB1C-41F4-B862-783DF1CA17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57413B-32BE-45AE-845F-E0D60AE3D55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E75CFB-021F-4587-96FC-1E2B6983466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7F6F4C-34C7-45C9-85F7-A71A257CFF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0E98FB-8C8D-4282-92ED-D59D8F86C4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9EB3F4-E3B4-4A45-8CA5-E1B2D217C9A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4E9821-D469-43F8-9A43-46A2F99A31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FFCB7E-B92E-44C4-B86B-D320F62FB3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D7A35B-38A1-4976-94C4-F6F8637980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30028D-4658-40B9-8EFC-7B0EEFE87E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B17424-E9D2-40E3-A4BA-FCE89E2D0C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66DF12-A481-40B9-B2B1-D6F8175102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517ABC-5100-45CD-AC23-10F8DE2C345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E36773-0B35-427C-A58A-5E5AE8250A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6D07CA-410D-41B0-9CD0-348E5DE9AD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82AF27-BDF6-4004-A1F3-AB538FE322B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9A9350-23AB-4FD4-B6D1-9603641B31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C69EE4-640B-426F-B4BC-04D2623E748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9CBC3F-40F9-46F2-91BF-F14AD268EA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9715A5-438E-4ED5-B58C-3B9A8182EC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66280-279A-44B8-957C-811F16B340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AC1F81-751F-4429-9B12-F9D191A2DA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EE99A4-B5D9-4FFF-9C73-1C4B35E375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7BEF5A-1269-4A51-9629-9914914359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69B3E-16ED-4537-8342-37D5D76E0C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9A6B31-DE74-4945-A8DD-0BA2AC2E864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616F30-A798-4EB7-878B-B9B724DA55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84644B-FE14-46F2-8FA5-9619E12330B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79AA42-6E32-4879-9F73-6767B4F52C6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E6C8A-71E4-45C1-8FCB-9A048EB7A9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4C7E07-9F8B-41FE-AEF6-05ECF92579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0BCB29-59DB-4954-989D-E1D61D0802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B213C8-30CE-49B4-B6F7-A0C1A66D1E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4C4B51-B8E0-4F5C-B934-609523D402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3C3898-1D12-42F7-BC2B-480606CF3C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8DABD5-3E92-40EB-9D47-15E273D507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BE2324-4B95-4C6F-8C6D-AD641B4722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DF9369-FF4F-4E92-B2D7-8D79754AB69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5036A3-99D4-4E41-A6DC-DEC7E7C97ED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7B29A1-E618-447C-B316-29CCBCC243E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69B15F-DC9A-4B43-B405-BAA6C14CEEB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BD9A02-6300-4D3B-928F-53A1A06423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E8C8F4-0C07-47D9-B3F9-6587E50CDC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FF67A8-A499-4336-9F0B-BF4B59FDE0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2"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3" name="Rectangle 2"/>
          <p:cNvSpPr/>
          <p:nvPr/>
        </p:nvSpPr>
        <p:spPr>
          <a:xfrm>
            <a:off x="1332000" y="4437000"/>
            <a:ext cx="6875280" cy="132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4" name="Rectangle 3"/>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5" name="Picture 4" descr=""/>
          <p:cNvPicPr/>
          <p:nvPr/>
        </p:nvPicPr>
        <p:blipFill>
          <a:blip r:embed="rId1"/>
          <a:stretch/>
        </p:blipFill>
        <p:spPr>
          <a:xfrm>
            <a:off x="0" y="1268280"/>
            <a:ext cx="9144000" cy="1368720"/>
          </a:xfrm>
          <a:prstGeom prst="rect">
            <a:avLst/>
          </a:prstGeom>
          <a:ln w="0">
            <a:noFill/>
          </a:ln>
        </p:spPr>
      </p:pic>
      <p:pic>
        <p:nvPicPr>
          <p:cNvPr id="6396" name="Picture 5" descr=""/>
          <p:cNvPicPr/>
          <p:nvPr/>
        </p:nvPicPr>
        <p:blipFill>
          <a:blip r:embed="rId2"/>
          <a:stretch/>
        </p:blipFill>
        <p:spPr>
          <a:xfrm>
            <a:off x="179280" y="0"/>
            <a:ext cx="1009800" cy="1190520"/>
          </a:xfrm>
          <a:prstGeom prst="rect">
            <a:avLst/>
          </a:prstGeom>
          <a:ln w="0">
            <a:noFill/>
          </a:ln>
        </p:spPr>
      </p:pic>
      <p:pic>
        <p:nvPicPr>
          <p:cNvPr id="6397" name="Picture 6" descr=""/>
          <p:cNvPicPr/>
          <p:nvPr/>
        </p:nvPicPr>
        <p:blipFill>
          <a:blip r:embed="rId3"/>
          <a:stretch/>
        </p:blipFill>
        <p:spPr>
          <a:xfrm>
            <a:off x="1116000" y="189000"/>
            <a:ext cx="3571920" cy="942840"/>
          </a:xfrm>
          <a:prstGeom prst="rect">
            <a:avLst/>
          </a:prstGeom>
          <a:ln w="0">
            <a:noFill/>
          </a:ln>
        </p:spPr>
      </p:pic>
      <p:pic>
        <p:nvPicPr>
          <p:cNvPr id="6398" name="Picture 7" descr=""/>
          <p:cNvPicPr/>
          <p:nvPr/>
        </p:nvPicPr>
        <p:blipFill>
          <a:blip r:embed="rId4"/>
          <a:stretch/>
        </p:blipFill>
        <p:spPr>
          <a:xfrm>
            <a:off x="5003640" y="0"/>
            <a:ext cx="1121040" cy="1219320"/>
          </a:xfrm>
          <a:prstGeom prst="rect">
            <a:avLst/>
          </a:prstGeom>
          <a:ln w="0">
            <a:noFill/>
          </a:ln>
        </p:spPr>
      </p:pic>
      <p:pic>
        <p:nvPicPr>
          <p:cNvPr id="6399"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2" name="Text Box 1"/>
          <p:cNvSpPr/>
          <p:nvPr/>
        </p:nvSpPr>
        <p:spPr>
          <a:xfrm>
            <a:off x="539640" y="1413000"/>
            <a:ext cx="7920000" cy="43923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ιδικοί που ασχολούνται με την Παιδαγωγική της Ένταξης </a:t>
            </a:r>
            <a:r>
              <a:rPr b="1" lang="el-GR" sz="2800" spc="-1" strike="noStrike">
                <a:solidFill>
                  <a:srgbClr val="000000"/>
                </a:solidFill>
                <a:latin typeface="Times New Roman"/>
              </a:rPr>
              <a:t>υποστηρίζουν την εκπαίδευση από κοινού των μαθητών με και χωρίς αναπηρίες και ειδικές εκπαιδευτι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τατοπίζοντας και μεταφέροντας το ενδιαφέρον </a:t>
            </a:r>
            <a:br>
              <a:rPr sz="2800"/>
            </a:br>
            <a:r>
              <a:rPr b="0" lang="el-GR" sz="2800" spc="-1" strike="noStrike">
                <a:solidFill>
                  <a:srgbClr val="000000"/>
                </a:solidFill>
                <a:latin typeface="Times New Roman"/>
              </a:rPr>
              <a:t>στις δραστηριότητες </a:t>
            </a:r>
            <a:br>
              <a:rPr sz="2800"/>
            </a:br>
            <a:r>
              <a:rPr b="1" lang="el-GR" sz="2800" spc="-1" strike="noStrike">
                <a:solidFill>
                  <a:srgbClr val="000000"/>
                </a:solidFill>
                <a:latin typeface="Times New Roman"/>
              </a:rPr>
              <a:t>με πολιτικό και κοινωνικό περιεχόμενο, </a:t>
            </a:r>
            <a:br>
              <a:rPr sz="2800"/>
            </a:br>
            <a:r>
              <a:rPr b="1" lang="el-GR" sz="2800" spc="-1" strike="noStrike">
                <a:solidFill>
                  <a:srgbClr val="000000"/>
                </a:solidFill>
                <a:latin typeface="Times New Roman"/>
              </a:rPr>
              <a:t>με παιδαγωγική προσέγγιση, </a:t>
            </a:r>
            <a:br>
              <a:rPr sz="2800"/>
            </a:br>
            <a:r>
              <a:rPr b="0" lang="el-GR" sz="2800" spc="-1" strike="noStrike">
                <a:solidFill>
                  <a:srgbClr val="000000"/>
                </a:solidFill>
                <a:latin typeface="Times New Roman"/>
              </a:rPr>
              <a:t>με στόχο να εντάσσονται όλοι οι μαθητές και </a:t>
            </a:r>
            <a:br>
              <a:rPr sz="2800"/>
            </a:br>
            <a:r>
              <a:rPr b="0" lang="el-GR" sz="2800" spc="-1" strike="noStrike">
                <a:solidFill>
                  <a:srgbClr val="000000"/>
                </a:solidFill>
                <a:latin typeface="Times New Roman"/>
              </a:rPr>
              <a:t>όλες οι μαθητικές ομάδες. </a:t>
            </a:r>
            <a:endParaRPr b="0" lang="en-US" sz="2800" spc="-1" strike="noStrike">
              <a:solidFill>
                <a:srgbClr val="ffffff"/>
              </a:solidFill>
              <a:latin typeface="Times New Roman"/>
            </a:endParaRPr>
          </a:p>
        </p:txBody>
      </p:sp>
      <p:grpSp>
        <p:nvGrpSpPr>
          <p:cNvPr id="6473" name="Group 2"/>
          <p:cNvGrpSpPr/>
          <p:nvPr/>
        </p:nvGrpSpPr>
        <p:grpSpPr>
          <a:xfrm>
            <a:off x="0" y="115920"/>
            <a:ext cx="9142560" cy="6549840"/>
            <a:chOff x="0" y="115920"/>
            <a:chExt cx="9142560" cy="6549840"/>
          </a:xfrm>
        </p:grpSpPr>
        <p:grpSp>
          <p:nvGrpSpPr>
            <p:cNvPr id="6474" name="Group 3"/>
            <p:cNvGrpSpPr/>
            <p:nvPr/>
          </p:nvGrpSpPr>
          <p:grpSpPr>
            <a:xfrm>
              <a:off x="0" y="115920"/>
              <a:ext cx="9142560" cy="6549840"/>
              <a:chOff x="0" y="115920"/>
              <a:chExt cx="9142560" cy="6549840"/>
            </a:xfrm>
          </p:grpSpPr>
          <p:sp>
            <p:nvSpPr>
              <p:cNvPr id="647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7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0" name="Picture 9"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2"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με τη συνδιδασκαλία μπορούν να κάνουν πράξη τη διαφοροποιημένη διδασκαλία, η οποία θα σχεδιάζεται και θα εφαρμόζεται από κοινού βοηθώντας και εξυπηρετώντας όλα τα μαθησιακά στυλ και τις ποικίλες ανάγκες των μαθητών. </a:t>
            </a:r>
            <a:endParaRPr b="0" lang="en-US" sz="2800" spc="-1" strike="noStrike">
              <a:solidFill>
                <a:srgbClr val="ffffff"/>
              </a:solidFill>
              <a:latin typeface="Times New Roman"/>
            </a:endParaRPr>
          </a:p>
        </p:txBody>
      </p:sp>
      <p:grpSp>
        <p:nvGrpSpPr>
          <p:cNvPr id="7283" name="Group 2"/>
          <p:cNvGrpSpPr/>
          <p:nvPr/>
        </p:nvGrpSpPr>
        <p:grpSpPr>
          <a:xfrm>
            <a:off x="0" y="115920"/>
            <a:ext cx="9142560" cy="6549840"/>
            <a:chOff x="0" y="115920"/>
            <a:chExt cx="9142560" cy="6549840"/>
          </a:xfrm>
        </p:grpSpPr>
        <p:grpSp>
          <p:nvGrpSpPr>
            <p:cNvPr id="7284" name="Group 3"/>
            <p:cNvGrpSpPr/>
            <p:nvPr/>
          </p:nvGrpSpPr>
          <p:grpSpPr>
            <a:xfrm>
              <a:off x="0" y="115920"/>
              <a:ext cx="9142560" cy="6549840"/>
              <a:chOff x="0" y="115920"/>
              <a:chExt cx="9142560" cy="6549840"/>
            </a:xfrm>
          </p:grpSpPr>
          <p:sp>
            <p:nvSpPr>
              <p:cNvPr id="728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8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8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90" name="Picture 9"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1" name="Text Box 1"/>
          <p:cNvSpPr/>
          <p:nvPr/>
        </p:nvSpPr>
        <p:spPr>
          <a:xfrm>
            <a:off x="250920" y="1392120"/>
            <a:ext cx="8713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εργασία μεταξύ των συνδιδασκάλων είναι παράγοντας επιτυχημένης συνεκπαίδευσης. Σε έρευνα των Αναστασίου &amp; Μαυροπαλιά (2013) με δείγμα 236 εκπαιδευτικούς, τα αποτελέσματα έδειξαν ότι η συνεργασία στην Παράλληλη Στήριξη ανάμεσα στους δασκάλους γενικής και ειδικής αγωγής προάγει την επίτευξη των στόχων σε σχέση με τις ανάγκες των μαθητών. </a:t>
            </a:r>
            <a:endParaRPr b="0" lang="en-US" sz="2800" spc="-1" strike="noStrike">
              <a:solidFill>
                <a:srgbClr val="ffffff"/>
              </a:solidFill>
              <a:latin typeface="Times New Roman"/>
            </a:endParaRPr>
          </a:p>
        </p:txBody>
      </p:sp>
      <p:grpSp>
        <p:nvGrpSpPr>
          <p:cNvPr id="7292" name="Group 2"/>
          <p:cNvGrpSpPr/>
          <p:nvPr/>
        </p:nvGrpSpPr>
        <p:grpSpPr>
          <a:xfrm>
            <a:off x="0" y="115920"/>
            <a:ext cx="9142560" cy="6549840"/>
            <a:chOff x="0" y="115920"/>
            <a:chExt cx="9142560" cy="6549840"/>
          </a:xfrm>
        </p:grpSpPr>
        <p:grpSp>
          <p:nvGrpSpPr>
            <p:cNvPr id="7293" name="Group 3"/>
            <p:cNvGrpSpPr/>
            <p:nvPr/>
          </p:nvGrpSpPr>
          <p:grpSpPr>
            <a:xfrm>
              <a:off x="0" y="115920"/>
              <a:ext cx="9142560" cy="6549840"/>
              <a:chOff x="0" y="115920"/>
              <a:chExt cx="9142560" cy="6549840"/>
            </a:xfrm>
          </p:grpSpPr>
          <p:sp>
            <p:nvSpPr>
              <p:cNvPr id="729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9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9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99" name="Picture 9"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0" name="Text Box 1"/>
          <p:cNvSpPr/>
          <p:nvPr/>
        </p:nvSpPr>
        <p:spPr>
          <a:xfrm>
            <a:off x="250920" y="1392120"/>
            <a:ext cx="8713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της παράλληλης στήριξης στην Ελλάδα σήμερα επικοινωνούν μεν αποτελεσματικά με τους συναδέλφους τους, όμως δεν λαμβάνουν από κοινού αποφάσεις με ισότιμο τρόπο για το πώς θα λειτουργήσει η τάξη σε διάφορα ζητήματα (Αναστασίου &amp; Μαυροπαλιάς, 2013). </a:t>
            </a:r>
            <a:endParaRPr b="0" lang="en-US" sz="2800" spc="-1" strike="noStrike">
              <a:solidFill>
                <a:srgbClr val="ffffff"/>
              </a:solidFill>
              <a:latin typeface="Times New Roman"/>
            </a:endParaRPr>
          </a:p>
        </p:txBody>
      </p:sp>
      <p:grpSp>
        <p:nvGrpSpPr>
          <p:cNvPr id="7301" name="Group 2"/>
          <p:cNvGrpSpPr/>
          <p:nvPr/>
        </p:nvGrpSpPr>
        <p:grpSpPr>
          <a:xfrm>
            <a:off x="0" y="115920"/>
            <a:ext cx="9142560" cy="6549840"/>
            <a:chOff x="0" y="115920"/>
            <a:chExt cx="9142560" cy="6549840"/>
          </a:xfrm>
        </p:grpSpPr>
        <p:grpSp>
          <p:nvGrpSpPr>
            <p:cNvPr id="7302" name="Group 3"/>
            <p:cNvGrpSpPr/>
            <p:nvPr/>
          </p:nvGrpSpPr>
          <p:grpSpPr>
            <a:xfrm>
              <a:off x="0" y="115920"/>
              <a:ext cx="9142560" cy="6549840"/>
              <a:chOff x="0" y="115920"/>
              <a:chExt cx="9142560" cy="6549840"/>
            </a:xfrm>
          </p:grpSpPr>
          <p:sp>
            <p:nvSpPr>
              <p:cNvPr id="730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30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0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08" name="Picture 9"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Arial"/>
                <a:ea typeface="Arial"/>
              </a:rPr>
              <a:t>ΘΕΣΜΙΚΟ ΠΛΑΙΣΙΟ ΣΥΝΔΙΔΑΣΚΑΛΙΑΣ-</a:t>
            </a:r>
            <a:br>
              <a:rPr sz="2800"/>
            </a:br>
            <a:br>
              <a:rPr sz="2800"/>
            </a:br>
            <a:r>
              <a:rPr b="1" lang="el-GR" sz="2800" spc="-1" strike="noStrike">
                <a:solidFill>
                  <a:srgbClr val="000000"/>
                </a:solidFill>
                <a:latin typeface="Arial"/>
                <a:ea typeface="Arial"/>
              </a:rPr>
              <a:t>ΘΕΩΡΗΤΙΚΕΣ ΠΡΟΣΕΓΓΙΣΕΙΣ</a:t>
            </a:r>
            <a:br>
              <a:rPr sz="2800"/>
            </a:b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ffffff"/>
              </a:solidFill>
              <a:latin typeface="Times New Roman"/>
            </a:endParaRPr>
          </a:p>
        </p:txBody>
      </p:sp>
      <p:grpSp>
        <p:nvGrpSpPr>
          <p:cNvPr id="7310" name="Group 2"/>
          <p:cNvGrpSpPr/>
          <p:nvPr/>
        </p:nvGrpSpPr>
        <p:grpSpPr>
          <a:xfrm>
            <a:off x="0" y="115920"/>
            <a:ext cx="9142560" cy="6549840"/>
            <a:chOff x="0" y="115920"/>
            <a:chExt cx="9142560" cy="6549840"/>
          </a:xfrm>
        </p:grpSpPr>
        <p:grpSp>
          <p:nvGrpSpPr>
            <p:cNvPr id="7311" name="Group 3"/>
            <p:cNvGrpSpPr/>
            <p:nvPr/>
          </p:nvGrpSpPr>
          <p:grpSpPr>
            <a:xfrm>
              <a:off x="0" y="115920"/>
              <a:ext cx="9142560" cy="6549840"/>
              <a:chOff x="0" y="115920"/>
              <a:chExt cx="9142560" cy="6549840"/>
            </a:xfrm>
          </p:grpSpPr>
          <p:sp>
            <p:nvSpPr>
              <p:cNvPr id="731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31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1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17" name="Picture 9"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8" name="Rectangle 1"/>
          <p:cNvSpPr/>
          <p:nvPr/>
        </p:nvSpPr>
        <p:spPr>
          <a:xfrm>
            <a:off x="395280" y="3573360"/>
            <a:ext cx="8137440" cy="249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7319" name="Picture 2" descr=""/>
          <p:cNvPicPr/>
          <p:nvPr/>
        </p:nvPicPr>
        <p:blipFill>
          <a:blip r:embed="rId1"/>
          <a:stretch/>
        </p:blipFill>
        <p:spPr>
          <a:xfrm>
            <a:off x="0" y="0"/>
            <a:ext cx="9144000" cy="1368360"/>
          </a:xfrm>
          <a:prstGeom prst="rect">
            <a:avLst/>
          </a:prstGeom>
          <a:ln w="0">
            <a:noFill/>
          </a:ln>
        </p:spPr>
      </p:pic>
      <p:pic>
        <p:nvPicPr>
          <p:cNvPr id="7320" name="Picture 3" descr=""/>
          <p:cNvPicPr/>
          <p:nvPr/>
        </p:nvPicPr>
        <p:blipFill>
          <a:blip r:embed="rId2"/>
          <a:stretch/>
        </p:blipFill>
        <p:spPr>
          <a:xfrm>
            <a:off x="1258920" y="2060640"/>
            <a:ext cx="1297080" cy="1528560"/>
          </a:xfrm>
          <a:prstGeom prst="rect">
            <a:avLst/>
          </a:prstGeom>
          <a:ln w="0">
            <a:noFill/>
          </a:ln>
        </p:spPr>
      </p:pic>
      <p:pic>
        <p:nvPicPr>
          <p:cNvPr id="7321" name="Picture 4" descr=""/>
          <p:cNvPicPr/>
          <p:nvPr/>
        </p:nvPicPr>
        <p:blipFill>
          <a:blip r:embed="rId3"/>
          <a:stretch/>
        </p:blipFill>
        <p:spPr>
          <a:xfrm>
            <a:off x="6948360" y="1989000"/>
            <a:ext cx="1444680" cy="1573200"/>
          </a:xfrm>
          <a:prstGeom prst="rect">
            <a:avLst/>
          </a:prstGeom>
          <a:ln w="0">
            <a:noFill/>
          </a:ln>
        </p:spPr>
      </p:pic>
      <p:sp>
        <p:nvSpPr>
          <p:cNvPr id="7322" name="Rectangle 5"/>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p:txBody>
      </p:sp>
      <p:sp>
        <p:nvSpPr>
          <p:cNvPr id="7323"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1"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ταξιακή εκπαίδευση, λοιπόν, έρχεται να επιτελέσει και μία κοινωνική λειτουργία,  </a:t>
            </a:r>
            <a:r>
              <a:rPr b="1" lang="el-GR" sz="2800" spc="-1" strike="noStrike">
                <a:solidFill>
                  <a:srgbClr val="000000"/>
                </a:solidFill>
                <a:latin typeface="Times New Roman"/>
              </a:rPr>
              <a:t>«της  κοινωνικής ένταξης» των αμεα.  </a:t>
            </a:r>
            <a:r>
              <a:rPr b="0" lang="el-GR" sz="2800" spc="-1" strike="noStrike">
                <a:solidFill>
                  <a:srgbClr val="000000"/>
                </a:solidFill>
                <a:latin typeface="Times New Roman"/>
              </a:rPr>
              <a:t>Αυτό είναι και το παιδαγωγικό ζητούμενο της ένταξης, που αποτελεί και ένα ηθικό ζήτημα. </a:t>
            </a:r>
            <a:br>
              <a:rPr sz="2800"/>
            </a:br>
            <a:endParaRPr b="0" lang="en-US" sz="2800" spc="-1" strike="noStrike">
              <a:solidFill>
                <a:srgbClr val="ffffff"/>
              </a:solidFill>
              <a:latin typeface="Times New Roman"/>
            </a:endParaRPr>
          </a:p>
        </p:txBody>
      </p:sp>
      <p:grpSp>
        <p:nvGrpSpPr>
          <p:cNvPr id="6482" name="Group 2"/>
          <p:cNvGrpSpPr/>
          <p:nvPr/>
        </p:nvGrpSpPr>
        <p:grpSpPr>
          <a:xfrm>
            <a:off x="0" y="115920"/>
            <a:ext cx="9142560" cy="6549840"/>
            <a:chOff x="0" y="115920"/>
            <a:chExt cx="9142560" cy="6549840"/>
          </a:xfrm>
        </p:grpSpPr>
        <p:grpSp>
          <p:nvGrpSpPr>
            <p:cNvPr id="6483" name="Group 3"/>
            <p:cNvGrpSpPr/>
            <p:nvPr/>
          </p:nvGrpSpPr>
          <p:grpSpPr>
            <a:xfrm>
              <a:off x="0" y="115920"/>
              <a:ext cx="9142560" cy="6549840"/>
              <a:chOff x="0" y="115920"/>
              <a:chExt cx="9142560" cy="6549840"/>
            </a:xfrm>
          </p:grpSpPr>
          <p:sp>
            <p:nvSpPr>
              <p:cNvPr id="648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8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9"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0"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ενταξιακή εκπαίδευση θέτει υπό διαπραγμάτευση την σχολική οργάνωση σε επίπεδο συστήματος  καθώς και  σε τοπικό επίπεδο ως προς το περιεχόμενο των προγραμμάτων , της παιδαγωγικής προσέγγισης και αξιολόγησης.</a:t>
            </a:r>
            <a:endParaRPr b="0" lang="en-US" sz="2800" spc="-1" strike="noStrike">
              <a:solidFill>
                <a:srgbClr val="ffffff"/>
              </a:solidFill>
              <a:latin typeface="Times New Roman"/>
            </a:endParaRPr>
          </a:p>
        </p:txBody>
      </p:sp>
      <p:grpSp>
        <p:nvGrpSpPr>
          <p:cNvPr id="6491" name="Group 2"/>
          <p:cNvGrpSpPr/>
          <p:nvPr/>
        </p:nvGrpSpPr>
        <p:grpSpPr>
          <a:xfrm>
            <a:off x="0" y="115920"/>
            <a:ext cx="9142560" cy="6549840"/>
            <a:chOff x="0" y="115920"/>
            <a:chExt cx="9142560" cy="6549840"/>
          </a:xfrm>
        </p:grpSpPr>
        <p:grpSp>
          <p:nvGrpSpPr>
            <p:cNvPr id="6492" name="Group 3"/>
            <p:cNvGrpSpPr/>
            <p:nvPr/>
          </p:nvGrpSpPr>
          <p:grpSpPr>
            <a:xfrm>
              <a:off x="0" y="115920"/>
              <a:ext cx="9142560" cy="6549840"/>
              <a:chOff x="0" y="115920"/>
              <a:chExt cx="9142560" cy="6549840"/>
            </a:xfrm>
          </p:grpSpPr>
          <p:sp>
            <p:nvSpPr>
              <p:cNvPr id="649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9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8"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9" name="Text Box 1"/>
          <p:cNvSpPr/>
          <p:nvPr/>
        </p:nvSpPr>
        <p:spPr>
          <a:xfrm>
            <a:off x="324000" y="1125360"/>
            <a:ext cx="8569080" cy="46594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a:t>
            </a:r>
            <a:r>
              <a:rPr b="0" lang="en-US" sz="2800" spc="-1" strike="noStrike">
                <a:solidFill>
                  <a:srgbClr val="000000"/>
                </a:solidFill>
                <a:latin typeface="Times New Roman"/>
              </a:rPr>
              <a:t>Mastropieri</a:t>
            </a:r>
            <a:r>
              <a:rPr b="0" lang="el-GR" sz="2800" spc="-1" strike="noStrike">
                <a:solidFill>
                  <a:srgbClr val="000000"/>
                </a:solidFill>
                <a:latin typeface="Times New Roman"/>
              </a:rPr>
              <a:t> &amp; </a:t>
            </a:r>
            <a:r>
              <a:rPr b="0" lang="en-US" sz="2800" spc="-1" strike="noStrike">
                <a:solidFill>
                  <a:srgbClr val="000000"/>
                </a:solidFill>
                <a:latin typeface="Times New Roman"/>
              </a:rPr>
              <a:t>Scruggs</a:t>
            </a:r>
            <a:r>
              <a:rPr b="0" lang="el-GR" sz="2800" spc="-1" strike="noStrike">
                <a:solidFill>
                  <a:srgbClr val="000000"/>
                </a:solidFill>
                <a:latin typeface="Times New Roman"/>
              </a:rPr>
              <a:t> αναφέρονται εφτά(7) παράγοντες που συνιστούν μία επιτυχημένη ένταξη: </a:t>
            </a: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Κατάλληλο εκπαιδευτικό προσωπικό, </a:t>
            </a:r>
            <a:br>
              <a:rPr sz="2800"/>
            </a:br>
            <a:r>
              <a:rPr b="1" lang="el-GR" sz="2800" spc="-1" strike="noStrike">
                <a:solidFill>
                  <a:srgbClr val="000000"/>
                </a:solidFill>
                <a:latin typeface="Times New Roman"/>
              </a:rPr>
              <a:t>β)Διαφοροποίηση του προγράμματος ανάλογα με τις ανάγκες των μαθητών, </a:t>
            </a:r>
            <a:br>
              <a:rPr sz="2800"/>
            </a:br>
            <a:r>
              <a:rPr b="1" lang="el-GR" sz="2800" spc="-1" strike="noStrike">
                <a:solidFill>
                  <a:srgbClr val="000000"/>
                </a:solidFill>
                <a:latin typeface="Times New Roman"/>
              </a:rPr>
              <a:t>γ)Διοικητική υποστήριξη, </a:t>
            </a:r>
            <a:br>
              <a:rPr sz="2800"/>
            </a:br>
            <a:r>
              <a:rPr b="1" lang="el-GR" sz="2800" spc="-1" strike="noStrike">
                <a:solidFill>
                  <a:srgbClr val="000000"/>
                </a:solidFill>
                <a:latin typeface="Times New Roman"/>
              </a:rPr>
              <a:t>δ)Ειδικές δεξιότητες διδασκαλίας, </a:t>
            </a:r>
            <a:br>
              <a:rPr sz="2800"/>
            </a:br>
            <a:r>
              <a:rPr b="1" lang="el-GR" sz="2800" spc="-1" strike="noStrike">
                <a:solidFill>
                  <a:srgbClr val="000000"/>
                </a:solidFill>
                <a:latin typeface="Times New Roman"/>
              </a:rPr>
              <a:t>ε)Αποτελεσματική γενική διδασκαλία, </a:t>
            </a:r>
            <a:br>
              <a:rPr sz="2800"/>
            </a:br>
            <a:r>
              <a:rPr b="1" lang="el-GR" sz="2800" spc="-1" strike="noStrike">
                <a:solidFill>
                  <a:srgbClr val="000000"/>
                </a:solidFill>
                <a:latin typeface="Times New Roman"/>
              </a:rPr>
              <a:t>στ)Θετικό κλίμα στην τάξη, </a:t>
            </a:r>
            <a:br>
              <a:rPr sz="2800"/>
            </a:br>
            <a:r>
              <a:rPr b="1" lang="el-GR" sz="2800" spc="-1" strike="noStrike">
                <a:solidFill>
                  <a:srgbClr val="000000"/>
                </a:solidFill>
                <a:latin typeface="Times New Roman"/>
              </a:rPr>
              <a:t>ζ)Συνεργασία με τους συμμαθητέ</a:t>
            </a:r>
            <a:r>
              <a:rPr b="0" lang="el-GR" sz="2800" spc="-1" strike="noStrike">
                <a:solidFill>
                  <a:srgbClr val="000000"/>
                </a:solidFill>
                <a:latin typeface="Times New Roman"/>
              </a:rPr>
              <a:t>ς </a:t>
            </a:r>
            <a:endParaRPr b="0" lang="en-US" sz="2800" spc="-1" strike="noStrike">
              <a:solidFill>
                <a:srgbClr val="ffffff"/>
              </a:solidFill>
              <a:latin typeface="Times New Roman"/>
            </a:endParaRPr>
          </a:p>
        </p:txBody>
      </p:sp>
      <p:grpSp>
        <p:nvGrpSpPr>
          <p:cNvPr id="6500" name="Group 2"/>
          <p:cNvGrpSpPr/>
          <p:nvPr/>
        </p:nvGrpSpPr>
        <p:grpSpPr>
          <a:xfrm>
            <a:off x="0" y="115920"/>
            <a:ext cx="9142560" cy="6549840"/>
            <a:chOff x="0" y="115920"/>
            <a:chExt cx="9142560" cy="6549840"/>
          </a:xfrm>
        </p:grpSpPr>
        <p:grpSp>
          <p:nvGrpSpPr>
            <p:cNvPr id="6501" name="Group 3"/>
            <p:cNvGrpSpPr/>
            <p:nvPr/>
          </p:nvGrpSpPr>
          <p:grpSpPr>
            <a:xfrm>
              <a:off x="0" y="115920"/>
              <a:ext cx="9142560" cy="6549840"/>
              <a:chOff x="0" y="115920"/>
              <a:chExt cx="9142560" cy="6549840"/>
            </a:xfrm>
          </p:grpSpPr>
          <p:sp>
            <p:nvSpPr>
              <p:cNvPr id="650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0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7"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8"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η φοίτηση των μαθητών με ειδικές ανάγκες </a:t>
            </a:r>
            <a:br>
              <a:rPr sz="2800"/>
            </a:br>
            <a:r>
              <a:rPr b="0" lang="el-GR" sz="2800" spc="-1" strike="noStrike">
                <a:solidFill>
                  <a:srgbClr val="000000"/>
                </a:solidFill>
                <a:latin typeface="Times New Roman"/>
              </a:rPr>
              <a:t>και αναπηρίες σε ξεχωριστό πλαίσιο οδηγεί σε στιγματισμό και αποκλεισμό. </a:t>
            </a:r>
            <a:br>
              <a:rPr sz="2800"/>
            </a:br>
            <a:br>
              <a:rPr sz="2800"/>
            </a:br>
            <a:endParaRPr b="0" lang="en-US" sz="2800" spc="-1" strike="noStrike">
              <a:solidFill>
                <a:srgbClr val="ffffff"/>
              </a:solidFill>
              <a:latin typeface="Times New Roman"/>
            </a:endParaRPr>
          </a:p>
        </p:txBody>
      </p:sp>
      <p:grpSp>
        <p:nvGrpSpPr>
          <p:cNvPr id="6509" name="Group 2"/>
          <p:cNvGrpSpPr/>
          <p:nvPr/>
        </p:nvGrpSpPr>
        <p:grpSpPr>
          <a:xfrm>
            <a:off x="0" y="115920"/>
            <a:ext cx="9142560" cy="6549840"/>
            <a:chOff x="0" y="115920"/>
            <a:chExt cx="9142560" cy="6549840"/>
          </a:xfrm>
        </p:grpSpPr>
        <p:grpSp>
          <p:nvGrpSpPr>
            <p:cNvPr id="6510" name="Group 3"/>
            <p:cNvGrpSpPr/>
            <p:nvPr/>
          </p:nvGrpSpPr>
          <p:grpSpPr>
            <a:xfrm>
              <a:off x="0" y="115920"/>
              <a:ext cx="9142560" cy="6549840"/>
              <a:chOff x="0" y="115920"/>
              <a:chExt cx="9142560" cy="6549840"/>
            </a:xfrm>
          </p:grpSpPr>
          <p:sp>
            <p:nvSpPr>
              <p:cNvPr id="651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1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5" name="Rectangle 8"/>
          <p:cNvSpPr/>
          <p:nvPr/>
        </p:nvSpPr>
        <p:spPr>
          <a:xfrm>
            <a:off x="468360" y="2276640"/>
            <a:ext cx="867564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6"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7"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Ζητούμενο πρέπει να είναι η ποικιλομορφία και η διαφορετικότητα στην τάξη, </a:t>
            </a:r>
            <a:br>
              <a:rPr sz="2800"/>
            </a:br>
            <a:r>
              <a:rPr b="0" lang="el-GR" sz="2800" spc="-1" strike="noStrike">
                <a:solidFill>
                  <a:srgbClr val="000000"/>
                </a:solidFill>
                <a:latin typeface="Times New Roman"/>
              </a:rPr>
              <a:t>κάτι που μπορεί να προάγει κοινωνικές αξίες και να προσφέρει ίσες ευκαιρίες  για όλους </a:t>
            </a:r>
            <a:br>
              <a:rPr sz="2800"/>
            </a:br>
            <a:r>
              <a:rPr b="0" lang="el-GR" sz="2800" spc="-1" strike="noStrike">
                <a:solidFill>
                  <a:srgbClr val="000000"/>
                </a:solidFill>
                <a:latin typeface="Times New Roman"/>
              </a:rPr>
              <a:t>μέσα σε ένα πλαίσιο δημοκρατίας. </a:t>
            </a:r>
            <a:endParaRPr b="0" lang="en-US" sz="2800" spc="-1" strike="noStrike">
              <a:solidFill>
                <a:srgbClr val="ffffff"/>
              </a:solidFill>
              <a:latin typeface="Times New Roman"/>
            </a:endParaRPr>
          </a:p>
        </p:txBody>
      </p:sp>
      <p:grpSp>
        <p:nvGrpSpPr>
          <p:cNvPr id="6518" name="Group 2"/>
          <p:cNvGrpSpPr/>
          <p:nvPr/>
        </p:nvGrpSpPr>
        <p:grpSpPr>
          <a:xfrm>
            <a:off x="0" y="115920"/>
            <a:ext cx="9142560" cy="6549840"/>
            <a:chOff x="0" y="115920"/>
            <a:chExt cx="9142560" cy="6549840"/>
          </a:xfrm>
        </p:grpSpPr>
        <p:grpSp>
          <p:nvGrpSpPr>
            <p:cNvPr id="6519" name="Group 3"/>
            <p:cNvGrpSpPr/>
            <p:nvPr/>
          </p:nvGrpSpPr>
          <p:grpSpPr>
            <a:xfrm>
              <a:off x="0" y="115920"/>
              <a:ext cx="9142560" cy="6549840"/>
              <a:chOff x="0" y="115920"/>
              <a:chExt cx="9142560" cy="6549840"/>
            </a:xfrm>
          </p:grpSpPr>
          <p:sp>
            <p:nvSpPr>
              <p:cNvPr id="652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2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5"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6"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ία μορφή ένταξης και </a:t>
            </a:r>
            <a:r>
              <a:rPr b="1" lang="el-GR" sz="2800" spc="-1" strike="noStrike">
                <a:solidFill>
                  <a:srgbClr val="000000"/>
                </a:solidFill>
                <a:latin typeface="Times New Roman"/>
              </a:rPr>
              <a:t>αποφυγής του αποκλεισμού σχετικά με την εκπαίδευση των ατόμων </a:t>
            </a:r>
            <a:br>
              <a:rPr sz="2800"/>
            </a:br>
            <a:r>
              <a:rPr b="1" lang="el-GR" sz="2800" spc="-1" strike="noStrike">
                <a:solidFill>
                  <a:srgbClr val="000000"/>
                </a:solidFill>
                <a:latin typeface="Times New Roman"/>
              </a:rPr>
              <a:t>με ειδικές εκπαιδευτικές ανάγκες </a:t>
            </a:r>
            <a:br>
              <a:rPr sz="2800"/>
            </a:br>
            <a:r>
              <a:rPr b="0" lang="el-GR" sz="2800" spc="-1" strike="noStrike">
                <a:solidFill>
                  <a:srgbClr val="000000"/>
                </a:solidFill>
                <a:latin typeface="Times New Roman"/>
              </a:rPr>
              <a:t>είναι η συνεκπαίδευση και η συνδιδασκαλία. </a:t>
            </a:r>
            <a:br>
              <a:rPr sz="2800"/>
            </a:br>
            <a:br>
              <a:rPr sz="2800"/>
            </a:br>
            <a:r>
              <a:rPr b="0" lang="el-GR" sz="2800" spc="-1" strike="noStrike">
                <a:solidFill>
                  <a:srgbClr val="000000"/>
                </a:solidFill>
                <a:latin typeface="Times New Roman"/>
              </a:rPr>
              <a:t>Αυτό σημαίνει ότι οι μαθητές  παρακολουθούν </a:t>
            </a:r>
            <a:br>
              <a:rPr sz="2800"/>
            </a:br>
            <a:r>
              <a:rPr b="0" lang="el-GR" sz="2800" spc="-1" strike="noStrike">
                <a:solidFill>
                  <a:srgbClr val="000000"/>
                </a:solidFill>
                <a:latin typeface="Times New Roman"/>
              </a:rPr>
              <a:t>το ίδιο πρόγραμμα, την ίδια στιγμή, </a:t>
            </a:r>
            <a:br>
              <a:rPr sz="2800"/>
            </a:br>
            <a:r>
              <a:rPr b="0" lang="el-GR" sz="2800" spc="-1" strike="noStrike">
                <a:solidFill>
                  <a:srgbClr val="000000"/>
                </a:solidFill>
                <a:latin typeface="Times New Roman"/>
              </a:rPr>
              <a:t>στην ίδια αίθουσα με τη συμμετοχή όλων (</a:t>
            </a:r>
            <a:r>
              <a:rPr b="0" lang="en-US" sz="2800" spc="-1" strike="noStrike">
                <a:solidFill>
                  <a:srgbClr val="000000"/>
                </a:solidFill>
                <a:latin typeface="Times New Roman"/>
              </a:rPr>
              <a:t>Bailey</a:t>
            </a:r>
            <a:r>
              <a:rPr b="0" lang="el-GR" sz="2800" spc="-1" strike="noStrike">
                <a:solidFill>
                  <a:srgbClr val="000000"/>
                </a:solidFill>
                <a:latin typeface="Times New Roman"/>
              </a:rPr>
              <a:t>, 1998). </a:t>
            </a:r>
            <a:endParaRPr b="0" lang="en-US" sz="2800" spc="-1" strike="noStrike">
              <a:solidFill>
                <a:srgbClr val="ffffff"/>
              </a:solidFill>
              <a:latin typeface="Times New Roman"/>
            </a:endParaRPr>
          </a:p>
        </p:txBody>
      </p:sp>
      <p:grpSp>
        <p:nvGrpSpPr>
          <p:cNvPr id="6527" name="Group 2"/>
          <p:cNvGrpSpPr/>
          <p:nvPr/>
        </p:nvGrpSpPr>
        <p:grpSpPr>
          <a:xfrm>
            <a:off x="0" y="115920"/>
            <a:ext cx="9142560" cy="6549840"/>
            <a:chOff x="0" y="115920"/>
            <a:chExt cx="9142560" cy="6549840"/>
          </a:xfrm>
        </p:grpSpPr>
        <p:grpSp>
          <p:nvGrpSpPr>
            <p:cNvPr id="6528" name="Group 3"/>
            <p:cNvGrpSpPr/>
            <p:nvPr/>
          </p:nvGrpSpPr>
          <p:grpSpPr>
            <a:xfrm>
              <a:off x="0" y="115920"/>
              <a:ext cx="9142560" cy="6549840"/>
              <a:chOff x="0" y="115920"/>
              <a:chExt cx="9142560" cy="6549840"/>
            </a:xfrm>
          </p:grpSpPr>
          <p:sp>
            <p:nvSpPr>
              <p:cNvPr id="652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3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4"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5" name="Text Box 1"/>
          <p:cNvSpPr/>
          <p:nvPr/>
        </p:nvSpPr>
        <p:spPr>
          <a:xfrm>
            <a:off x="250920" y="1392120"/>
            <a:ext cx="86421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υνδιδασκαλία</a:t>
            </a:r>
            <a:r>
              <a:rPr b="0" lang="el-GR" sz="2800" spc="-1" strike="noStrike">
                <a:solidFill>
                  <a:srgbClr val="000000"/>
                </a:solidFill>
                <a:latin typeface="Times New Roman"/>
              </a:rPr>
              <a:t>, επομένως, είναι ένας τρόπος να μειωθούν τα προβλήματα αποκλεισμού και να παρέχουμε υπηρεσίες στα παιδιά με ειδικές εκπαιδευτικές ανάγκες. </a:t>
            </a:r>
            <a:br>
              <a:rPr sz="2800"/>
            </a:br>
            <a:r>
              <a:rPr b="0" lang="el-GR" sz="2800" spc="-1" strike="noStrike">
                <a:solidFill>
                  <a:srgbClr val="000000"/>
                </a:solidFill>
                <a:latin typeface="Times New Roman"/>
              </a:rPr>
              <a:t> Η συνδιδασκαλία είναι μία πρόταση με θετικά στοιχεία, καθώς απαιτείται συνεργασία των εκπαιδευτικών γενικής και ειδικής αγωγής, αλλά και η συνεργασία ειδικών διάφορων ειδικοτήτων. </a:t>
            </a:r>
            <a:endParaRPr b="0" lang="en-US" sz="2800" spc="-1" strike="noStrike">
              <a:solidFill>
                <a:srgbClr val="ffffff"/>
              </a:solidFill>
              <a:latin typeface="Times New Roman"/>
            </a:endParaRPr>
          </a:p>
        </p:txBody>
      </p:sp>
      <p:grpSp>
        <p:nvGrpSpPr>
          <p:cNvPr id="6536" name="Group 2"/>
          <p:cNvGrpSpPr/>
          <p:nvPr/>
        </p:nvGrpSpPr>
        <p:grpSpPr>
          <a:xfrm>
            <a:off x="0" y="115920"/>
            <a:ext cx="9142560" cy="6549840"/>
            <a:chOff x="0" y="115920"/>
            <a:chExt cx="9142560" cy="6549840"/>
          </a:xfrm>
        </p:grpSpPr>
        <p:grpSp>
          <p:nvGrpSpPr>
            <p:cNvPr id="6537" name="Group 3"/>
            <p:cNvGrpSpPr/>
            <p:nvPr/>
          </p:nvGrpSpPr>
          <p:grpSpPr>
            <a:xfrm>
              <a:off x="0" y="115920"/>
              <a:ext cx="9142560" cy="6549840"/>
              <a:chOff x="0" y="115920"/>
              <a:chExt cx="9142560" cy="6549840"/>
            </a:xfrm>
          </p:grpSpPr>
          <p:sp>
            <p:nvSpPr>
              <p:cNvPr id="653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4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3"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4" name="Text Box 1"/>
          <p:cNvSpPr/>
          <p:nvPr/>
        </p:nvSpPr>
        <p:spPr>
          <a:xfrm>
            <a:off x="250920" y="1392120"/>
            <a:ext cx="86421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Οι εκπαιδευτικοί της τάξης </a:t>
            </a:r>
            <a:br>
              <a:rPr sz="2800"/>
            </a:br>
            <a:r>
              <a:rPr b="1" lang="el-GR" sz="2800" spc="-1" strike="noStrike">
                <a:solidFill>
                  <a:srgbClr val="000000"/>
                </a:solidFill>
                <a:latin typeface="Times New Roman"/>
              </a:rPr>
              <a:t>(γενικής και ειδικός παιδαγωγός) </a:t>
            </a:r>
            <a:br>
              <a:rPr sz="2800"/>
            </a:br>
            <a:r>
              <a:rPr b="0" lang="el-GR" sz="2800" spc="-1" strike="noStrike">
                <a:solidFill>
                  <a:srgbClr val="000000"/>
                </a:solidFill>
                <a:latin typeface="Times New Roman"/>
              </a:rPr>
              <a:t>θα πρέπει να συν-διδάσκουν με σκοπό τη μείωση των προβλημάτων και των δυσκολιών των μαθητών .</a:t>
            </a:r>
            <a:endParaRPr b="0" lang="en-US" sz="2800" spc="-1" strike="noStrike">
              <a:solidFill>
                <a:srgbClr val="ffffff"/>
              </a:solidFill>
              <a:latin typeface="Times New Roman"/>
            </a:endParaRPr>
          </a:p>
        </p:txBody>
      </p:sp>
      <p:grpSp>
        <p:nvGrpSpPr>
          <p:cNvPr id="6545" name="Group 2"/>
          <p:cNvGrpSpPr/>
          <p:nvPr/>
        </p:nvGrpSpPr>
        <p:grpSpPr>
          <a:xfrm>
            <a:off x="0" y="115920"/>
            <a:ext cx="9142560" cy="6549840"/>
            <a:chOff x="0" y="115920"/>
            <a:chExt cx="9142560" cy="6549840"/>
          </a:xfrm>
        </p:grpSpPr>
        <p:grpSp>
          <p:nvGrpSpPr>
            <p:cNvPr id="6546" name="Group 3"/>
            <p:cNvGrpSpPr/>
            <p:nvPr/>
          </p:nvGrpSpPr>
          <p:grpSpPr>
            <a:xfrm>
              <a:off x="0" y="115920"/>
              <a:ext cx="9142560" cy="6549840"/>
              <a:chOff x="0" y="115920"/>
              <a:chExt cx="9142560" cy="6549840"/>
            </a:xfrm>
          </p:grpSpPr>
          <p:sp>
            <p:nvSpPr>
              <p:cNvPr id="654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4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2"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3"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θετικά στοιχεία της συνδιδασκαλίας έγκεινται στη μείωση του στιγματισμού και την αύξηση της κατανόησης και του σεβασμού  των αμεα από τους συμμαθητές τους  πράγμα που σηματοδοτεί την αποδοχή. Οι γονείς αντιλαμβάνονται τη σημαντικότητα της συνδιδασκαλίας για την ένταξη των παιδιών τους, ενώ δίνεται η ευκαιρία σε μαθητές  αμεα να συμβιώνουν και να συνυπάρχουν με τους συμμαθητές τους </a:t>
            </a:r>
            <a:endParaRPr b="0" lang="en-US" sz="2800" spc="-1" strike="noStrike">
              <a:solidFill>
                <a:srgbClr val="ffffff"/>
              </a:solidFill>
              <a:latin typeface="Times New Roman"/>
            </a:endParaRPr>
          </a:p>
        </p:txBody>
      </p:sp>
      <p:grpSp>
        <p:nvGrpSpPr>
          <p:cNvPr id="6554" name="Group 2"/>
          <p:cNvGrpSpPr/>
          <p:nvPr/>
        </p:nvGrpSpPr>
        <p:grpSpPr>
          <a:xfrm>
            <a:off x="0" y="115920"/>
            <a:ext cx="9142560" cy="6549840"/>
            <a:chOff x="0" y="115920"/>
            <a:chExt cx="9142560" cy="6549840"/>
          </a:xfrm>
        </p:grpSpPr>
        <p:grpSp>
          <p:nvGrpSpPr>
            <p:cNvPr id="6555" name="Group 3"/>
            <p:cNvGrpSpPr/>
            <p:nvPr/>
          </p:nvGrpSpPr>
          <p:grpSpPr>
            <a:xfrm>
              <a:off x="0" y="115920"/>
              <a:ext cx="9142560" cy="6549840"/>
              <a:chOff x="0" y="115920"/>
              <a:chExt cx="9142560" cy="6549840"/>
            </a:xfrm>
          </p:grpSpPr>
          <p:sp>
            <p:nvSpPr>
              <p:cNvPr id="655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5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0" name="Rectangle 8"/>
          <p:cNvSpPr/>
          <p:nvPr/>
        </p:nvSpPr>
        <p:spPr>
          <a:xfrm>
            <a:off x="611280" y="1484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1"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Arial"/>
                <a:ea typeface="Arial"/>
              </a:rPr>
              <a:t>ΘΕΣΜΙΚΟ ΠΛΑΙΣΙΟ ΣΥΝΔΙΔΑΣΚΑΛΙΑΣ-</a:t>
            </a:r>
            <a:br>
              <a:rPr sz="3200"/>
            </a:br>
            <a:br>
              <a:rPr sz="3200"/>
            </a:br>
            <a:r>
              <a:rPr b="1" lang="el-GR" sz="3200" spc="-1" strike="noStrike">
                <a:solidFill>
                  <a:srgbClr val="000000"/>
                </a:solidFill>
                <a:latin typeface="Arial"/>
                <a:ea typeface="Arial"/>
              </a:rPr>
              <a:t>ΘΕΩΡΗΤΙΚΕΣ ΠΡΟΣΕΓΓΙΣΕΙΣ</a:t>
            </a:r>
            <a:br>
              <a:rPr sz="3200"/>
            </a:br>
            <a:br>
              <a:rPr sz="3200"/>
            </a:br>
            <a:br>
              <a:rPr sz="3200"/>
            </a:br>
            <a:br>
              <a:rPr sz="3200"/>
            </a:br>
            <a:r>
              <a:rPr b="1" lang="el-GR" sz="1800" spc="-1" strike="noStrike">
                <a:solidFill>
                  <a:srgbClr val="000099"/>
                </a:solidFill>
                <a:latin typeface="Arial"/>
                <a:ea typeface="Arial"/>
              </a:rPr>
              <a:t>ΕΙΣΗΓΗΤΗΣ: Γούπος Θεόδωρος,  δρ. Παιδαγωγικών,</a:t>
            </a:r>
            <a:br>
              <a:rPr sz="3200"/>
            </a:br>
            <a:endParaRPr b="0" lang="en-US" sz="1800" spc="-1" strike="noStrike">
              <a:solidFill>
                <a:srgbClr val="ffffff"/>
              </a:solidFill>
              <a:latin typeface="Times New Roman"/>
            </a:endParaRPr>
          </a:p>
        </p:txBody>
      </p:sp>
      <p:grpSp>
        <p:nvGrpSpPr>
          <p:cNvPr id="6401" name="Group 2"/>
          <p:cNvGrpSpPr/>
          <p:nvPr/>
        </p:nvGrpSpPr>
        <p:grpSpPr>
          <a:xfrm>
            <a:off x="0" y="115920"/>
            <a:ext cx="9142560" cy="6549840"/>
            <a:chOff x="0" y="115920"/>
            <a:chExt cx="9142560" cy="6549840"/>
          </a:xfrm>
        </p:grpSpPr>
        <p:grpSp>
          <p:nvGrpSpPr>
            <p:cNvPr id="6402" name="Group 3"/>
            <p:cNvGrpSpPr/>
            <p:nvPr/>
          </p:nvGrpSpPr>
          <p:grpSpPr>
            <a:xfrm>
              <a:off x="0" y="115920"/>
              <a:ext cx="9142560" cy="6549840"/>
              <a:chOff x="0" y="115920"/>
              <a:chExt cx="9142560" cy="6549840"/>
            </a:xfrm>
          </p:grpSpPr>
          <p:sp>
            <p:nvSpPr>
              <p:cNvPr id="640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0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8"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2"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Ως συνδιδασκαλία </a:t>
            </a:r>
            <a:r>
              <a:rPr b="0" lang="el-GR" sz="2800" spc="-1" strike="noStrike">
                <a:solidFill>
                  <a:srgbClr val="000000"/>
                </a:solidFill>
                <a:latin typeface="Times New Roman"/>
              </a:rPr>
              <a:t>μπορεί να οριστεί </a:t>
            </a:r>
            <a:r>
              <a:rPr b="1" lang="el-GR" sz="2800" spc="-1" strike="noStrike">
                <a:solidFill>
                  <a:srgbClr val="000000"/>
                </a:solidFill>
                <a:latin typeface="Times New Roman"/>
              </a:rPr>
              <a:t>«</a:t>
            </a:r>
            <a:r>
              <a:rPr b="0" i="1" lang="el-GR" sz="2800" spc="-1" strike="noStrike">
                <a:solidFill>
                  <a:srgbClr val="000000"/>
                </a:solidFill>
                <a:latin typeface="Times New Roman"/>
              </a:rPr>
              <a:t>μία εκπαιδευτική προσέγγιση, στην οποία οι εκπαιδευτικοί της γενικής και της ειδικής αγωγής συνεργάζονται και διδάσκουν μαζί στο πλαίσιο της γενικής τάξης, την οποία διαχειρίζονται από κοινού και έχουν ως σκοπό την προσέγγιση από όλους τους μαθητές, με ειδικές εκπαιδευτικές ανάγκες και αναπηρίες αλλά και χωρίς» </a:t>
            </a:r>
            <a:r>
              <a:rPr b="0" lang="el-GR" sz="2800" spc="-1" strike="noStrike">
                <a:solidFill>
                  <a:srgbClr val="000000"/>
                </a:solidFill>
                <a:latin typeface="Times New Roman"/>
              </a:rPr>
              <a:t>(</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Bursuck</a:t>
            </a:r>
            <a:r>
              <a:rPr b="0" lang="el-GR" sz="2800" spc="-1" strike="noStrike">
                <a:solidFill>
                  <a:srgbClr val="000000"/>
                </a:solidFill>
                <a:latin typeface="Times New Roman"/>
              </a:rPr>
              <a:t>, 2009·</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2). </a:t>
            </a:r>
            <a:br>
              <a:rPr sz="2000"/>
            </a:br>
            <a:endParaRPr b="0" lang="en-US" sz="2800" spc="-1" strike="noStrike">
              <a:solidFill>
                <a:srgbClr val="ffffff"/>
              </a:solidFill>
              <a:latin typeface="Times New Roman"/>
            </a:endParaRPr>
          </a:p>
        </p:txBody>
      </p:sp>
      <p:grpSp>
        <p:nvGrpSpPr>
          <p:cNvPr id="6563" name="Group 2"/>
          <p:cNvGrpSpPr/>
          <p:nvPr/>
        </p:nvGrpSpPr>
        <p:grpSpPr>
          <a:xfrm>
            <a:off x="0" y="115920"/>
            <a:ext cx="9142560" cy="6549840"/>
            <a:chOff x="0" y="115920"/>
            <a:chExt cx="9142560" cy="6549840"/>
          </a:xfrm>
        </p:grpSpPr>
        <p:grpSp>
          <p:nvGrpSpPr>
            <p:cNvPr id="6564" name="Group 3"/>
            <p:cNvGrpSpPr/>
            <p:nvPr/>
          </p:nvGrpSpPr>
          <p:grpSpPr>
            <a:xfrm>
              <a:off x="0" y="115920"/>
              <a:ext cx="9142560" cy="6549840"/>
              <a:chOff x="0" y="115920"/>
              <a:chExt cx="9142560" cy="6549840"/>
            </a:xfrm>
          </p:grpSpPr>
          <p:sp>
            <p:nvSpPr>
              <p:cNvPr id="656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6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9" name="Rectangle 8"/>
          <p:cNvSpPr/>
          <p:nvPr/>
        </p:nvSpPr>
        <p:spPr>
          <a:xfrm>
            <a:off x="324000" y="1268280"/>
            <a:ext cx="8564400" cy="482472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0"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1"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όχοι της συνδιδασκαλίας</a:t>
            </a:r>
            <a:br>
              <a:rPr sz="2800"/>
            </a:br>
            <a:br>
              <a:rPr sz="2800"/>
            </a:br>
            <a:r>
              <a:rPr b="0" lang="el-GR" sz="2800" spc="-1" strike="noStrike">
                <a:solidFill>
                  <a:srgbClr val="000000"/>
                </a:solidFill>
                <a:latin typeface="Times New Roman"/>
              </a:rPr>
              <a:t>Αύξηση των εκπαιδευτικών επιλογών </a:t>
            </a:r>
            <a:br>
              <a:rPr sz="2800"/>
            </a:br>
            <a:r>
              <a:rPr b="0" lang="el-GR" sz="2800" spc="-1" strike="noStrike">
                <a:solidFill>
                  <a:srgbClr val="000000"/>
                </a:solidFill>
                <a:latin typeface="Times New Roman"/>
              </a:rPr>
              <a:t>για όλους τους μαθητές </a:t>
            </a:r>
            <a:br>
              <a:rPr sz="2800"/>
            </a:br>
            <a:br>
              <a:rPr sz="2800"/>
            </a:br>
            <a:r>
              <a:rPr b="0" lang="el-GR" sz="2800" spc="-1" strike="noStrike">
                <a:solidFill>
                  <a:srgbClr val="000000"/>
                </a:solidFill>
                <a:latin typeface="Times New Roman"/>
              </a:rPr>
              <a:t>Ενίσχυση της κοινωνικής συμμετοχής </a:t>
            </a:r>
            <a:br>
              <a:rPr sz="2800"/>
            </a:br>
            <a:r>
              <a:rPr b="0" lang="el-GR" sz="2800" spc="-1" strike="noStrike">
                <a:solidFill>
                  <a:srgbClr val="000000"/>
                </a:solidFill>
                <a:latin typeface="Times New Roman"/>
              </a:rPr>
              <a:t>των μαθητών αμεα</a:t>
            </a:r>
            <a:br>
              <a:rPr sz="2800"/>
            </a:br>
            <a:br>
              <a:rPr sz="2800"/>
            </a:br>
            <a:r>
              <a:rPr b="0" lang="el-GR" sz="2800" spc="-1" strike="noStrike">
                <a:solidFill>
                  <a:srgbClr val="000000"/>
                </a:solidFill>
                <a:latin typeface="Times New Roman"/>
              </a:rPr>
              <a:t>Βελτίωση της απόδοσης στο σχολείο </a:t>
            </a:r>
            <a:br>
              <a:rPr sz="2800"/>
            </a:br>
            <a:r>
              <a:rPr b="0" lang="el-GR" sz="2800" spc="-1" strike="noStrike">
                <a:solidFill>
                  <a:srgbClr val="000000"/>
                </a:solidFill>
                <a:latin typeface="Times New Roman"/>
              </a:rPr>
              <a:t>των μαθητών αμεα ,</a:t>
            </a:r>
            <a:br>
              <a:rPr sz="2000"/>
            </a:br>
            <a:endParaRPr b="0" lang="en-US" sz="2800" spc="-1" strike="noStrike">
              <a:solidFill>
                <a:srgbClr val="ffffff"/>
              </a:solidFill>
              <a:latin typeface="Times New Roman"/>
            </a:endParaRPr>
          </a:p>
        </p:txBody>
      </p:sp>
      <p:grpSp>
        <p:nvGrpSpPr>
          <p:cNvPr id="6572" name="Group 2"/>
          <p:cNvGrpSpPr/>
          <p:nvPr/>
        </p:nvGrpSpPr>
        <p:grpSpPr>
          <a:xfrm>
            <a:off x="0" y="115920"/>
            <a:ext cx="9142560" cy="6549840"/>
            <a:chOff x="0" y="115920"/>
            <a:chExt cx="9142560" cy="6549840"/>
          </a:xfrm>
        </p:grpSpPr>
        <p:grpSp>
          <p:nvGrpSpPr>
            <p:cNvPr id="6573" name="Group 3"/>
            <p:cNvGrpSpPr/>
            <p:nvPr/>
          </p:nvGrpSpPr>
          <p:grpSpPr>
            <a:xfrm>
              <a:off x="0" y="115920"/>
              <a:ext cx="9142560" cy="6549840"/>
              <a:chOff x="0" y="115920"/>
              <a:chExt cx="9142560" cy="6549840"/>
            </a:xfrm>
          </p:grpSpPr>
          <p:sp>
            <p:nvSpPr>
              <p:cNvPr id="657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7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9"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0" name="Text Box 1"/>
          <p:cNvSpPr/>
          <p:nvPr/>
        </p:nvSpPr>
        <p:spPr>
          <a:xfrm>
            <a:off x="25092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αμεα παραμένουν στα πλαίσια της γενικής τάξης, και η συνδιδασκαλία μπορεί να επιστρατεύεται είτε σε περιπτώσεις μαθητών με ελαφριές ή μετρίου επιπέδου αναπηρίες </a:t>
            </a:r>
            <a:br>
              <a:rPr sz="2800"/>
            </a:br>
            <a:r>
              <a:rPr b="0" lang="el-GR" sz="2800" spc="-1" strike="noStrike">
                <a:solidFill>
                  <a:srgbClr val="000000"/>
                </a:solidFill>
                <a:latin typeface="Times New Roman"/>
              </a:rPr>
              <a:t>ή να αποτελεί υποστηρικτική δομή για μαθητές με σοβαρές αναπηρίες. </a:t>
            </a:r>
            <a:endParaRPr b="0" lang="en-US" sz="2800" spc="-1" strike="noStrike">
              <a:solidFill>
                <a:srgbClr val="ffffff"/>
              </a:solidFill>
              <a:latin typeface="Times New Roman"/>
            </a:endParaRPr>
          </a:p>
        </p:txBody>
      </p:sp>
      <p:grpSp>
        <p:nvGrpSpPr>
          <p:cNvPr id="6581" name="Group 2"/>
          <p:cNvGrpSpPr/>
          <p:nvPr/>
        </p:nvGrpSpPr>
        <p:grpSpPr>
          <a:xfrm>
            <a:off x="0" y="115920"/>
            <a:ext cx="9142560" cy="6549840"/>
            <a:chOff x="0" y="115920"/>
            <a:chExt cx="9142560" cy="6549840"/>
          </a:xfrm>
        </p:grpSpPr>
        <p:grpSp>
          <p:nvGrpSpPr>
            <p:cNvPr id="6582" name="Group 3"/>
            <p:cNvGrpSpPr/>
            <p:nvPr/>
          </p:nvGrpSpPr>
          <p:grpSpPr>
            <a:xfrm>
              <a:off x="0" y="115920"/>
              <a:ext cx="9142560" cy="6549840"/>
              <a:chOff x="0" y="115920"/>
              <a:chExt cx="9142560" cy="6549840"/>
            </a:xfrm>
          </p:grpSpPr>
          <p:sp>
            <p:nvSpPr>
              <p:cNvPr id="658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8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8"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9" name="Text Box 1"/>
          <p:cNvSpPr/>
          <p:nvPr/>
        </p:nvSpPr>
        <p:spPr>
          <a:xfrm>
            <a:off x="25092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α πλαίσια της συμπεριληπτικής εκπαίδευσης </a:t>
            </a:r>
            <a:br>
              <a:rPr sz="2800"/>
            </a:br>
            <a:r>
              <a:rPr b="0" lang="el-GR" sz="2800" spc="-1" strike="noStrike">
                <a:solidFill>
                  <a:srgbClr val="000000"/>
                </a:solidFill>
                <a:latin typeface="Times New Roman"/>
              </a:rPr>
              <a:t>και της διαφοροποιημένης διδασκαλίας, </a:t>
            </a:r>
            <a:br>
              <a:rPr sz="2800"/>
            </a:br>
            <a:r>
              <a:rPr b="0" lang="el-GR" sz="2800" spc="-1" strike="noStrike">
                <a:solidFill>
                  <a:srgbClr val="000000"/>
                </a:solidFill>
                <a:latin typeface="Times New Roman"/>
              </a:rPr>
              <a:t>η συνδιδασκαλία έρχεται και παρέχει δυνατότητες και υποστηρικτική βοήθεια στους μαθητές </a:t>
            </a:r>
            <a:br>
              <a:rPr sz="2800"/>
            </a:br>
            <a:r>
              <a:rPr b="0" lang="el-GR" sz="2800" spc="-1" strike="noStrike">
                <a:solidFill>
                  <a:srgbClr val="000000"/>
                </a:solidFill>
                <a:latin typeface="Times New Roman"/>
              </a:rPr>
              <a:t>με ειδικές εκπαιδευτικές ανάγκες και </a:t>
            </a:r>
            <a:br>
              <a:rPr sz="2800"/>
            </a:br>
            <a:r>
              <a:rPr b="0" lang="el-GR" sz="2800" spc="-1" strike="noStrike">
                <a:solidFill>
                  <a:srgbClr val="000000"/>
                </a:solidFill>
                <a:latin typeface="Times New Roman"/>
              </a:rPr>
              <a:t>αναπηρία μέσα στη γενική τάξη . </a:t>
            </a:r>
            <a:endParaRPr b="0" lang="en-US" sz="2800" spc="-1" strike="noStrike">
              <a:solidFill>
                <a:srgbClr val="ffffff"/>
              </a:solidFill>
              <a:latin typeface="Times New Roman"/>
            </a:endParaRPr>
          </a:p>
        </p:txBody>
      </p:sp>
      <p:grpSp>
        <p:nvGrpSpPr>
          <p:cNvPr id="6590" name="Group 2"/>
          <p:cNvGrpSpPr/>
          <p:nvPr/>
        </p:nvGrpSpPr>
        <p:grpSpPr>
          <a:xfrm>
            <a:off x="0" y="115920"/>
            <a:ext cx="9142560" cy="6549840"/>
            <a:chOff x="0" y="115920"/>
            <a:chExt cx="9142560" cy="6549840"/>
          </a:xfrm>
        </p:grpSpPr>
        <p:grpSp>
          <p:nvGrpSpPr>
            <p:cNvPr id="6591" name="Group 3"/>
            <p:cNvGrpSpPr/>
            <p:nvPr/>
          </p:nvGrpSpPr>
          <p:grpSpPr>
            <a:xfrm>
              <a:off x="0" y="115920"/>
              <a:ext cx="9142560" cy="6549840"/>
              <a:chOff x="0" y="115920"/>
              <a:chExt cx="9142560" cy="6549840"/>
            </a:xfrm>
          </p:grpSpPr>
          <p:sp>
            <p:nvSpPr>
              <p:cNvPr id="659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59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7"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8" name="Text Box 1"/>
          <p:cNvSpPr/>
          <p:nvPr/>
        </p:nvSpPr>
        <p:spPr>
          <a:xfrm>
            <a:off x="25092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a:t>
            </a:r>
            <a:r>
              <a:rPr b="1" lang="el-GR" sz="2800" spc="-1" strike="noStrike">
                <a:solidFill>
                  <a:srgbClr val="000000"/>
                </a:solidFill>
                <a:latin typeface="Times New Roman"/>
              </a:rPr>
              <a:t>συνεργασία ειδικού και γενικού παιδαγωγού </a:t>
            </a:r>
            <a:r>
              <a:rPr b="0" lang="el-GR" sz="2800" spc="-1" strike="noStrike">
                <a:solidFill>
                  <a:srgbClr val="000000"/>
                </a:solidFill>
                <a:latin typeface="Times New Roman"/>
              </a:rPr>
              <a:t>αποτελεί πρόκληση για την εκπαιδευτική κοινότητα, </a:t>
            </a:r>
            <a:br>
              <a:rPr sz="2800"/>
            </a:br>
            <a:r>
              <a:rPr b="0" lang="el-GR" sz="2800" spc="-1" strike="noStrike">
                <a:solidFill>
                  <a:srgbClr val="000000"/>
                </a:solidFill>
                <a:latin typeface="Times New Roman"/>
              </a:rPr>
              <a:t>καθώς απαιτεί το σεβασμό των εκπαιδευτικών στις σύγχρονες αντιλήψεις, με σκοπό να δημιουργεί ένα περιβάλλον μάθησης που θα ευνοεί την ανάπτυξη δεξιοτήτων, γνώσεων και στάσεων </a:t>
            </a:r>
            <a:br>
              <a:rPr sz="2800"/>
            </a:br>
            <a:r>
              <a:rPr b="0" lang="el-GR" sz="2800" spc="-1" strike="noStrike">
                <a:solidFill>
                  <a:srgbClr val="000000"/>
                </a:solidFill>
                <a:latin typeface="Times New Roman"/>
              </a:rPr>
              <a:t>από την πλευρά των μαθητών.</a:t>
            </a:r>
            <a:endParaRPr b="0" lang="en-US" sz="2800" spc="-1" strike="noStrike">
              <a:solidFill>
                <a:srgbClr val="ffffff"/>
              </a:solidFill>
              <a:latin typeface="Times New Roman"/>
            </a:endParaRPr>
          </a:p>
        </p:txBody>
      </p:sp>
      <p:grpSp>
        <p:nvGrpSpPr>
          <p:cNvPr id="6599" name="Group 2"/>
          <p:cNvGrpSpPr/>
          <p:nvPr/>
        </p:nvGrpSpPr>
        <p:grpSpPr>
          <a:xfrm>
            <a:off x="0" y="115920"/>
            <a:ext cx="9142560" cy="6549840"/>
            <a:chOff x="0" y="115920"/>
            <a:chExt cx="9142560" cy="6549840"/>
          </a:xfrm>
        </p:grpSpPr>
        <p:grpSp>
          <p:nvGrpSpPr>
            <p:cNvPr id="6600" name="Group 3"/>
            <p:cNvGrpSpPr/>
            <p:nvPr/>
          </p:nvGrpSpPr>
          <p:grpSpPr>
            <a:xfrm>
              <a:off x="0" y="115920"/>
              <a:ext cx="9142560" cy="6549840"/>
              <a:chOff x="0" y="115920"/>
              <a:chExt cx="9142560" cy="6549840"/>
            </a:xfrm>
          </p:grpSpPr>
          <p:sp>
            <p:nvSpPr>
              <p:cNvPr id="660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0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6"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7" name="Text Box 1"/>
          <p:cNvSpPr/>
          <p:nvPr/>
        </p:nvSpPr>
        <p:spPr>
          <a:xfrm>
            <a:off x="25092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απαιτείται  να χτίσουν σχέσεις εμπιστοσύνης μεταξύ τους , να είναι ανοιχτοί </a:t>
            </a:r>
            <a:br>
              <a:rPr sz="2800"/>
            </a:br>
            <a:r>
              <a:rPr b="0" lang="el-GR" sz="2800" spc="-1" strike="noStrike">
                <a:solidFill>
                  <a:srgbClr val="000000"/>
                </a:solidFill>
                <a:latin typeface="Times New Roman"/>
              </a:rPr>
              <a:t>στο να υιοθετήσουν διαφορετικά στυλ διδασκαλίας </a:t>
            </a:r>
            <a:br>
              <a:rPr sz="2800"/>
            </a:br>
            <a:r>
              <a:rPr b="0" lang="el-GR" sz="2800" spc="-1" strike="noStrike">
                <a:solidFill>
                  <a:srgbClr val="000000"/>
                </a:solidFill>
                <a:latin typeface="Times New Roman"/>
              </a:rPr>
              <a:t>από κάποιο συνάδελφό τους .</a:t>
            </a:r>
            <a:endParaRPr b="0" lang="en-US" sz="2800" spc="-1" strike="noStrike">
              <a:solidFill>
                <a:srgbClr val="ffffff"/>
              </a:solidFill>
              <a:latin typeface="Times New Roman"/>
            </a:endParaRPr>
          </a:p>
        </p:txBody>
      </p:sp>
      <p:grpSp>
        <p:nvGrpSpPr>
          <p:cNvPr id="6608" name="Group 2"/>
          <p:cNvGrpSpPr/>
          <p:nvPr/>
        </p:nvGrpSpPr>
        <p:grpSpPr>
          <a:xfrm>
            <a:off x="0" y="115920"/>
            <a:ext cx="9142560" cy="6549840"/>
            <a:chOff x="0" y="115920"/>
            <a:chExt cx="9142560" cy="6549840"/>
          </a:xfrm>
        </p:grpSpPr>
        <p:grpSp>
          <p:nvGrpSpPr>
            <p:cNvPr id="6609" name="Group 3"/>
            <p:cNvGrpSpPr/>
            <p:nvPr/>
          </p:nvGrpSpPr>
          <p:grpSpPr>
            <a:xfrm>
              <a:off x="0" y="115920"/>
              <a:ext cx="9142560" cy="6549840"/>
              <a:chOff x="0" y="115920"/>
              <a:chExt cx="9142560" cy="6549840"/>
            </a:xfrm>
          </p:grpSpPr>
          <p:sp>
            <p:nvSpPr>
              <p:cNvPr id="661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1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5"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6"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ν-διδάσκαλοι είναι σημαντικό να εργάζονται σε πλαίσια διαφοροποιημένης διδασκαλίας και να επιστρατεύουν εποικοδομητικές προσεγγίσεις, ώστε να ενισχύουν τους μαθητές αμεα στη γενική τάξη να χειρίζονται με κατάλληλο τρόπο εποπτικά μέσα διδασκαλίας και τα εκπαιδευτικά υλικά.  Ακόμη, είναι αποτελεσματικό οι εκπαιδευτικοί να χρησιμοποιούν ΤΠΕ και νοητικά σχήματα και εργαλεία στη γενική τάξη με στόχο την ενίσχυση της συμμετοχής και την ανταπόκριση στις μαθησιακές ανάγκες των μαθητών αμεα. </a:t>
            </a:r>
            <a:endParaRPr b="0" lang="en-US" sz="2800" spc="-1" strike="noStrike">
              <a:solidFill>
                <a:srgbClr val="ffffff"/>
              </a:solidFill>
              <a:latin typeface="Times New Roman"/>
            </a:endParaRPr>
          </a:p>
        </p:txBody>
      </p:sp>
      <p:grpSp>
        <p:nvGrpSpPr>
          <p:cNvPr id="6617" name="Group 2"/>
          <p:cNvGrpSpPr/>
          <p:nvPr/>
        </p:nvGrpSpPr>
        <p:grpSpPr>
          <a:xfrm>
            <a:off x="0" y="115920"/>
            <a:ext cx="9142560" cy="6549840"/>
            <a:chOff x="0" y="115920"/>
            <a:chExt cx="9142560" cy="6549840"/>
          </a:xfrm>
        </p:grpSpPr>
        <p:grpSp>
          <p:nvGrpSpPr>
            <p:cNvPr id="6618" name="Group 3"/>
            <p:cNvGrpSpPr/>
            <p:nvPr/>
          </p:nvGrpSpPr>
          <p:grpSpPr>
            <a:xfrm>
              <a:off x="0" y="115920"/>
              <a:ext cx="9142560" cy="6549840"/>
              <a:chOff x="0" y="115920"/>
              <a:chExt cx="9142560" cy="6549840"/>
            </a:xfrm>
          </p:grpSpPr>
          <p:sp>
            <p:nvSpPr>
              <p:cNvPr id="661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2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4"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5"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είναι ο ιδανικός τρόπος ως τρόπος ένταξης των μαθητών αμεα. </a:t>
            </a:r>
            <a:br>
              <a:rPr sz="2800"/>
            </a:br>
            <a:r>
              <a:rPr b="0" lang="el-GR" sz="2800" spc="-1" strike="noStrike">
                <a:solidFill>
                  <a:srgbClr val="000000"/>
                </a:solidFill>
                <a:latin typeface="Times New Roman"/>
              </a:rPr>
              <a:t> Οι εκπαιδευτικοί έχουν τη δυνατότητα να παρέχουν ευκαιρίες ,ώστε όλοι οι μαθητές να αλληλεπιδρούν κοινωνικά μεταξύ τους και να καλλιεργείται αμοιβαίος σεβασμός και αλληλο-αποδοχή  στις μεταξύ τους σχέσεις. </a:t>
            </a:r>
            <a:endParaRPr b="0" lang="en-US" sz="2800" spc="-1" strike="noStrike">
              <a:solidFill>
                <a:srgbClr val="ffffff"/>
              </a:solidFill>
              <a:latin typeface="Times New Roman"/>
            </a:endParaRPr>
          </a:p>
        </p:txBody>
      </p:sp>
      <p:grpSp>
        <p:nvGrpSpPr>
          <p:cNvPr id="6626" name="Group 2"/>
          <p:cNvGrpSpPr/>
          <p:nvPr/>
        </p:nvGrpSpPr>
        <p:grpSpPr>
          <a:xfrm>
            <a:off x="0" y="115920"/>
            <a:ext cx="9142560" cy="6549840"/>
            <a:chOff x="0" y="115920"/>
            <a:chExt cx="9142560" cy="6549840"/>
          </a:xfrm>
        </p:grpSpPr>
        <p:grpSp>
          <p:nvGrpSpPr>
            <p:cNvPr id="6627" name="Group 3"/>
            <p:cNvGrpSpPr/>
            <p:nvPr/>
          </p:nvGrpSpPr>
          <p:grpSpPr>
            <a:xfrm>
              <a:off x="0" y="115920"/>
              <a:ext cx="9142560" cy="6549840"/>
              <a:chOff x="0" y="115920"/>
              <a:chExt cx="9142560" cy="6549840"/>
            </a:xfrm>
          </p:grpSpPr>
          <p:sp>
            <p:nvSpPr>
              <p:cNvPr id="662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3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3"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4"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0" lang="el-GR" sz="2400" spc="-1" strike="noStrike">
                <a:solidFill>
                  <a:srgbClr val="000000"/>
                </a:solidFill>
                <a:latin typeface="Times New Roman"/>
              </a:rPr>
              <a:t>Μέσα από την συνδιδασκαλία ικανοποιούνται ποικίλες μαθησιακές ανάγκες και εφαρμόζονται  μαθησιακά στυλ. </a:t>
            </a:r>
            <a:br>
              <a:rPr sz="2400"/>
            </a:br>
            <a:br>
              <a:rPr sz="2400"/>
            </a:br>
            <a:r>
              <a:rPr b="0" lang="el-GR" sz="2400" spc="-1" strike="noStrike">
                <a:solidFill>
                  <a:srgbClr val="000000"/>
                </a:solidFill>
                <a:latin typeface="Times New Roman"/>
              </a:rPr>
              <a:t> Παρέχονται κατά κανόνα  υψηλότερου  επιπέδου </a:t>
            </a:r>
            <a:br>
              <a:rPr sz="2400"/>
            </a:br>
            <a:r>
              <a:rPr b="0" lang="el-GR" sz="2400" spc="-1" strike="noStrike">
                <a:solidFill>
                  <a:srgbClr val="000000"/>
                </a:solidFill>
                <a:latin typeface="Times New Roman"/>
              </a:rPr>
              <a:t>εκπαιδευτικές υπηρεσίες με θετικά αποτελέσματα και για  όλα τα παιδιά και κυρίως και για τα χαρισματικά παιδιά </a:t>
            </a:r>
            <a:br>
              <a:rPr sz="2400"/>
            </a:br>
            <a:r>
              <a:rPr b="0" lang="el-GR" sz="2400" spc="-1" strike="noStrike">
                <a:solidFill>
                  <a:srgbClr val="000000"/>
                </a:solidFill>
                <a:latin typeface="Times New Roman"/>
              </a:rPr>
              <a:t>και για παιδιά  που βρίσκονται στον κίνδυνο να αποτύχουν. </a:t>
            </a:r>
            <a:endParaRPr b="0" lang="en-US" sz="2400" spc="-1" strike="noStrike">
              <a:solidFill>
                <a:srgbClr val="ffffff"/>
              </a:solidFill>
              <a:latin typeface="Times New Roman"/>
            </a:endParaRPr>
          </a:p>
        </p:txBody>
      </p:sp>
      <p:grpSp>
        <p:nvGrpSpPr>
          <p:cNvPr id="6635" name="Group 2"/>
          <p:cNvGrpSpPr/>
          <p:nvPr/>
        </p:nvGrpSpPr>
        <p:grpSpPr>
          <a:xfrm>
            <a:off x="0" y="115920"/>
            <a:ext cx="9142560" cy="6549840"/>
            <a:chOff x="0" y="115920"/>
            <a:chExt cx="9142560" cy="6549840"/>
          </a:xfrm>
        </p:grpSpPr>
        <p:grpSp>
          <p:nvGrpSpPr>
            <p:cNvPr id="6636" name="Group 3"/>
            <p:cNvGrpSpPr/>
            <p:nvPr/>
          </p:nvGrpSpPr>
          <p:grpSpPr>
            <a:xfrm>
              <a:off x="0" y="115920"/>
              <a:ext cx="9142560" cy="6549840"/>
              <a:chOff x="0" y="115920"/>
              <a:chExt cx="9142560" cy="6549840"/>
            </a:xfrm>
          </p:grpSpPr>
          <p:sp>
            <p:nvSpPr>
              <p:cNvPr id="663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3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2"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3"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οσθέτως, βελτιώνεται ο τρόπος πρόσβασης των μαθητών στη σχολική μάθηση,  εξειδικεύεται η παροχή διδακτικών οδηγιών, ενώ είναι δυνατό να παρέχεται εξατομικευμένη διδασκαλία  </a:t>
            </a:r>
            <a:br>
              <a:rPr sz="2800"/>
            </a:br>
            <a:r>
              <a:rPr b="0" lang="el-GR" sz="2800" spc="-1" strike="noStrike">
                <a:solidFill>
                  <a:srgbClr val="000000"/>
                </a:solidFill>
                <a:latin typeface="Times New Roman"/>
              </a:rPr>
              <a:t>και περισσότερος χρόνος για εργασίες. </a:t>
            </a:r>
            <a:br>
              <a:rPr sz="2800"/>
            </a:br>
            <a:br>
              <a:rPr sz="2800"/>
            </a:br>
            <a:br>
              <a:rPr sz="2000"/>
            </a:br>
            <a:endParaRPr b="0" lang="en-US" sz="2800" spc="-1" strike="noStrike">
              <a:solidFill>
                <a:srgbClr val="ffffff"/>
              </a:solidFill>
              <a:latin typeface="Times New Roman"/>
            </a:endParaRPr>
          </a:p>
        </p:txBody>
      </p:sp>
      <p:grpSp>
        <p:nvGrpSpPr>
          <p:cNvPr id="6644" name="Group 2"/>
          <p:cNvGrpSpPr/>
          <p:nvPr/>
        </p:nvGrpSpPr>
        <p:grpSpPr>
          <a:xfrm>
            <a:off x="0" y="115920"/>
            <a:ext cx="9142560" cy="6549840"/>
            <a:chOff x="0" y="115920"/>
            <a:chExt cx="9142560" cy="6549840"/>
          </a:xfrm>
        </p:grpSpPr>
        <p:grpSp>
          <p:nvGrpSpPr>
            <p:cNvPr id="6645" name="Group 3"/>
            <p:cNvGrpSpPr/>
            <p:nvPr/>
          </p:nvGrpSpPr>
          <p:grpSpPr>
            <a:xfrm>
              <a:off x="0" y="115920"/>
              <a:ext cx="9142560" cy="6549840"/>
              <a:chOff x="0" y="115920"/>
              <a:chExt cx="9142560" cy="6549840"/>
            </a:xfrm>
          </p:grpSpPr>
          <p:sp>
            <p:nvSpPr>
              <p:cNvPr id="664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4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1"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κπαίδευση  των ατόμων με ειδικές εκπαιδευτικές ανάγκες</a:t>
            </a:r>
            <a:r>
              <a:rPr b="0" lang="en-US" sz="2800" spc="-1" strike="noStrike">
                <a:solidFill>
                  <a:srgbClr val="000000"/>
                </a:solidFill>
                <a:latin typeface="Times New Roman"/>
              </a:rPr>
              <a:t>(</a:t>
            </a:r>
            <a:r>
              <a:rPr b="0" lang="el-GR" sz="2800" spc="-1" strike="noStrike">
                <a:solidFill>
                  <a:srgbClr val="000000"/>
                </a:solidFill>
                <a:latin typeface="Times New Roman"/>
              </a:rPr>
              <a:t>αμεα) απασχολεί τη διεθνή κοινότητα όλο και περισσότερο τα τελευταία χρόνια. </a:t>
            </a:r>
            <a:endParaRPr b="0" lang="en-US" sz="2800" spc="-1" strike="noStrike">
              <a:solidFill>
                <a:srgbClr val="ffffff"/>
              </a:solidFill>
              <a:latin typeface="Times New Roman"/>
            </a:endParaRPr>
          </a:p>
        </p:txBody>
      </p:sp>
      <p:grpSp>
        <p:nvGrpSpPr>
          <p:cNvPr id="6410" name="Group 2"/>
          <p:cNvGrpSpPr/>
          <p:nvPr/>
        </p:nvGrpSpPr>
        <p:grpSpPr>
          <a:xfrm>
            <a:off x="0" y="115920"/>
            <a:ext cx="9142560" cy="6549840"/>
            <a:chOff x="0" y="115920"/>
            <a:chExt cx="9142560" cy="6549840"/>
          </a:xfrm>
        </p:grpSpPr>
        <p:grpSp>
          <p:nvGrpSpPr>
            <p:cNvPr id="6411" name="Group 3"/>
            <p:cNvGrpSpPr/>
            <p:nvPr/>
          </p:nvGrpSpPr>
          <p:grpSpPr>
            <a:xfrm>
              <a:off x="0" y="115920"/>
              <a:ext cx="9142560" cy="6549840"/>
              <a:chOff x="0" y="115920"/>
              <a:chExt cx="9142560" cy="6549840"/>
            </a:xfrm>
          </p:grpSpPr>
          <p:sp>
            <p:nvSpPr>
              <p:cNvPr id="641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1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7"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2"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Οι συν-διδασκάλοι μοιράζονται τις δυσκολίες τις αποτυχίες  καθώς και τις συναδελφικές ανησυχίες, πράγμα πολύ θετικό για την επαγγελματική τους εξέλιξη, καθώς έχουν τη δυνατότητα να ανταλλάσσουν απόψεις σχετικά με διδακτικές τεχνικές και φιλοσοφίες εκπαίδευσης . </a:t>
            </a:r>
            <a:br>
              <a:rPr sz="2000"/>
            </a:br>
            <a:endParaRPr b="0" lang="en-US" sz="2800" spc="-1" strike="noStrike">
              <a:solidFill>
                <a:srgbClr val="ffffff"/>
              </a:solidFill>
              <a:latin typeface="Times New Roman"/>
            </a:endParaRPr>
          </a:p>
        </p:txBody>
      </p:sp>
      <p:grpSp>
        <p:nvGrpSpPr>
          <p:cNvPr id="6653" name="Group 2"/>
          <p:cNvGrpSpPr/>
          <p:nvPr/>
        </p:nvGrpSpPr>
        <p:grpSpPr>
          <a:xfrm>
            <a:off x="0" y="115920"/>
            <a:ext cx="9142560" cy="6549840"/>
            <a:chOff x="0" y="115920"/>
            <a:chExt cx="9142560" cy="6549840"/>
          </a:xfrm>
        </p:grpSpPr>
        <p:grpSp>
          <p:nvGrpSpPr>
            <p:cNvPr id="6654" name="Group 3"/>
            <p:cNvGrpSpPr/>
            <p:nvPr/>
          </p:nvGrpSpPr>
          <p:grpSpPr>
            <a:xfrm>
              <a:off x="0" y="115920"/>
              <a:ext cx="9142560" cy="6549840"/>
              <a:chOff x="0" y="115920"/>
              <a:chExt cx="9142560" cy="6549840"/>
            </a:xfrm>
          </p:grpSpPr>
          <p:sp>
            <p:nvSpPr>
              <p:cNvPr id="665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5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0"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1"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Χαρακτηριστικά που διέπουν την συνδιδασκαλία</a:t>
            </a:r>
            <a:br>
              <a:rPr sz="2800"/>
            </a:br>
            <a:br>
              <a:rPr sz="2800"/>
            </a:br>
            <a:r>
              <a:rPr b="0" lang="el-GR" sz="2800" spc="-1" strike="noStrike">
                <a:solidFill>
                  <a:srgbClr val="000000"/>
                </a:solidFill>
                <a:latin typeface="Times New Roman"/>
              </a:rPr>
              <a:t>  Είναι απαραίτητο να οριοθετηθούν τα χαρακτηριστικά στοιχεία που διέπουν τη συνδιδασκαλία. </a:t>
            </a:r>
            <a:br>
              <a:rPr sz="2800"/>
            </a:br>
            <a:r>
              <a:rPr b="0" lang="el-GR" sz="2800" spc="-1" strike="noStrike">
                <a:solidFill>
                  <a:srgbClr val="000000"/>
                </a:solidFill>
                <a:latin typeface="Times New Roman"/>
              </a:rPr>
              <a:t>Πιο αναλυτικά, ουσιαστική συνδιδασκαλία έχουμε όταν οι μαθητές διδάσκονται από εκπαιδευτικούς(γενικής αγωγής και ειδικής αγωγής)ή από εκπαιδευτικούς διαφορετικών ειδικοτήτων, </a:t>
            </a:r>
            <a:br>
              <a:rPr sz="2800"/>
            </a:br>
            <a:r>
              <a:rPr b="0" lang="el-GR" sz="2800" spc="-1" strike="noStrike">
                <a:solidFill>
                  <a:srgbClr val="000000"/>
                </a:solidFill>
                <a:latin typeface="Times New Roman"/>
              </a:rPr>
              <a:t>οι οποίοι συνεργάζονται ισότιμα και κανένας δεν αποτελεί βοηθητικό και υποστηρικτικό  προσωπικό</a:t>
            </a:r>
            <a:endParaRPr b="0" lang="en-US" sz="2800" spc="-1" strike="noStrike">
              <a:solidFill>
                <a:srgbClr val="ffffff"/>
              </a:solidFill>
              <a:latin typeface="Times New Roman"/>
            </a:endParaRPr>
          </a:p>
        </p:txBody>
      </p:sp>
      <p:grpSp>
        <p:nvGrpSpPr>
          <p:cNvPr id="6662" name="Group 2"/>
          <p:cNvGrpSpPr/>
          <p:nvPr/>
        </p:nvGrpSpPr>
        <p:grpSpPr>
          <a:xfrm>
            <a:off x="0" y="115920"/>
            <a:ext cx="9142560" cy="6549840"/>
            <a:chOff x="0" y="115920"/>
            <a:chExt cx="9142560" cy="6549840"/>
          </a:xfrm>
        </p:grpSpPr>
        <p:grpSp>
          <p:nvGrpSpPr>
            <p:cNvPr id="6663" name="Group 3"/>
            <p:cNvGrpSpPr/>
            <p:nvPr/>
          </p:nvGrpSpPr>
          <p:grpSpPr>
            <a:xfrm>
              <a:off x="0" y="115920"/>
              <a:ext cx="9142560" cy="6549840"/>
              <a:chOff x="0" y="115920"/>
              <a:chExt cx="9142560" cy="6549840"/>
            </a:xfrm>
          </p:grpSpPr>
          <p:sp>
            <p:nvSpPr>
              <p:cNvPr id="666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6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9"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0"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συν-διδάσκαλοι πρέπει</a:t>
            </a:r>
            <a:r>
              <a:rPr b="0"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να μοιράζονται την ευθύνη της διδασκαλία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να συνεισφέρουν στην επίλυση προβλημάτων συμπεριφοράς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να  συμμετέχουν από κοινού στην οργάνωση των ομάδων και </a:t>
            </a:r>
            <a:br>
              <a:rPr sz="2800"/>
            </a:br>
            <a:r>
              <a:rPr b="0" lang="el-GR" sz="2800" spc="-1" strike="noStrike">
                <a:solidFill>
                  <a:srgbClr val="000000"/>
                </a:solidFill>
                <a:latin typeface="Times New Roman"/>
              </a:rPr>
              <a:t>να  συμμετέχουν από κοινού στην κατανομή των ρόλων στην ομάδα, </a:t>
            </a:r>
            <a:br>
              <a:rPr sz="2000"/>
            </a:br>
            <a:endParaRPr b="0" lang="en-US" sz="2800" spc="-1" strike="noStrike">
              <a:solidFill>
                <a:srgbClr val="ffffff"/>
              </a:solidFill>
              <a:latin typeface="Times New Roman"/>
            </a:endParaRPr>
          </a:p>
        </p:txBody>
      </p:sp>
      <p:grpSp>
        <p:nvGrpSpPr>
          <p:cNvPr id="6671" name="Group 2"/>
          <p:cNvGrpSpPr/>
          <p:nvPr/>
        </p:nvGrpSpPr>
        <p:grpSpPr>
          <a:xfrm>
            <a:off x="0" y="115920"/>
            <a:ext cx="9142560" cy="6549840"/>
            <a:chOff x="0" y="115920"/>
            <a:chExt cx="9142560" cy="6549840"/>
          </a:xfrm>
        </p:grpSpPr>
        <p:grpSp>
          <p:nvGrpSpPr>
            <p:cNvPr id="6672" name="Group 3"/>
            <p:cNvGrpSpPr/>
            <p:nvPr/>
          </p:nvGrpSpPr>
          <p:grpSpPr>
            <a:xfrm>
              <a:off x="0" y="115920"/>
              <a:ext cx="9142560" cy="6549840"/>
              <a:chOff x="0" y="115920"/>
              <a:chExt cx="9142560" cy="6549840"/>
            </a:xfrm>
          </p:grpSpPr>
          <p:sp>
            <p:nvSpPr>
              <p:cNvPr id="667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7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8"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9"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επιβάλει </a:t>
            </a:r>
            <a:br>
              <a:rPr sz="2800"/>
            </a:br>
            <a:r>
              <a:rPr b="0" lang="el-GR" sz="2800" spc="-1" strike="noStrike">
                <a:solidFill>
                  <a:srgbClr val="000000"/>
                </a:solidFill>
                <a:latin typeface="Times New Roman"/>
              </a:rPr>
              <a:t>η διδασκαλία όλων των μαθητών, συμπεριλαμβανομένων και αυτών με ειδικές εκπαιδευτικές ανάγκες(αμεα)  να γίνεται </a:t>
            </a:r>
            <a:br>
              <a:rPr sz="2800"/>
            </a:br>
            <a:r>
              <a:rPr b="0" lang="el-GR" sz="2800" spc="-1" strike="noStrike">
                <a:solidFill>
                  <a:srgbClr val="000000"/>
                </a:solidFill>
                <a:latin typeface="Times New Roman"/>
              </a:rPr>
              <a:t>στον ίδιο φυσικό χώρο, </a:t>
            </a:r>
            <a:br>
              <a:rPr sz="2800"/>
            </a:br>
            <a:r>
              <a:rPr b="0" lang="el-GR" sz="2800" spc="-1" strike="noStrike">
                <a:solidFill>
                  <a:srgbClr val="000000"/>
                </a:solidFill>
                <a:latin typeface="Times New Roman"/>
              </a:rPr>
              <a:t>δηλαδή στην ίδια αίθουσα διδασκαλίας και </a:t>
            </a:r>
            <a:br>
              <a:rPr sz="2800"/>
            </a:br>
            <a:r>
              <a:rPr b="0" lang="el-GR" sz="2800" spc="-1" strike="noStrike">
                <a:solidFill>
                  <a:srgbClr val="000000"/>
                </a:solidFill>
                <a:latin typeface="Times New Roman"/>
              </a:rPr>
              <a:t>να μετακινείται αν χρειάζεται ο ειδικός παιδαγωγός για λίγο με τους μαθητές αμεα σε κάποια άλλη αίθουσα, </a:t>
            </a:r>
            <a:br>
              <a:rPr sz="2800"/>
            </a:br>
            <a:r>
              <a:rPr b="0" lang="el-GR" sz="2800" spc="-1" strike="noStrike">
                <a:solidFill>
                  <a:srgbClr val="000000"/>
                </a:solidFill>
                <a:latin typeface="Times New Roman"/>
              </a:rPr>
              <a:t>ειδικά διαμορφωμένη,  που παρέχει </a:t>
            </a:r>
            <a:br>
              <a:rPr sz="2800"/>
            </a:br>
            <a:r>
              <a:rPr b="0" lang="el-GR" sz="2800" spc="-1" strike="noStrike">
                <a:solidFill>
                  <a:srgbClr val="000000"/>
                </a:solidFill>
                <a:latin typeface="Times New Roman"/>
              </a:rPr>
              <a:t>τα ανάλογα εποπτικά υλικά και μέσα διδασκαλίας</a:t>
            </a:r>
            <a:br>
              <a:rPr sz="2000"/>
            </a:br>
            <a:endParaRPr b="0" lang="en-US" sz="2800" spc="-1" strike="noStrike">
              <a:solidFill>
                <a:srgbClr val="ffffff"/>
              </a:solidFill>
              <a:latin typeface="Times New Roman"/>
            </a:endParaRPr>
          </a:p>
        </p:txBody>
      </p:sp>
      <p:grpSp>
        <p:nvGrpSpPr>
          <p:cNvPr id="6680" name="Group 2"/>
          <p:cNvGrpSpPr/>
          <p:nvPr/>
        </p:nvGrpSpPr>
        <p:grpSpPr>
          <a:xfrm>
            <a:off x="0" y="115920"/>
            <a:ext cx="9142560" cy="6549840"/>
            <a:chOff x="0" y="115920"/>
            <a:chExt cx="9142560" cy="6549840"/>
          </a:xfrm>
        </p:grpSpPr>
        <p:grpSp>
          <p:nvGrpSpPr>
            <p:cNvPr id="6681" name="Group 3"/>
            <p:cNvGrpSpPr/>
            <p:nvPr/>
          </p:nvGrpSpPr>
          <p:grpSpPr>
            <a:xfrm>
              <a:off x="0" y="115920"/>
              <a:ext cx="9142560" cy="6549840"/>
              <a:chOff x="0" y="115920"/>
              <a:chExt cx="9142560" cy="6549840"/>
            </a:xfrm>
          </p:grpSpPr>
          <p:sp>
            <p:nvSpPr>
              <p:cNvPr id="668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8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7"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8"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Δεν είναι</a:t>
            </a:r>
            <a:r>
              <a:rPr b="0" lang="el-GR" sz="2800" spc="-1" strike="noStrike">
                <a:solidFill>
                  <a:srgbClr val="000000"/>
                </a:solidFill>
                <a:latin typeface="Times New Roman"/>
              </a:rPr>
              <a:t> </a:t>
            </a:r>
            <a:r>
              <a:rPr b="1" lang="el-GR" sz="2800" spc="-1" strike="noStrike">
                <a:solidFill>
                  <a:srgbClr val="000000"/>
                </a:solidFill>
                <a:latin typeface="Times New Roman"/>
              </a:rPr>
              <a:t>Συνδιδασκαλία, </a:t>
            </a:r>
            <a:br>
              <a:rPr sz="2800"/>
            </a:br>
            <a:r>
              <a:rPr b="0" lang="el-GR" sz="2800" spc="-1" strike="noStrike">
                <a:solidFill>
                  <a:srgbClr val="000000"/>
                </a:solidFill>
                <a:latin typeface="Times New Roman"/>
              </a:rPr>
              <a:t>ο ένας εκπαιδευτικός να κάνει την προετοιμασία του μαθήματος και ο άλλος να διδάσκει, </a:t>
            </a:r>
            <a:br>
              <a:rPr sz="2800"/>
            </a:br>
            <a:r>
              <a:rPr b="0" lang="el-GR" sz="2800" spc="-1" strike="noStrike">
                <a:solidFill>
                  <a:srgbClr val="000000"/>
                </a:solidFill>
                <a:latin typeface="Times New Roman"/>
              </a:rPr>
              <a:t>ούτε και να κυριαρχούν και να υπερισχύουν οι παιδαγωγικές και διδακτικές   αντιλήψεις του ενός  μόνο εκπαιδευτικού. </a:t>
            </a:r>
            <a:endParaRPr b="0" lang="en-US" sz="2800" spc="-1" strike="noStrike">
              <a:solidFill>
                <a:srgbClr val="ffffff"/>
              </a:solidFill>
              <a:latin typeface="Times New Roman"/>
            </a:endParaRPr>
          </a:p>
        </p:txBody>
      </p:sp>
      <p:grpSp>
        <p:nvGrpSpPr>
          <p:cNvPr id="6689" name="Group 2"/>
          <p:cNvGrpSpPr/>
          <p:nvPr/>
        </p:nvGrpSpPr>
        <p:grpSpPr>
          <a:xfrm>
            <a:off x="0" y="115920"/>
            <a:ext cx="9142560" cy="6549840"/>
            <a:chOff x="0" y="115920"/>
            <a:chExt cx="9142560" cy="6549840"/>
          </a:xfrm>
        </p:grpSpPr>
        <p:grpSp>
          <p:nvGrpSpPr>
            <p:cNvPr id="6690" name="Group 3"/>
            <p:cNvGrpSpPr/>
            <p:nvPr/>
          </p:nvGrpSpPr>
          <p:grpSpPr>
            <a:xfrm>
              <a:off x="0" y="115920"/>
              <a:ext cx="9142560" cy="6549840"/>
              <a:chOff x="0" y="115920"/>
              <a:chExt cx="9142560" cy="6549840"/>
            </a:xfrm>
          </p:grpSpPr>
          <p:sp>
            <p:nvSpPr>
              <p:cNvPr id="669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69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6"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7" name="Text Box 1"/>
          <p:cNvSpPr/>
          <p:nvPr/>
        </p:nvSpPr>
        <p:spPr>
          <a:xfrm>
            <a:off x="324000" y="1268280"/>
            <a:ext cx="8351640" cy="45165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λανθάνοντες συνδυασμοί συνδιδασκαλίας </a:t>
            </a:r>
            <a:br>
              <a:rPr sz="2800"/>
            </a:br>
            <a:r>
              <a:rPr b="0" lang="el-GR" sz="2800" spc="-1" strike="noStrike">
                <a:solidFill>
                  <a:srgbClr val="000000"/>
                </a:solidFill>
                <a:latin typeface="Times New Roman"/>
              </a:rPr>
              <a:t>ο ένας να διδάσκει και ο άλλος να παρακολουθεί, </a:t>
            </a:r>
            <a:br>
              <a:rPr sz="2800"/>
            </a:br>
            <a:r>
              <a:rPr b="0" lang="el-GR" sz="2800" spc="-1" strike="noStrike">
                <a:solidFill>
                  <a:srgbClr val="000000"/>
                </a:solidFill>
                <a:latin typeface="Times New Roman"/>
              </a:rPr>
              <a:t>να διορθώνει φύλλα εργασίας και τετράδια </a:t>
            </a:r>
            <a:br>
              <a:rPr sz="2800"/>
            </a:br>
            <a:r>
              <a:rPr b="0" lang="el-GR" sz="2800" spc="-1" strike="noStrike">
                <a:solidFill>
                  <a:srgbClr val="000000"/>
                </a:solidFill>
                <a:latin typeface="Times New Roman"/>
              </a:rPr>
              <a:t>ή να βγάζει φωτοτυπίες, </a:t>
            </a:r>
            <a:br>
              <a:rPr sz="2800"/>
            </a:br>
            <a:r>
              <a:rPr b="0" lang="el-GR" sz="2800" spc="-1" strike="noStrike">
                <a:solidFill>
                  <a:srgbClr val="000000"/>
                </a:solidFill>
                <a:latin typeface="Times New Roman"/>
              </a:rPr>
              <a:t>να επιβλέπει </a:t>
            </a:r>
            <a:br>
              <a:rPr sz="2800"/>
            </a:br>
            <a:r>
              <a:rPr b="0" lang="el-GR" sz="2800" spc="-1" strike="noStrike">
                <a:solidFill>
                  <a:srgbClr val="000000"/>
                </a:solidFill>
                <a:latin typeface="Times New Roman"/>
              </a:rPr>
              <a:t>ή να διδάσκουν εναλλάξ τις ενότητες της σχολικής ύλης, </a:t>
            </a:r>
            <a:br>
              <a:rPr sz="2800"/>
            </a:br>
            <a:r>
              <a:rPr b="0" lang="el-GR" sz="2800" spc="-1" strike="noStrike">
                <a:solidFill>
                  <a:srgbClr val="000000"/>
                </a:solidFill>
                <a:latin typeface="Times New Roman"/>
              </a:rPr>
              <a:t>κάθε άλλο παρά στο πνεύμα της συνεκπαίδευσης </a:t>
            </a:r>
            <a:br>
              <a:rPr sz="2800"/>
            </a:br>
            <a:r>
              <a:rPr b="0" lang="el-GR" sz="2800" spc="-1" strike="noStrike">
                <a:solidFill>
                  <a:srgbClr val="000000"/>
                </a:solidFill>
                <a:latin typeface="Times New Roman"/>
              </a:rPr>
              <a:t>και της συνδιδασκαλίας βρίσκονται. </a:t>
            </a:r>
            <a:br>
              <a:rPr sz="2800"/>
            </a:br>
            <a:br>
              <a:rPr sz="2800"/>
            </a:b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6698" name="Group 2"/>
          <p:cNvGrpSpPr/>
          <p:nvPr/>
        </p:nvGrpSpPr>
        <p:grpSpPr>
          <a:xfrm>
            <a:off x="0" y="115920"/>
            <a:ext cx="9142560" cy="6549840"/>
            <a:chOff x="0" y="115920"/>
            <a:chExt cx="9142560" cy="6549840"/>
          </a:xfrm>
        </p:grpSpPr>
        <p:grpSp>
          <p:nvGrpSpPr>
            <p:cNvPr id="6699" name="Group 3"/>
            <p:cNvGrpSpPr/>
            <p:nvPr/>
          </p:nvGrpSpPr>
          <p:grpSpPr>
            <a:xfrm>
              <a:off x="0" y="115920"/>
              <a:ext cx="9142560" cy="6549840"/>
              <a:chOff x="0" y="115920"/>
              <a:chExt cx="9142560" cy="6549840"/>
            </a:xfrm>
          </p:grpSpPr>
          <p:sp>
            <p:nvSpPr>
              <p:cNvPr id="670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0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5"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6"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Μειονεκτήματα- Πλεονεκτήματα Συνδιδασκαλίας</a:t>
            </a:r>
            <a:br>
              <a:rPr sz="2400"/>
            </a:br>
            <a:br>
              <a:rPr sz="2400"/>
            </a:br>
            <a:r>
              <a:rPr b="0" lang="el-GR" sz="2400" spc="-1" strike="noStrike">
                <a:solidFill>
                  <a:srgbClr val="000000"/>
                </a:solidFill>
                <a:latin typeface="Times New Roman"/>
              </a:rPr>
              <a:t>Η εφαρμογή του μοντέλου της συνδιδασκαλίας  προσφέρει υψηλότερου  επιπέδου εκπαιδευτικές υπηρεσίες στους μαθητές με ειδικές εκπαιδευτικές ανάγκες.</a:t>
            </a:r>
            <a:br>
              <a:rPr sz="2400"/>
            </a:br>
            <a:r>
              <a:rPr b="0" lang="el-GR" sz="2400" spc="-1" strike="noStrike">
                <a:solidFill>
                  <a:srgbClr val="000000"/>
                </a:solidFill>
                <a:latin typeface="Times New Roman"/>
              </a:rPr>
              <a:t> </a:t>
            </a:r>
            <a:br>
              <a:rPr sz="2400"/>
            </a:br>
            <a:r>
              <a:rPr b="0" lang="el-GR" sz="2400" spc="-1" strike="noStrike">
                <a:solidFill>
                  <a:srgbClr val="000000"/>
                </a:solidFill>
                <a:latin typeface="Times New Roman"/>
              </a:rPr>
              <a:t> Η πλήρης φοίτηση των παιδιών με ειδικές εκπαιδευτικές ανάγκες.  στη γενική τάξη παρουσιάζει  προβλήματα και δυσκολίες. </a:t>
            </a:r>
            <a:br>
              <a:rPr sz="2000"/>
            </a:br>
            <a:endParaRPr b="0" lang="en-US" sz="2400" spc="-1" strike="noStrike">
              <a:solidFill>
                <a:srgbClr val="ffffff"/>
              </a:solidFill>
              <a:latin typeface="Times New Roman"/>
            </a:endParaRPr>
          </a:p>
        </p:txBody>
      </p:sp>
      <p:grpSp>
        <p:nvGrpSpPr>
          <p:cNvPr id="6707" name="Group 2"/>
          <p:cNvGrpSpPr/>
          <p:nvPr/>
        </p:nvGrpSpPr>
        <p:grpSpPr>
          <a:xfrm>
            <a:off x="0" y="115920"/>
            <a:ext cx="9142560" cy="6549840"/>
            <a:chOff x="0" y="115920"/>
            <a:chExt cx="9142560" cy="6549840"/>
          </a:xfrm>
        </p:grpSpPr>
        <p:grpSp>
          <p:nvGrpSpPr>
            <p:cNvPr id="6708" name="Group 3"/>
            <p:cNvGrpSpPr/>
            <p:nvPr/>
          </p:nvGrpSpPr>
          <p:grpSpPr>
            <a:xfrm>
              <a:off x="0" y="115920"/>
              <a:ext cx="9142560" cy="6549840"/>
              <a:chOff x="0" y="115920"/>
              <a:chExt cx="9142560" cy="6549840"/>
            </a:xfrm>
          </p:grpSpPr>
          <p:sp>
            <p:nvSpPr>
              <p:cNvPr id="670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1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1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14"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5"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χετικά με τις γνωστικές και ακαδημαϊκές δεξιότητες οι μαθητές με ειδικές εκπαιδευτικές ανάγκες (αμεα)δυσκολεύονται στην κατανόηση του περιεχομένου των σχολικών βιβλίων </a:t>
            </a:r>
            <a:br>
              <a:rPr sz="2800"/>
            </a:br>
            <a:r>
              <a:rPr b="0" lang="el-GR" sz="2800" spc="-1" strike="noStrike">
                <a:solidFill>
                  <a:srgbClr val="000000"/>
                </a:solidFill>
                <a:latin typeface="Times New Roman"/>
              </a:rPr>
              <a:t>και στην ανάγνωση, </a:t>
            </a:r>
            <a:br>
              <a:rPr sz="2800"/>
            </a:br>
            <a:r>
              <a:rPr b="0" lang="el-GR" sz="2800" spc="-1" strike="noStrike">
                <a:solidFill>
                  <a:srgbClr val="000000"/>
                </a:solidFill>
                <a:latin typeface="Times New Roman"/>
              </a:rPr>
              <a:t>ενώ είναι επίσης δύσκολο για αυτούς </a:t>
            </a:r>
            <a:br>
              <a:rPr sz="2800"/>
            </a:br>
            <a:r>
              <a:rPr b="0" lang="el-GR" sz="2800" spc="-1" strike="noStrike">
                <a:solidFill>
                  <a:srgbClr val="000000"/>
                </a:solidFill>
                <a:latin typeface="Times New Roman"/>
              </a:rPr>
              <a:t>να συμμετέχουν σε τυπικές γνωστικές δραστηριότητες (</a:t>
            </a:r>
            <a:r>
              <a:rPr b="0" lang="en-US" sz="2800" spc="-1" strike="noStrike">
                <a:solidFill>
                  <a:srgbClr val="000000"/>
                </a:solidFill>
                <a:latin typeface="Times New Roman"/>
              </a:rPr>
              <a:t>Gauley</a:t>
            </a:r>
            <a:r>
              <a:rPr b="0" lang="el-GR" sz="2800" spc="-1" strike="noStrike">
                <a:solidFill>
                  <a:srgbClr val="000000"/>
                </a:solidFill>
                <a:latin typeface="Times New Roman"/>
              </a:rPr>
              <a:t> &amp; </a:t>
            </a:r>
            <a:r>
              <a:rPr b="0" lang="en-US" sz="2800" spc="-1" strike="noStrike">
                <a:solidFill>
                  <a:srgbClr val="000000"/>
                </a:solidFill>
                <a:latin typeface="Times New Roman"/>
              </a:rPr>
              <a:t>Parmar</a:t>
            </a:r>
            <a:r>
              <a:rPr b="0" lang="el-GR" sz="2800" spc="-1" strike="noStrike">
                <a:solidFill>
                  <a:srgbClr val="000000"/>
                </a:solidFill>
                <a:latin typeface="Times New Roman"/>
              </a:rPr>
              <a:t>, 2001). </a:t>
            </a:r>
            <a:br>
              <a:rPr sz="2800"/>
            </a:br>
            <a:br>
              <a:rPr sz="2800"/>
            </a:br>
            <a:br>
              <a:rPr sz="2000"/>
            </a:br>
            <a:endParaRPr b="0" lang="en-US" sz="2800" spc="-1" strike="noStrike">
              <a:solidFill>
                <a:srgbClr val="ffffff"/>
              </a:solidFill>
              <a:latin typeface="Times New Roman"/>
            </a:endParaRPr>
          </a:p>
        </p:txBody>
      </p:sp>
      <p:grpSp>
        <p:nvGrpSpPr>
          <p:cNvPr id="6716" name="Group 2"/>
          <p:cNvGrpSpPr/>
          <p:nvPr/>
        </p:nvGrpSpPr>
        <p:grpSpPr>
          <a:xfrm>
            <a:off x="0" y="115920"/>
            <a:ext cx="9142560" cy="6549840"/>
            <a:chOff x="0" y="115920"/>
            <a:chExt cx="9142560" cy="6549840"/>
          </a:xfrm>
        </p:grpSpPr>
        <p:grpSp>
          <p:nvGrpSpPr>
            <p:cNvPr id="6717" name="Group 3"/>
            <p:cNvGrpSpPr/>
            <p:nvPr/>
          </p:nvGrpSpPr>
          <p:grpSpPr>
            <a:xfrm>
              <a:off x="0" y="115920"/>
              <a:ext cx="9142560" cy="6549840"/>
              <a:chOff x="0" y="115920"/>
              <a:chExt cx="9142560" cy="6549840"/>
            </a:xfrm>
          </p:grpSpPr>
          <p:sp>
            <p:nvSpPr>
              <p:cNvPr id="671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2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2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23"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4"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800"/>
            </a:br>
            <a:r>
              <a:rPr b="0" lang="el-GR" sz="2800" spc="-1" strike="noStrike">
                <a:solidFill>
                  <a:srgbClr val="000000"/>
                </a:solidFill>
                <a:latin typeface="Times New Roman"/>
              </a:rPr>
              <a:t>Επιπροσθέτως, το νέο λεξιλόγιο, η ορολογία και οι χαμηλές επιδόσεις στις θετικές επιστήμες, όπως και τα προβλήματα στην ανάγνωση και τη γραφή επηρεάζουν και τις μεταγνωστικές δεξιότητες των μαθητών με αναπηρία ή ειδικές εκπαιδευτικές ανάγκες που φοιτούν στη γενική τάξη (</a:t>
            </a:r>
            <a:r>
              <a:rPr b="0" lang="en-US" sz="2800" spc="-1" strike="noStrike">
                <a:solidFill>
                  <a:srgbClr val="000000"/>
                </a:solidFill>
                <a:latin typeface="Times New Roman"/>
              </a:rPr>
              <a:t>Hallahant</a:t>
            </a:r>
            <a:r>
              <a:rPr b="0" lang="el-GR" sz="2800" spc="-1" strike="noStrike">
                <a:solidFill>
                  <a:srgbClr val="000000"/>
                </a:solidFill>
                <a:latin typeface="Times New Roman"/>
              </a:rPr>
              <a:t> &amp; </a:t>
            </a:r>
            <a:r>
              <a:rPr b="0" lang="en-US" sz="2800" spc="-1" strike="noStrike">
                <a:solidFill>
                  <a:srgbClr val="000000"/>
                </a:solidFill>
                <a:latin typeface="Times New Roman"/>
              </a:rPr>
              <a:t>Kaufman</a:t>
            </a:r>
            <a:r>
              <a:rPr b="0" lang="el-GR" sz="2800" spc="-1" strike="noStrike">
                <a:solidFill>
                  <a:srgbClr val="000000"/>
                </a:solidFill>
                <a:latin typeface="Times New Roman"/>
              </a:rPr>
              <a:t>, 2006). </a:t>
            </a:r>
            <a:br>
              <a:rPr sz="2800"/>
            </a:br>
            <a:endParaRPr b="0" lang="en-US" sz="2800" spc="-1" strike="noStrike">
              <a:solidFill>
                <a:srgbClr val="ffffff"/>
              </a:solidFill>
              <a:latin typeface="Times New Roman"/>
            </a:endParaRPr>
          </a:p>
        </p:txBody>
      </p:sp>
      <p:grpSp>
        <p:nvGrpSpPr>
          <p:cNvPr id="6725" name="Group 2"/>
          <p:cNvGrpSpPr/>
          <p:nvPr/>
        </p:nvGrpSpPr>
        <p:grpSpPr>
          <a:xfrm>
            <a:off x="0" y="115920"/>
            <a:ext cx="9142560" cy="6549840"/>
            <a:chOff x="0" y="115920"/>
            <a:chExt cx="9142560" cy="6549840"/>
          </a:xfrm>
        </p:grpSpPr>
        <p:grpSp>
          <p:nvGrpSpPr>
            <p:cNvPr id="6726" name="Group 3"/>
            <p:cNvGrpSpPr/>
            <p:nvPr/>
          </p:nvGrpSpPr>
          <p:grpSpPr>
            <a:xfrm>
              <a:off x="0" y="115920"/>
              <a:ext cx="9142560" cy="6549840"/>
              <a:chOff x="0" y="115920"/>
              <a:chExt cx="9142560" cy="6549840"/>
            </a:xfrm>
          </p:grpSpPr>
          <p:sp>
            <p:nvSpPr>
              <p:cNvPr id="672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2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32"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3"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όμως και η ύπαρξη δύο εκπαιδευτικών στην ίδια αίθουσα διδασκαλίας  είναι πολύ θετική, καθώς σε κάθε εκπαιδευτικό αντιστοιχούν λιγότεροι μαθητές και δίνεται η ευκαιρία για ποιοτικότερη υποστήριξη. </a:t>
            </a:r>
            <a:br>
              <a:rPr sz="2800"/>
            </a:br>
            <a:br>
              <a:rPr sz="2800"/>
            </a:br>
            <a:r>
              <a:rPr b="0" lang="el-GR" sz="2800" spc="-1" strike="noStrike">
                <a:solidFill>
                  <a:srgbClr val="000000"/>
                </a:solidFill>
                <a:latin typeface="Times New Roman"/>
              </a:rPr>
              <a:t>Επιπλέον, στο πλαίσιο της συνδιδασκαλίας είναι δυνατό να γίνονται πιο καίριες τροποποιήσεις  στην προσφορά της νέας γνώσης και έτσι οι μαθητές να την κατανοούν καλύτερα . </a:t>
            </a:r>
            <a:endParaRPr b="0" lang="en-US" sz="2800" spc="-1" strike="noStrike">
              <a:solidFill>
                <a:srgbClr val="ffffff"/>
              </a:solidFill>
              <a:latin typeface="Times New Roman"/>
            </a:endParaRPr>
          </a:p>
        </p:txBody>
      </p:sp>
      <p:grpSp>
        <p:nvGrpSpPr>
          <p:cNvPr id="6734" name="Group 2"/>
          <p:cNvGrpSpPr/>
          <p:nvPr/>
        </p:nvGrpSpPr>
        <p:grpSpPr>
          <a:xfrm>
            <a:off x="0" y="115920"/>
            <a:ext cx="9142560" cy="6549840"/>
            <a:chOff x="0" y="115920"/>
            <a:chExt cx="9142560" cy="6549840"/>
          </a:xfrm>
        </p:grpSpPr>
        <p:grpSp>
          <p:nvGrpSpPr>
            <p:cNvPr id="6735" name="Group 3"/>
            <p:cNvGrpSpPr/>
            <p:nvPr/>
          </p:nvGrpSpPr>
          <p:grpSpPr>
            <a:xfrm>
              <a:off x="0" y="115920"/>
              <a:ext cx="9142560" cy="6549840"/>
              <a:chOff x="0" y="115920"/>
              <a:chExt cx="9142560" cy="6549840"/>
            </a:xfrm>
          </p:grpSpPr>
          <p:sp>
            <p:nvSpPr>
              <p:cNvPr id="673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3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1"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8"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1994, στο Παγκόσμιο Συνέδριο στη Σαλαμάνκα της Ισπανίας υπό την αιγίδ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ορίζεται ότι τα άτομα με ειδικές εκπαιδευτικές ανάγκες(αμεα) </a:t>
            </a:r>
            <a:br>
              <a:rPr sz="2800"/>
            </a:br>
            <a:r>
              <a:rPr b="0" lang="el-GR" sz="2800" spc="-1" strike="noStrike">
                <a:solidFill>
                  <a:srgbClr val="000000"/>
                </a:solidFill>
                <a:latin typeface="Times New Roman"/>
              </a:rPr>
              <a:t>πρέπει να έχουν πρόσβαση στα γενικά σχολεία, </a:t>
            </a:r>
            <a:br>
              <a:rPr sz="2800"/>
            </a:br>
            <a:r>
              <a:rPr b="0" lang="el-GR" sz="2800" spc="-1" strike="noStrike">
                <a:solidFill>
                  <a:srgbClr val="000000"/>
                </a:solidFill>
                <a:latin typeface="Times New Roman"/>
              </a:rPr>
              <a:t>στα οποία θα παρέχεται εκπαίδευση </a:t>
            </a:r>
            <a:br>
              <a:rPr sz="2800"/>
            </a:br>
            <a:r>
              <a:rPr b="0" lang="el-GR" sz="2800" spc="-1" strike="noStrike">
                <a:solidFill>
                  <a:srgbClr val="000000"/>
                </a:solidFill>
                <a:latin typeface="Times New Roman"/>
              </a:rPr>
              <a:t>ανάλογα με τις ανάγκες τους. </a:t>
            </a:r>
            <a:br>
              <a:rPr sz="2800"/>
            </a:br>
            <a:br>
              <a:rPr sz="2800"/>
            </a:br>
            <a:endParaRPr b="0" lang="en-US" sz="2800" spc="-1" strike="noStrike">
              <a:solidFill>
                <a:srgbClr val="ffffff"/>
              </a:solidFill>
              <a:latin typeface="Times New Roman"/>
            </a:endParaRPr>
          </a:p>
        </p:txBody>
      </p:sp>
      <p:grpSp>
        <p:nvGrpSpPr>
          <p:cNvPr id="6419" name="Group 2"/>
          <p:cNvGrpSpPr/>
          <p:nvPr/>
        </p:nvGrpSpPr>
        <p:grpSpPr>
          <a:xfrm>
            <a:off x="0" y="115920"/>
            <a:ext cx="9142560" cy="6549840"/>
            <a:chOff x="0" y="115920"/>
            <a:chExt cx="9142560" cy="6549840"/>
          </a:xfrm>
        </p:grpSpPr>
        <p:grpSp>
          <p:nvGrpSpPr>
            <p:cNvPr id="6420" name="Group 3"/>
            <p:cNvGrpSpPr/>
            <p:nvPr/>
          </p:nvGrpSpPr>
          <p:grpSpPr>
            <a:xfrm>
              <a:off x="0" y="115920"/>
              <a:ext cx="9142560" cy="6549840"/>
              <a:chOff x="0" y="115920"/>
              <a:chExt cx="9142560" cy="6549840"/>
            </a:xfrm>
          </p:grpSpPr>
          <p:sp>
            <p:nvSpPr>
              <p:cNvPr id="642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2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6"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2"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θέμα της συμπεριφοράς  μπορούν να υλοποιούνται διάφορες παιδαγωγικές παρεμβάσεις και υπάρχει καλύτερη αντιμετώπιση, αφού:</a:t>
            </a:r>
            <a:br>
              <a:rPr sz="2800"/>
            </a:br>
            <a:r>
              <a:rPr b="0" lang="el-GR" sz="2800" spc="-1" strike="noStrike">
                <a:solidFill>
                  <a:srgbClr val="000000"/>
                </a:solidFill>
                <a:latin typeface="Times New Roman"/>
              </a:rPr>
              <a:t> ο εκπαιδευτικός της γενικής αγωγής μπορεί να επιστρατεύσει την εμπειρία που έχει και </a:t>
            </a:r>
            <a:br>
              <a:rPr sz="2800"/>
            </a:br>
            <a:r>
              <a:rPr b="0" lang="el-GR" sz="2800" spc="-1" strike="noStrike">
                <a:solidFill>
                  <a:srgbClr val="000000"/>
                </a:solidFill>
                <a:latin typeface="Times New Roman"/>
              </a:rPr>
              <a:t>ο εκπαιδευτικός της ειδικής αγωγής μπορεί να προσφέρει στην υποστήριξη  και τη συμβουλευτική του δυναμική στη διαχείριση αυτών των προβληματικών συμπεριφορών </a:t>
            </a:r>
            <a:endParaRPr b="0" lang="en-US" sz="2800" spc="-1" strike="noStrike">
              <a:solidFill>
                <a:srgbClr val="ffffff"/>
              </a:solidFill>
              <a:latin typeface="Times New Roman"/>
            </a:endParaRPr>
          </a:p>
        </p:txBody>
      </p:sp>
      <p:grpSp>
        <p:nvGrpSpPr>
          <p:cNvPr id="6743" name="Group 2"/>
          <p:cNvGrpSpPr/>
          <p:nvPr/>
        </p:nvGrpSpPr>
        <p:grpSpPr>
          <a:xfrm>
            <a:off x="0" y="115920"/>
            <a:ext cx="9142560" cy="6549840"/>
            <a:chOff x="0" y="115920"/>
            <a:chExt cx="9142560" cy="6549840"/>
          </a:xfrm>
        </p:grpSpPr>
        <p:grpSp>
          <p:nvGrpSpPr>
            <p:cNvPr id="6744" name="Group 3"/>
            <p:cNvGrpSpPr/>
            <p:nvPr/>
          </p:nvGrpSpPr>
          <p:grpSpPr>
            <a:xfrm>
              <a:off x="0" y="115920"/>
              <a:ext cx="9142560" cy="6549840"/>
              <a:chOff x="0" y="115920"/>
              <a:chExt cx="9142560" cy="6549840"/>
            </a:xfrm>
          </p:grpSpPr>
          <p:sp>
            <p:nvSpPr>
              <p:cNvPr id="674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4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4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0"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μπορεί να συνεισφέρει  και στη διδασκαλία μνημονικών στρατηγικών καθώς η νέα γνώση παρουσιάζεται με πολλαπλές αναπαραστάσεις, μέσα από βιωματικές δραστηριότητες και εξατομικευμένα εκπαιδευτικά προγράμματα όπου χρειάζεται.</a:t>
            </a:r>
            <a:br>
              <a:rPr sz="2800"/>
            </a:br>
            <a:r>
              <a:rPr b="0" lang="el-GR" sz="2800" spc="-1" strike="noStrike">
                <a:solidFill>
                  <a:srgbClr val="000000"/>
                </a:solidFill>
                <a:latin typeface="Times New Roman"/>
              </a:rPr>
              <a:t> Έτσι, έχουμε τη διαφοροποιημένη διδασκαλία στην πράξη και την ανταπόκριση της  στις ποικίλες ανάγκες των μαθητών. </a:t>
            </a:r>
            <a:br>
              <a:rPr sz="2000"/>
            </a:br>
            <a:endParaRPr b="0" lang="en-US" sz="2800" spc="-1" strike="noStrike">
              <a:solidFill>
                <a:srgbClr val="ffffff"/>
              </a:solidFill>
              <a:latin typeface="Times New Roman"/>
            </a:endParaRPr>
          </a:p>
        </p:txBody>
      </p:sp>
      <p:grpSp>
        <p:nvGrpSpPr>
          <p:cNvPr id="6752" name="Group 2"/>
          <p:cNvGrpSpPr/>
          <p:nvPr/>
        </p:nvGrpSpPr>
        <p:grpSpPr>
          <a:xfrm>
            <a:off x="0" y="115920"/>
            <a:ext cx="9142560" cy="6549840"/>
            <a:chOff x="0" y="115920"/>
            <a:chExt cx="9142560" cy="6549840"/>
          </a:xfrm>
        </p:grpSpPr>
        <p:grpSp>
          <p:nvGrpSpPr>
            <p:cNvPr id="6753" name="Group 3"/>
            <p:cNvGrpSpPr/>
            <p:nvPr/>
          </p:nvGrpSpPr>
          <p:grpSpPr>
            <a:xfrm>
              <a:off x="0" y="115920"/>
              <a:ext cx="9142560" cy="6549840"/>
              <a:chOff x="0" y="115920"/>
              <a:chExt cx="9142560" cy="6549840"/>
            </a:xfrm>
          </p:grpSpPr>
          <p:sp>
            <p:nvSpPr>
              <p:cNvPr id="675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5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5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5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9"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0"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δεν ευνοεί μόνο τους μαθητές με αναπηρίες ή ειδικές εκπαιδευτικές ανάγκες, αλλά επηρεάζει  και τα διάφορα μαθησιακά στυλ που παρουσιάζουν οι μαθητές μέσα σε μία σύγχρονη σχολική τάξη . </a:t>
            </a:r>
            <a:br>
              <a:rPr sz="2800"/>
            </a:br>
            <a:br>
              <a:rPr sz="2800"/>
            </a:br>
            <a:r>
              <a:rPr b="0" lang="el-GR" sz="2800" spc="-1" strike="noStrike">
                <a:solidFill>
                  <a:srgbClr val="000000"/>
                </a:solidFill>
                <a:latin typeface="Times New Roman"/>
              </a:rPr>
              <a:t>Τέλος, σύμφωνα με τους </a:t>
            </a:r>
            <a:r>
              <a:rPr b="0" lang="en-US" sz="2800" spc="-1" strike="noStrike">
                <a:solidFill>
                  <a:srgbClr val="000000"/>
                </a:solidFill>
                <a:latin typeface="Times New Roman"/>
              </a:rPr>
              <a:t>Keefe</a:t>
            </a:r>
            <a:r>
              <a:rPr b="0" lang="el-GR" sz="2800" spc="-1" strike="noStrike">
                <a:solidFill>
                  <a:srgbClr val="000000"/>
                </a:solidFill>
                <a:latin typeface="Times New Roman"/>
              </a:rPr>
              <a:t> &amp; </a:t>
            </a:r>
            <a:r>
              <a:rPr b="0" lang="en-US" sz="2800" spc="-1" strike="noStrike">
                <a:solidFill>
                  <a:srgbClr val="000000"/>
                </a:solidFill>
                <a:latin typeface="Times New Roman"/>
              </a:rPr>
              <a:t>Moore </a:t>
            </a:r>
            <a:r>
              <a:rPr b="0" lang="el-GR" sz="2800" spc="-1" strike="noStrike">
                <a:solidFill>
                  <a:srgbClr val="000000"/>
                </a:solidFill>
                <a:latin typeface="Times New Roman"/>
              </a:rPr>
              <a:t>τα θετικά αποτελέσματα της συνδιδασκαλίας γίνονται άμεσα αντιληπτά στις βελτιωμένες ακαδημαϊκές δεξιότητες των μαθητών  </a:t>
            </a:r>
            <a:br>
              <a:rPr sz="2000"/>
            </a:br>
            <a:endParaRPr b="0" lang="en-US" sz="2800" spc="-1" strike="noStrike">
              <a:solidFill>
                <a:srgbClr val="ffffff"/>
              </a:solidFill>
              <a:latin typeface="Times New Roman"/>
            </a:endParaRPr>
          </a:p>
        </p:txBody>
      </p:sp>
      <p:grpSp>
        <p:nvGrpSpPr>
          <p:cNvPr id="6761" name="Group 2"/>
          <p:cNvGrpSpPr/>
          <p:nvPr/>
        </p:nvGrpSpPr>
        <p:grpSpPr>
          <a:xfrm>
            <a:off x="0" y="115920"/>
            <a:ext cx="9142560" cy="6549840"/>
            <a:chOff x="0" y="115920"/>
            <a:chExt cx="9142560" cy="6549840"/>
          </a:xfrm>
        </p:grpSpPr>
        <p:grpSp>
          <p:nvGrpSpPr>
            <p:cNvPr id="6762" name="Group 3"/>
            <p:cNvGrpSpPr/>
            <p:nvPr/>
          </p:nvGrpSpPr>
          <p:grpSpPr>
            <a:xfrm>
              <a:off x="0" y="115920"/>
              <a:ext cx="9142560" cy="6549840"/>
              <a:chOff x="0" y="115920"/>
              <a:chExt cx="9142560" cy="6549840"/>
            </a:xfrm>
          </p:grpSpPr>
          <p:sp>
            <p:nvSpPr>
              <p:cNvPr id="676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6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6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6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68"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9"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ΕΙΔΗ  ΣΥΝΔΙΔΑΣΚΑΛΙΑΣ</a:t>
            </a:r>
            <a:br>
              <a:rPr sz="2400"/>
            </a:br>
            <a:r>
              <a:rPr b="0" lang="el-GR" sz="2400" spc="-1" strike="noStrike">
                <a:solidFill>
                  <a:srgbClr val="000000"/>
                </a:solidFill>
                <a:latin typeface="Times New Roman"/>
              </a:rPr>
              <a:t>Η  συνδιδασκαλία ως μεθόδου ένταξης και συνεκπαίδευσης έχει δημιουργήσει την  ανάγκη συνεργασίας μεταξύ των εκπαιδευτικών γενικής και ειδικής αγωγής . </a:t>
            </a:r>
            <a:br>
              <a:rPr sz="2400"/>
            </a:br>
            <a:r>
              <a:rPr b="0" lang="el-GR" sz="2400" spc="-1" strike="noStrike">
                <a:solidFill>
                  <a:srgbClr val="000000"/>
                </a:solidFill>
                <a:latin typeface="Times New Roman"/>
              </a:rPr>
              <a:t>Η συνεργασία αυτή επιτρέπει σημαντική ευελιξία στο σχεδιασμό και την εφαρμογή της εκπαιδευτικής διαδικασίας, </a:t>
            </a:r>
            <a:br>
              <a:rPr sz="2400"/>
            </a:br>
            <a:r>
              <a:rPr b="0" lang="el-GR" sz="2400" spc="-1" strike="noStrike">
                <a:solidFill>
                  <a:srgbClr val="000000"/>
                </a:solidFill>
                <a:latin typeface="Times New Roman"/>
              </a:rPr>
              <a:t>ώστε να υπάρχει ανταπόκριση στις ανάγκες των μαθητών.</a:t>
            </a:r>
            <a:br>
              <a:rPr sz="2000"/>
            </a:br>
            <a:endParaRPr b="0" lang="en-US" sz="2400" spc="-1" strike="noStrike">
              <a:solidFill>
                <a:srgbClr val="ffffff"/>
              </a:solidFill>
              <a:latin typeface="Times New Roman"/>
            </a:endParaRPr>
          </a:p>
        </p:txBody>
      </p:sp>
      <p:grpSp>
        <p:nvGrpSpPr>
          <p:cNvPr id="6770" name="Group 2"/>
          <p:cNvGrpSpPr/>
          <p:nvPr/>
        </p:nvGrpSpPr>
        <p:grpSpPr>
          <a:xfrm>
            <a:off x="0" y="115920"/>
            <a:ext cx="9142560" cy="6549840"/>
            <a:chOff x="0" y="115920"/>
            <a:chExt cx="9142560" cy="6549840"/>
          </a:xfrm>
        </p:grpSpPr>
        <p:grpSp>
          <p:nvGrpSpPr>
            <p:cNvPr id="6771" name="Group 3"/>
            <p:cNvGrpSpPr/>
            <p:nvPr/>
          </p:nvGrpSpPr>
          <p:grpSpPr>
            <a:xfrm>
              <a:off x="0" y="115920"/>
              <a:ext cx="9142560" cy="6549840"/>
              <a:chOff x="0" y="115920"/>
              <a:chExt cx="9142560" cy="6549840"/>
            </a:xfrm>
          </p:grpSpPr>
          <p:sp>
            <p:nvSpPr>
              <p:cNvPr id="677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7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7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7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77"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8"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0" lang="el-GR" sz="2400" spc="-1" strike="noStrike">
                <a:solidFill>
                  <a:srgbClr val="000000"/>
                </a:solidFill>
                <a:latin typeface="Times New Roman"/>
              </a:rPr>
              <a:t>Υπάρχουν διάφοροι τύποι-είδη συνδιδασκαλίας  </a:t>
            </a:r>
            <a:br>
              <a:rPr sz="2400"/>
            </a:br>
            <a:r>
              <a:rPr b="0" lang="el-GR" sz="2400" spc="-1" strike="noStrike">
                <a:solidFill>
                  <a:srgbClr val="000000"/>
                </a:solidFill>
                <a:latin typeface="Times New Roman"/>
              </a:rPr>
              <a:t>που αφορούν την αλληλεπίδραση και τον τρόπο συνεργασίας και συν-υπευθυνότητας των συν-διδασκάλων </a:t>
            </a:r>
            <a:br>
              <a:rPr sz="2400"/>
            </a:br>
            <a:br>
              <a:rPr sz="2400"/>
            </a:br>
            <a:r>
              <a:rPr b="1" lang="el-GR" sz="2400" spc="-1" strike="noStrike">
                <a:solidFill>
                  <a:srgbClr val="000000"/>
                </a:solidFill>
                <a:latin typeface="Times New Roman"/>
              </a:rPr>
              <a:t> Οι τύποι συνδιδασκαλίας είναι οι εξής:</a:t>
            </a:r>
            <a:br>
              <a:rPr sz="2000"/>
            </a:br>
            <a:endParaRPr b="0" lang="en-US" sz="2400" spc="-1" strike="noStrike">
              <a:solidFill>
                <a:srgbClr val="ffffff"/>
              </a:solidFill>
              <a:latin typeface="Times New Roman"/>
            </a:endParaRPr>
          </a:p>
        </p:txBody>
      </p:sp>
      <p:grpSp>
        <p:nvGrpSpPr>
          <p:cNvPr id="6779" name="Group 2"/>
          <p:cNvGrpSpPr/>
          <p:nvPr/>
        </p:nvGrpSpPr>
        <p:grpSpPr>
          <a:xfrm>
            <a:off x="0" y="115920"/>
            <a:ext cx="9142560" cy="6549840"/>
            <a:chOff x="0" y="115920"/>
            <a:chExt cx="9142560" cy="6549840"/>
          </a:xfrm>
        </p:grpSpPr>
        <p:grpSp>
          <p:nvGrpSpPr>
            <p:cNvPr id="6780" name="Group 3"/>
            <p:cNvGrpSpPr/>
            <p:nvPr/>
          </p:nvGrpSpPr>
          <p:grpSpPr>
            <a:xfrm>
              <a:off x="0" y="115920"/>
              <a:ext cx="9142560" cy="6549840"/>
              <a:chOff x="0" y="115920"/>
              <a:chExt cx="9142560" cy="6549840"/>
            </a:xfrm>
          </p:grpSpPr>
          <p:sp>
            <p:nvSpPr>
              <p:cNvPr id="678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8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8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8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86"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7" name="Text Box 1"/>
          <p:cNvSpPr/>
          <p:nvPr/>
        </p:nvSpPr>
        <p:spPr>
          <a:xfrm>
            <a:off x="179280" y="1392120"/>
            <a:ext cx="856944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1. Ένας διδάσκει, ένας βοηθάει (</a:t>
            </a:r>
            <a:r>
              <a:rPr b="1" lang="en-US" sz="2400" spc="-1" strike="noStrike">
                <a:solidFill>
                  <a:srgbClr val="000000"/>
                </a:solidFill>
                <a:latin typeface="Times New Roman"/>
              </a:rPr>
              <a:t>One teaching</a:t>
            </a:r>
            <a:r>
              <a:rPr b="1" lang="el-GR" sz="2400" spc="-1" strike="noStrike">
                <a:solidFill>
                  <a:srgbClr val="000000"/>
                </a:solidFill>
                <a:latin typeface="Times New Roman"/>
              </a:rPr>
              <a:t>, </a:t>
            </a:r>
            <a:r>
              <a:rPr b="1" lang="en-US" sz="2400" spc="-1" strike="noStrike">
                <a:solidFill>
                  <a:srgbClr val="000000"/>
                </a:solidFill>
                <a:latin typeface="Times New Roman"/>
              </a:rPr>
              <a:t>one assisting</a:t>
            </a:r>
            <a:r>
              <a:rPr b="1" lang="el-GR" sz="2400" spc="-1" strike="noStrike">
                <a:solidFill>
                  <a:srgbClr val="000000"/>
                </a:solidFill>
                <a:latin typeface="Times New Roman"/>
              </a:rPr>
              <a:t>)</a:t>
            </a:r>
            <a:br>
              <a:rPr sz="2400"/>
            </a:br>
            <a:br>
              <a:rPr sz="2400"/>
            </a:br>
            <a:r>
              <a:rPr b="0" lang="el-GR" sz="2400" spc="-1" strike="noStrike">
                <a:solidFill>
                  <a:srgbClr val="000000"/>
                </a:solidFill>
                <a:latin typeface="Times New Roman"/>
              </a:rPr>
              <a:t>Ο τύπος αυτός αντικατοπτρίζει την πιο συνηθισμένη μορφή συνδιδασκαλίας. Σε αυτήν την περίπτωση συνδιδασκαλίας ο εκπαιδευτικός γενικής αγωγής και ο εκπαιδευτικός ειδικής αγωγής έχουν δυο διαφορετικούς ρόλους. </a:t>
            </a:r>
            <a:br>
              <a:rPr sz="2400"/>
            </a:br>
            <a:r>
              <a:rPr b="0" lang="el-GR" sz="2400" spc="-1" strike="noStrike">
                <a:solidFill>
                  <a:srgbClr val="000000"/>
                </a:solidFill>
                <a:latin typeface="Times New Roman"/>
              </a:rPr>
              <a:t>Ο εκπαιδευτικός γενικής αγωγής  είναι ο κύριος αρμόδιος για τη διδασκαλία της τάξης ενώ ο εκπαιδευτικός ειδικής αγωγής  υποστηρίζει τους μαθητές αμεα και ενισχύει τις αδύναμες ομάδες. Και οι δύο εκπαιδευτικοί  έχουν σκοπό να βοηθήσουν τους μαθητές να ξεπεράσουν τις δυσκολίες που συναντούν στο μάθημα. </a:t>
            </a:r>
            <a:endParaRPr b="0" lang="en-US" sz="2400" spc="-1" strike="noStrike">
              <a:solidFill>
                <a:srgbClr val="ffffff"/>
              </a:solidFill>
              <a:latin typeface="Times New Roman"/>
            </a:endParaRPr>
          </a:p>
        </p:txBody>
      </p:sp>
      <p:grpSp>
        <p:nvGrpSpPr>
          <p:cNvPr id="6788" name="Group 2"/>
          <p:cNvGrpSpPr/>
          <p:nvPr/>
        </p:nvGrpSpPr>
        <p:grpSpPr>
          <a:xfrm>
            <a:off x="0" y="115920"/>
            <a:ext cx="9142560" cy="6549840"/>
            <a:chOff x="0" y="115920"/>
            <a:chExt cx="9142560" cy="6549840"/>
          </a:xfrm>
        </p:grpSpPr>
        <p:grpSp>
          <p:nvGrpSpPr>
            <p:cNvPr id="6789" name="Group 3"/>
            <p:cNvGrpSpPr/>
            <p:nvPr/>
          </p:nvGrpSpPr>
          <p:grpSpPr>
            <a:xfrm>
              <a:off x="0" y="115920"/>
              <a:ext cx="9142560" cy="6549840"/>
              <a:chOff x="0" y="115920"/>
              <a:chExt cx="9142560" cy="6549840"/>
            </a:xfrm>
          </p:grpSpPr>
          <p:sp>
            <p:nvSpPr>
              <p:cNvPr id="679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79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9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9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95"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6"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ε αυτό τον τύπο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 </a:t>
            </a:r>
            <a:endParaRPr b="0" lang="en-US" sz="2800" spc="-1" strike="noStrike">
              <a:solidFill>
                <a:srgbClr val="ffffff"/>
              </a:solidFill>
              <a:latin typeface="Times New Roman"/>
            </a:endParaRPr>
          </a:p>
        </p:txBody>
      </p:sp>
      <p:grpSp>
        <p:nvGrpSpPr>
          <p:cNvPr id="6797" name="Group 2"/>
          <p:cNvGrpSpPr/>
          <p:nvPr/>
        </p:nvGrpSpPr>
        <p:grpSpPr>
          <a:xfrm>
            <a:off x="0" y="115920"/>
            <a:ext cx="9142560" cy="6549840"/>
            <a:chOff x="0" y="115920"/>
            <a:chExt cx="9142560" cy="6549840"/>
          </a:xfrm>
        </p:grpSpPr>
        <p:grpSp>
          <p:nvGrpSpPr>
            <p:cNvPr id="6798" name="Group 3"/>
            <p:cNvGrpSpPr/>
            <p:nvPr/>
          </p:nvGrpSpPr>
          <p:grpSpPr>
            <a:xfrm>
              <a:off x="0" y="115920"/>
              <a:ext cx="9142560" cy="6549840"/>
              <a:chOff x="0" y="115920"/>
              <a:chExt cx="9142560" cy="6549840"/>
            </a:xfrm>
          </p:grpSpPr>
          <p:sp>
            <p:nvSpPr>
              <p:cNvPr id="679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0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0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04"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5" name="Text Box 1"/>
          <p:cNvSpPr/>
          <p:nvPr/>
        </p:nvSpPr>
        <p:spPr>
          <a:xfrm>
            <a:off x="32400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Ωστόσο είναι απαραίτητο και οι δύο  εκπαιδευτικοί να συμμετέχουν από κοινού στο σχεδιασμό της διδασκαλίας. </a:t>
            </a:r>
            <a:br>
              <a:rPr sz="2400"/>
            </a:br>
            <a:r>
              <a:rPr b="0" lang="el-GR" sz="2400" spc="-1" strike="noStrike">
                <a:solidFill>
                  <a:srgbClr val="000000"/>
                </a:solidFill>
                <a:latin typeface="Times New Roman"/>
              </a:rPr>
              <a:t>Ένα μειονέκτημα αυτής της μορφής είναι ότι ο εκπαιδευτικός ειδικής αγωγής δεν έχει κεντρικό ρόλο στη διδασκαλία και περιορίζεται σε αυτή του βοηθού-υποστηρικτή. </a:t>
            </a:r>
            <a:br>
              <a:rPr sz="2400"/>
            </a:br>
            <a:endParaRPr b="0" lang="en-US" sz="2400" spc="-1" strike="noStrike">
              <a:solidFill>
                <a:srgbClr val="ffffff"/>
              </a:solidFill>
              <a:latin typeface="Times New Roman"/>
            </a:endParaRPr>
          </a:p>
        </p:txBody>
      </p:sp>
      <p:grpSp>
        <p:nvGrpSpPr>
          <p:cNvPr id="6806" name="Group 2"/>
          <p:cNvGrpSpPr/>
          <p:nvPr/>
        </p:nvGrpSpPr>
        <p:grpSpPr>
          <a:xfrm>
            <a:off x="0" y="115920"/>
            <a:ext cx="9142560" cy="6549840"/>
            <a:chOff x="0" y="115920"/>
            <a:chExt cx="9142560" cy="6549840"/>
          </a:xfrm>
        </p:grpSpPr>
        <p:grpSp>
          <p:nvGrpSpPr>
            <p:cNvPr id="6807" name="Group 3"/>
            <p:cNvGrpSpPr/>
            <p:nvPr/>
          </p:nvGrpSpPr>
          <p:grpSpPr>
            <a:xfrm>
              <a:off x="0" y="115920"/>
              <a:ext cx="9142560" cy="6549840"/>
              <a:chOff x="0" y="115920"/>
              <a:chExt cx="9142560" cy="6549840"/>
            </a:xfrm>
          </p:grpSpPr>
          <p:sp>
            <p:nvSpPr>
              <p:cNvPr id="680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1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1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13"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4" name="Text Box 1"/>
          <p:cNvSpPr/>
          <p:nvPr/>
        </p:nvSpPr>
        <p:spPr>
          <a:xfrm>
            <a:off x="32400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400" spc="-1" strike="noStrike">
                <a:solidFill>
                  <a:srgbClr val="000000"/>
                </a:solidFill>
                <a:latin typeface="Times New Roman"/>
              </a:rPr>
              <a:t>Οι μαθητές  μπορεί να χάνουν την προσοχή τους </a:t>
            </a:r>
            <a:br>
              <a:rPr sz="2400"/>
            </a:br>
            <a:r>
              <a:rPr b="0" lang="el-GR" sz="2400" spc="-1" strike="noStrike">
                <a:solidFill>
                  <a:srgbClr val="000000"/>
                </a:solidFill>
                <a:latin typeface="Times New Roman"/>
              </a:rPr>
              <a:t>βλέποντας τον να κινείται μέσα στην τάξη και επίσης να επαναπαύονται και να μην προσπαθούν  καθώς επαφίενται στη βοήθεια  και υποστήριξη του ειδικού παιδαγωγού. </a:t>
            </a:r>
            <a:br>
              <a:rPr sz="2400"/>
            </a:br>
            <a:br>
              <a:rPr sz="2400"/>
            </a:br>
            <a:r>
              <a:rPr b="0" lang="el-GR" sz="2400" spc="-1" strike="noStrike">
                <a:solidFill>
                  <a:srgbClr val="000000"/>
                </a:solidFill>
                <a:latin typeface="Times New Roman"/>
              </a:rPr>
              <a:t> Αυτός τύπος συνδιδασκαλίας στην Ελλάδα </a:t>
            </a:r>
            <a:br>
              <a:rPr sz="2400"/>
            </a:br>
            <a:r>
              <a:rPr b="0" lang="el-GR" sz="2400" spc="-1" strike="noStrike">
                <a:solidFill>
                  <a:srgbClr val="000000"/>
                </a:solidFill>
                <a:latin typeface="Times New Roman"/>
              </a:rPr>
              <a:t>βρίσκει εφαρμογή στην Γενική Τάξη </a:t>
            </a:r>
            <a:br>
              <a:rPr sz="2400"/>
            </a:br>
            <a:r>
              <a:rPr b="0" lang="el-GR" sz="2400" spc="-1" strike="noStrike">
                <a:solidFill>
                  <a:srgbClr val="000000"/>
                </a:solidFill>
                <a:latin typeface="Times New Roman"/>
              </a:rPr>
              <a:t>με την συμπληρωματική εφαρμογή της Παράλληλης Στήριξης </a:t>
            </a:r>
            <a:br>
              <a:rPr sz="2400"/>
            </a:br>
            <a:r>
              <a:rPr b="0" lang="el-GR" sz="2400" spc="-1" strike="noStrike">
                <a:solidFill>
                  <a:srgbClr val="000000"/>
                </a:solidFill>
                <a:latin typeface="Times New Roman"/>
              </a:rPr>
              <a:t>(ν. 3699/2008).  </a:t>
            </a:r>
            <a:br>
              <a:rPr sz="2000"/>
            </a:br>
            <a:endParaRPr b="0" lang="en-US" sz="2400" spc="-1" strike="noStrike">
              <a:solidFill>
                <a:srgbClr val="ffffff"/>
              </a:solidFill>
              <a:latin typeface="Times New Roman"/>
            </a:endParaRPr>
          </a:p>
        </p:txBody>
      </p:sp>
      <p:grpSp>
        <p:nvGrpSpPr>
          <p:cNvPr id="6815" name="Group 2"/>
          <p:cNvGrpSpPr/>
          <p:nvPr/>
        </p:nvGrpSpPr>
        <p:grpSpPr>
          <a:xfrm>
            <a:off x="0" y="115920"/>
            <a:ext cx="9142560" cy="6549840"/>
            <a:chOff x="0" y="115920"/>
            <a:chExt cx="9142560" cy="6549840"/>
          </a:xfrm>
        </p:grpSpPr>
        <p:grpSp>
          <p:nvGrpSpPr>
            <p:cNvPr id="6816" name="Group 3"/>
            <p:cNvGrpSpPr/>
            <p:nvPr/>
          </p:nvGrpSpPr>
          <p:grpSpPr>
            <a:xfrm>
              <a:off x="0" y="115920"/>
              <a:ext cx="9142560" cy="6549840"/>
              <a:chOff x="0" y="115920"/>
              <a:chExt cx="9142560" cy="6549840"/>
            </a:xfrm>
          </p:grpSpPr>
          <p:sp>
            <p:nvSpPr>
              <p:cNvPr id="681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1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22"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3"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2. Ένας διδάσκει</a:t>
            </a:r>
            <a:r>
              <a:rPr b="1" lang="en-US" sz="2400" spc="-1" strike="noStrike">
                <a:solidFill>
                  <a:srgbClr val="000000"/>
                </a:solidFill>
                <a:latin typeface="Times New Roman"/>
              </a:rPr>
              <a:t>, </a:t>
            </a:r>
            <a:r>
              <a:rPr b="1" lang="el-GR" sz="2400" spc="-1" strike="noStrike">
                <a:solidFill>
                  <a:srgbClr val="000000"/>
                </a:solidFill>
                <a:latin typeface="Times New Roman"/>
              </a:rPr>
              <a:t>ένας παρατηρεί</a:t>
            </a:r>
            <a:r>
              <a:rPr b="1" lang="en-US" sz="2400" spc="-1" strike="noStrike">
                <a:solidFill>
                  <a:srgbClr val="000000"/>
                </a:solidFill>
                <a:latin typeface="Times New Roman"/>
              </a:rPr>
              <a:t> (One teaching, one observing)</a:t>
            </a:r>
            <a:br>
              <a:rPr sz="2400"/>
            </a:br>
            <a:br>
              <a:rPr sz="2400"/>
            </a:br>
            <a:r>
              <a:rPr b="0" lang="el-GR" sz="2400" spc="-1" strike="noStrike">
                <a:solidFill>
                  <a:srgbClr val="000000"/>
                </a:solidFill>
                <a:latin typeface="Times New Roman"/>
              </a:rPr>
              <a:t>Σε αυτόν τον τύπο συνδιδασκαλίας προσιδιάζει η έννοια και η πρακτική της παρατήρησης. </a:t>
            </a:r>
            <a:br>
              <a:rPr sz="2400"/>
            </a:br>
            <a:r>
              <a:rPr b="0" lang="el-GR" sz="2400" spc="-1" strike="noStrike">
                <a:solidFill>
                  <a:srgbClr val="000000"/>
                </a:solidFill>
                <a:latin typeface="Times New Roman"/>
              </a:rPr>
              <a:t>Ο ένας, ο εκπαιδευτικός  της γενικής αγωγής  διδάσκει και </a:t>
            </a:r>
            <a:br>
              <a:rPr sz="2400"/>
            </a:br>
            <a:r>
              <a:rPr b="0" lang="el-GR" sz="2400" spc="-1" strike="noStrike">
                <a:solidFill>
                  <a:srgbClr val="000000"/>
                </a:solidFill>
                <a:latin typeface="Times New Roman"/>
              </a:rPr>
              <a:t>ο άλλος ο εκπαιδευτικός ειδικής αγωγής, παρατηρεί και συλλέγει δεδομένα σε κλείδες παρατήρησης με συστηματικό τρόπο. </a:t>
            </a:r>
            <a:br>
              <a:rPr sz="2400"/>
            </a:br>
            <a:r>
              <a:rPr b="0" lang="el-GR" sz="2400" spc="-1" strike="noStrike">
                <a:solidFill>
                  <a:srgbClr val="000000"/>
                </a:solidFill>
                <a:latin typeface="Times New Roman"/>
              </a:rPr>
              <a:t>Η πρακτική αυτή προσφέρεται για να γνωρίσουν οι εκπαιδευτικοί τους μαθητές τους και απαιτείται ουσιαστική συνεργασία  μεταξύ τους σχετικά  με το ποιους μαθητές θα παρατηρήσουν. </a:t>
            </a:r>
            <a:endParaRPr b="0" lang="en-US" sz="2400" spc="-1" strike="noStrike">
              <a:solidFill>
                <a:srgbClr val="ffffff"/>
              </a:solidFill>
              <a:latin typeface="Times New Roman"/>
            </a:endParaRPr>
          </a:p>
        </p:txBody>
      </p:sp>
      <p:grpSp>
        <p:nvGrpSpPr>
          <p:cNvPr id="6824" name="Group 2"/>
          <p:cNvGrpSpPr/>
          <p:nvPr/>
        </p:nvGrpSpPr>
        <p:grpSpPr>
          <a:xfrm>
            <a:off x="0" y="115920"/>
            <a:ext cx="9142560" cy="6549840"/>
            <a:chOff x="0" y="115920"/>
            <a:chExt cx="9142560" cy="6549840"/>
          </a:xfrm>
        </p:grpSpPr>
        <p:grpSp>
          <p:nvGrpSpPr>
            <p:cNvPr id="6825" name="Group 3"/>
            <p:cNvGrpSpPr/>
            <p:nvPr/>
          </p:nvGrpSpPr>
          <p:grpSpPr>
            <a:xfrm>
              <a:off x="0" y="115920"/>
              <a:ext cx="9142560" cy="6549840"/>
              <a:chOff x="0" y="115920"/>
              <a:chExt cx="9142560" cy="6549840"/>
            </a:xfrm>
          </p:grpSpPr>
          <p:sp>
            <p:nvSpPr>
              <p:cNvPr id="682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2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1"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7"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Το 2000, στο παγκόσμιο </a:t>
            </a:r>
            <a:r>
              <a:rPr b="0" lang="en-US" sz="2800" spc="-1" strike="noStrike">
                <a:solidFill>
                  <a:srgbClr val="000000"/>
                </a:solidFill>
                <a:latin typeface="Times New Roman"/>
              </a:rPr>
              <a:t>forum</a:t>
            </a:r>
            <a:r>
              <a:rPr b="0" lang="el-GR" sz="2800" spc="-1" strike="noStrike">
                <a:solidFill>
                  <a:srgbClr val="000000"/>
                </a:solidFill>
                <a:latin typeface="Times New Roman"/>
              </a:rPr>
              <a:t>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για την εκπαίδευση στο </a:t>
            </a:r>
            <a:r>
              <a:rPr b="0" lang="en-US" sz="2800" spc="-1" strike="noStrike">
                <a:solidFill>
                  <a:srgbClr val="000000"/>
                </a:solidFill>
                <a:latin typeface="Times New Roman"/>
              </a:rPr>
              <a:t>Dakar</a:t>
            </a:r>
            <a:r>
              <a:rPr b="0" lang="el-GR" sz="2800" spc="-1" strike="noStrike">
                <a:solidFill>
                  <a:srgbClr val="000000"/>
                </a:solidFill>
                <a:latin typeface="Times New Roman"/>
              </a:rPr>
              <a:t>, τονίζεται ότι η εκπαίδευση πρέπει να αφορά  όλους  τους μαθητές και να επεκτείνεται σε δεξιότητες ζωής. </a:t>
            </a:r>
            <a:endParaRPr b="0" lang="en-US" sz="2800" spc="-1" strike="noStrike">
              <a:solidFill>
                <a:srgbClr val="ffffff"/>
              </a:solidFill>
              <a:latin typeface="Times New Roman"/>
            </a:endParaRPr>
          </a:p>
        </p:txBody>
      </p:sp>
      <p:grpSp>
        <p:nvGrpSpPr>
          <p:cNvPr id="6428" name="Group 2"/>
          <p:cNvGrpSpPr/>
          <p:nvPr/>
        </p:nvGrpSpPr>
        <p:grpSpPr>
          <a:xfrm>
            <a:off x="0" y="115920"/>
            <a:ext cx="9142560" cy="6549840"/>
            <a:chOff x="0" y="115920"/>
            <a:chExt cx="9142560" cy="6549840"/>
          </a:xfrm>
        </p:grpSpPr>
        <p:grpSp>
          <p:nvGrpSpPr>
            <p:cNvPr id="6429" name="Group 3"/>
            <p:cNvGrpSpPr/>
            <p:nvPr/>
          </p:nvGrpSpPr>
          <p:grpSpPr>
            <a:xfrm>
              <a:off x="0" y="115920"/>
              <a:ext cx="9142560" cy="6549840"/>
              <a:chOff x="0" y="115920"/>
              <a:chExt cx="9142560" cy="6549840"/>
            </a:xfrm>
          </p:grpSpPr>
          <p:sp>
            <p:nvSpPr>
              <p:cNvPr id="643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3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5"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2"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ίναι σημαντικό ο κοινός σχεδιασμός και η πραγματική συνεργασία, καθώς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a:t>
            </a:r>
            <a:br>
              <a:rPr sz="2800"/>
            </a:br>
            <a:r>
              <a:rPr b="0" lang="el-GR" sz="2800" spc="-1" strike="noStrike">
                <a:solidFill>
                  <a:srgbClr val="000000"/>
                </a:solidFill>
                <a:latin typeface="Times New Roman"/>
              </a:rPr>
              <a:t>Είναι καλό και προτείνεται οι εκπαιδευτικοί  να εναλλάσσουν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endParaRPr b="0" lang="en-US" sz="2800" spc="-1" strike="noStrike">
              <a:solidFill>
                <a:srgbClr val="ffffff"/>
              </a:solidFill>
              <a:latin typeface="Times New Roman"/>
            </a:endParaRPr>
          </a:p>
        </p:txBody>
      </p:sp>
      <p:grpSp>
        <p:nvGrpSpPr>
          <p:cNvPr id="6833" name="Group 2"/>
          <p:cNvGrpSpPr/>
          <p:nvPr/>
        </p:nvGrpSpPr>
        <p:grpSpPr>
          <a:xfrm>
            <a:off x="0" y="115920"/>
            <a:ext cx="9142560" cy="6549840"/>
            <a:chOff x="0" y="115920"/>
            <a:chExt cx="9142560" cy="6549840"/>
          </a:xfrm>
        </p:grpSpPr>
        <p:grpSp>
          <p:nvGrpSpPr>
            <p:cNvPr id="6834" name="Group 3"/>
            <p:cNvGrpSpPr/>
            <p:nvPr/>
          </p:nvGrpSpPr>
          <p:grpSpPr>
            <a:xfrm>
              <a:off x="0" y="115920"/>
              <a:ext cx="9142560" cy="6549840"/>
              <a:chOff x="0" y="115920"/>
              <a:chExt cx="9142560" cy="6549840"/>
            </a:xfrm>
          </p:grpSpPr>
          <p:sp>
            <p:nvSpPr>
              <p:cNvPr id="683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3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3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0"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1" name="Text Box 1"/>
          <p:cNvSpPr/>
          <p:nvPr/>
        </p:nvSpPr>
        <p:spPr>
          <a:xfrm>
            <a:off x="324000" y="1052640"/>
            <a:ext cx="864072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1" lang="el-GR" sz="2800" spc="-1" strike="noStrike">
                <a:solidFill>
                  <a:srgbClr val="000000"/>
                </a:solidFill>
                <a:latin typeface="Times New Roman"/>
              </a:rPr>
              <a:t>3. 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από πολλούς ειδικούς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a:t>
            </a:r>
            <a:br>
              <a:rPr sz="2800"/>
            </a:br>
            <a:br>
              <a:rPr sz="2000"/>
            </a:br>
            <a:endParaRPr b="0" lang="en-US" sz="2800" spc="-1" strike="noStrike">
              <a:solidFill>
                <a:srgbClr val="ffffff"/>
              </a:solidFill>
              <a:latin typeface="Times New Roman"/>
            </a:endParaRPr>
          </a:p>
        </p:txBody>
      </p:sp>
      <p:grpSp>
        <p:nvGrpSpPr>
          <p:cNvPr id="6842" name="Group 2"/>
          <p:cNvGrpSpPr/>
          <p:nvPr/>
        </p:nvGrpSpPr>
        <p:grpSpPr>
          <a:xfrm>
            <a:off x="0" y="115920"/>
            <a:ext cx="9142560" cy="6549840"/>
            <a:chOff x="0" y="115920"/>
            <a:chExt cx="9142560" cy="6549840"/>
          </a:xfrm>
        </p:grpSpPr>
        <p:grpSp>
          <p:nvGrpSpPr>
            <p:cNvPr id="6843" name="Group 3"/>
            <p:cNvGrpSpPr/>
            <p:nvPr/>
          </p:nvGrpSpPr>
          <p:grpSpPr>
            <a:xfrm>
              <a:off x="0" y="115920"/>
              <a:ext cx="9142560" cy="6549840"/>
              <a:chOff x="0" y="115920"/>
              <a:chExt cx="9142560" cy="6549840"/>
            </a:xfrm>
          </p:grpSpPr>
          <p:sp>
            <p:nvSpPr>
              <p:cNvPr id="684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4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4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4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9"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0" name="Text Box 1"/>
          <p:cNvSpPr/>
          <p:nvPr/>
        </p:nvSpPr>
        <p:spPr>
          <a:xfrm>
            <a:off x="324000" y="1052640"/>
            <a:ext cx="8640720" cy="473220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Μέσα από την ομαδική διδασκαλία  ενισχύεται το συνεργατικό κλίμα και αυξάνεται η συμμετοχή των μαθητών, ενώ οι εκπαιδευτικοί έχουν </a:t>
            </a:r>
            <a:br>
              <a:rPr sz="2800"/>
            </a:br>
            <a:r>
              <a:rPr b="0" lang="el-GR" sz="2800" spc="-1" strike="noStrike">
                <a:solidFill>
                  <a:srgbClr val="000000"/>
                </a:solidFill>
                <a:latin typeface="Times New Roman"/>
              </a:rPr>
              <a:t>τη δυνατότητα να εφαρμόσουν καινοτόμες ιδέες </a:t>
            </a:r>
            <a:br>
              <a:rPr sz="2800"/>
            </a:br>
            <a:r>
              <a:rPr b="0" lang="el-GR" sz="2800" spc="-1" strike="noStrike">
                <a:solidFill>
                  <a:srgbClr val="000000"/>
                </a:solidFill>
                <a:latin typeface="Times New Roman"/>
              </a:rPr>
              <a:t>και παιδαγωγικές και διδακτικές στρατηγικές και μεθόδους. </a:t>
            </a:r>
            <a:br>
              <a:rPr sz="2000"/>
            </a:br>
            <a:endParaRPr b="0" lang="en-US" sz="2800" spc="-1" strike="noStrike">
              <a:solidFill>
                <a:srgbClr val="ffffff"/>
              </a:solidFill>
              <a:latin typeface="Times New Roman"/>
            </a:endParaRPr>
          </a:p>
        </p:txBody>
      </p:sp>
      <p:grpSp>
        <p:nvGrpSpPr>
          <p:cNvPr id="6851" name="Group 2"/>
          <p:cNvGrpSpPr/>
          <p:nvPr/>
        </p:nvGrpSpPr>
        <p:grpSpPr>
          <a:xfrm>
            <a:off x="0" y="115920"/>
            <a:ext cx="9142560" cy="6549840"/>
            <a:chOff x="0" y="115920"/>
            <a:chExt cx="9142560" cy="6549840"/>
          </a:xfrm>
        </p:grpSpPr>
        <p:grpSp>
          <p:nvGrpSpPr>
            <p:cNvPr id="6852" name="Group 3"/>
            <p:cNvGrpSpPr/>
            <p:nvPr/>
          </p:nvGrpSpPr>
          <p:grpSpPr>
            <a:xfrm>
              <a:off x="0" y="115920"/>
              <a:ext cx="9142560" cy="6549840"/>
              <a:chOff x="0" y="115920"/>
              <a:chExt cx="9142560" cy="6549840"/>
            </a:xfrm>
          </p:grpSpPr>
          <p:sp>
            <p:nvSpPr>
              <p:cNvPr id="685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5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5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5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58"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9"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λαίσιο αυτό </a:t>
            </a:r>
            <a:r>
              <a:rPr b="1" lang="el-GR" sz="2800" spc="-1" strike="noStrike">
                <a:solidFill>
                  <a:srgbClr val="000000"/>
                </a:solidFill>
                <a:latin typeface="Times New Roman"/>
              </a:rPr>
              <a:t>της ομαδικής διδασκαλίας </a:t>
            </a:r>
            <a:r>
              <a:rPr b="0" lang="el-GR" sz="2800" spc="-1" strike="noStrike">
                <a:solidFill>
                  <a:srgbClr val="000000"/>
                </a:solidFill>
                <a:latin typeface="Times New Roman"/>
              </a:rPr>
              <a:t>διέπεται από ισοτιμία μεταξύ των συναδέλφων και αμοιβαία εμπιστοσύνη.</a:t>
            </a:r>
            <a:br>
              <a:rPr sz="2800"/>
            </a:br>
            <a:r>
              <a:rPr b="0" lang="el-GR" sz="2800" spc="-1" strike="noStrike">
                <a:solidFill>
                  <a:srgbClr val="000000"/>
                </a:solidFill>
                <a:latin typeface="Times New Roman"/>
              </a:rPr>
              <a:t> Για να έχει αποτελεσματικότητα , όμως, απαιτεί κοινή φιλοσοφία  και κουλτούρα, </a:t>
            </a:r>
            <a:br>
              <a:rPr sz="2800"/>
            </a:br>
            <a:r>
              <a:rPr b="0" lang="el-GR" sz="2800" spc="-1" strike="noStrike">
                <a:solidFill>
                  <a:srgbClr val="000000"/>
                </a:solidFill>
                <a:latin typeface="Times New Roman"/>
              </a:rPr>
              <a:t>κοινό ρυθμό παράδοσης του μαθήματος, κοινές παιδαγωγικές και διδακτικές θεωρήσεις </a:t>
            </a:r>
            <a:br>
              <a:rPr sz="2800"/>
            </a:br>
            <a:r>
              <a:rPr b="0" lang="el-GR" sz="2800" spc="-1" strike="noStrike">
                <a:solidFill>
                  <a:srgbClr val="000000"/>
                </a:solidFill>
                <a:latin typeface="Times New Roman"/>
              </a:rPr>
              <a:t>και ταυτόσημες απόψεις για την συνεκπαίδευση, </a:t>
            </a:r>
            <a:br>
              <a:rPr sz="2800"/>
            </a:br>
            <a:r>
              <a:rPr b="0" lang="el-GR" sz="2800" spc="-1" strike="noStrike">
                <a:solidFill>
                  <a:srgbClr val="000000"/>
                </a:solidFill>
                <a:latin typeface="Times New Roman"/>
              </a:rPr>
              <a:t>τη διαφορετικότητα, τους σκοπούς και την αξία της εκπαίδευσης και του ρόλου των εκπαιδευτικών.</a:t>
            </a:r>
            <a:br>
              <a:rPr sz="2000"/>
            </a:br>
            <a:endParaRPr b="0" lang="en-US" sz="2800" spc="-1" strike="noStrike">
              <a:solidFill>
                <a:srgbClr val="ffffff"/>
              </a:solidFill>
              <a:latin typeface="Times New Roman"/>
            </a:endParaRPr>
          </a:p>
        </p:txBody>
      </p:sp>
      <p:grpSp>
        <p:nvGrpSpPr>
          <p:cNvPr id="6860" name="Group 2"/>
          <p:cNvGrpSpPr/>
          <p:nvPr/>
        </p:nvGrpSpPr>
        <p:grpSpPr>
          <a:xfrm>
            <a:off x="0" y="115920"/>
            <a:ext cx="9142560" cy="6549840"/>
            <a:chOff x="0" y="115920"/>
            <a:chExt cx="9142560" cy="6549840"/>
          </a:xfrm>
        </p:grpSpPr>
        <p:grpSp>
          <p:nvGrpSpPr>
            <p:cNvPr id="6861" name="Group 3"/>
            <p:cNvGrpSpPr/>
            <p:nvPr/>
          </p:nvGrpSpPr>
          <p:grpSpPr>
            <a:xfrm>
              <a:off x="0" y="115920"/>
              <a:ext cx="9142560" cy="6549840"/>
              <a:chOff x="0" y="115920"/>
              <a:chExt cx="9142560" cy="6549840"/>
            </a:xfrm>
          </p:grpSpPr>
          <p:sp>
            <p:nvSpPr>
              <p:cNvPr id="686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6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6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6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67"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8"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4.Σταθμοί διδασκαλίας ( </a:t>
            </a:r>
            <a:r>
              <a:rPr b="1" lang="en-US" sz="2400" spc="-1" strike="noStrike">
                <a:solidFill>
                  <a:srgbClr val="000000"/>
                </a:solidFill>
                <a:latin typeface="Times New Roman"/>
              </a:rPr>
              <a:t>Station teaching</a:t>
            </a:r>
            <a:r>
              <a:rPr b="1" lang="el-GR" sz="2400" spc="-1" strike="noStrike">
                <a:solidFill>
                  <a:srgbClr val="000000"/>
                </a:solidFill>
                <a:latin typeface="Times New Roman"/>
              </a:rPr>
              <a:t>)</a:t>
            </a:r>
            <a:br>
              <a:rPr sz="2400"/>
            </a:br>
            <a:br>
              <a:rPr sz="2400"/>
            </a:br>
            <a:r>
              <a:rPr b="0" lang="el-GR" sz="2400" spc="-1" strike="noStrike">
                <a:solidFill>
                  <a:srgbClr val="000000"/>
                </a:solidFill>
                <a:latin typeface="Times New Roman"/>
              </a:rPr>
              <a:t>Σε αυτό τον τύπο συνδιδασκαλίας οι εκπαιδευτικοί διατηρούν τις δικές τους τάξεις, αλλά διαχωρίζουν το περιεχόμενο . </a:t>
            </a:r>
            <a:br>
              <a:rPr sz="2400"/>
            </a:br>
            <a:r>
              <a:rPr b="0" lang="el-GR" sz="2400" spc="-1" strike="noStrike">
                <a:solidFill>
                  <a:srgbClr val="000000"/>
                </a:solidFill>
                <a:latin typeface="Times New Roman"/>
              </a:rPr>
              <a:t>Οι μαθητές  μπορούν να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br>
              <a:rPr sz="2400"/>
            </a:br>
            <a:r>
              <a:rPr b="0" lang="el-GR" sz="24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a:t>
            </a:r>
            <a:br>
              <a:rPr sz="2400"/>
            </a:br>
            <a:endParaRPr b="0" lang="en-US" sz="2400" spc="-1" strike="noStrike">
              <a:solidFill>
                <a:srgbClr val="ffffff"/>
              </a:solidFill>
              <a:latin typeface="Times New Roman"/>
            </a:endParaRPr>
          </a:p>
        </p:txBody>
      </p:sp>
      <p:grpSp>
        <p:nvGrpSpPr>
          <p:cNvPr id="6869" name="Group 2"/>
          <p:cNvGrpSpPr/>
          <p:nvPr/>
        </p:nvGrpSpPr>
        <p:grpSpPr>
          <a:xfrm>
            <a:off x="0" y="115920"/>
            <a:ext cx="9142560" cy="6549840"/>
            <a:chOff x="0" y="115920"/>
            <a:chExt cx="9142560" cy="6549840"/>
          </a:xfrm>
        </p:grpSpPr>
        <p:grpSp>
          <p:nvGrpSpPr>
            <p:cNvPr id="6870" name="Group 3"/>
            <p:cNvGrpSpPr/>
            <p:nvPr/>
          </p:nvGrpSpPr>
          <p:grpSpPr>
            <a:xfrm>
              <a:off x="0" y="115920"/>
              <a:ext cx="9142560" cy="6549840"/>
              <a:chOff x="0" y="115920"/>
              <a:chExt cx="9142560" cy="6549840"/>
            </a:xfrm>
          </p:grpSpPr>
          <p:sp>
            <p:nvSpPr>
              <p:cNvPr id="687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7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7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7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76"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7"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br>
              <a:rPr sz="2800"/>
            </a:br>
            <a:br>
              <a:rPr sz="2800"/>
            </a:br>
            <a:r>
              <a:rPr b="0" lang="el-GR" sz="2800" spc="-1" strike="noStrike">
                <a:solidFill>
                  <a:srgbClr val="000000"/>
                </a:solidFill>
                <a:latin typeface="Times New Roman"/>
              </a:rPr>
              <a:t>Από την άλλη πλευρά, η μετακίνηση των μαθητών δημιουργεί αναστάτωση και θόρυβο, χάσιμο χρόνου κάτι που πρέπει οι εκπαιδευτικοί να υπολογίσουν, ενώ θα πρέπει να αποφασίσουν από κοινού για το πώς θα διδάσκεται η ύλη. </a:t>
            </a:r>
            <a:br>
              <a:rPr sz="2000"/>
            </a:br>
            <a:endParaRPr b="0" lang="en-US" sz="2800" spc="-1" strike="noStrike">
              <a:solidFill>
                <a:srgbClr val="ffffff"/>
              </a:solidFill>
              <a:latin typeface="Times New Roman"/>
            </a:endParaRPr>
          </a:p>
        </p:txBody>
      </p:sp>
      <p:grpSp>
        <p:nvGrpSpPr>
          <p:cNvPr id="6878" name="Group 2"/>
          <p:cNvGrpSpPr/>
          <p:nvPr/>
        </p:nvGrpSpPr>
        <p:grpSpPr>
          <a:xfrm>
            <a:off x="0" y="115920"/>
            <a:ext cx="9142560" cy="6549840"/>
            <a:chOff x="0" y="115920"/>
            <a:chExt cx="9142560" cy="6549840"/>
          </a:xfrm>
        </p:grpSpPr>
        <p:grpSp>
          <p:nvGrpSpPr>
            <p:cNvPr id="6879" name="Group 3"/>
            <p:cNvGrpSpPr/>
            <p:nvPr/>
          </p:nvGrpSpPr>
          <p:grpSpPr>
            <a:xfrm>
              <a:off x="0" y="115920"/>
              <a:ext cx="9142560" cy="6549840"/>
              <a:chOff x="0" y="115920"/>
              <a:chExt cx="9142560" cy="6549840"/>
            </a:xfrm>
          </p:grpSpPr>
          <p:sp>
            <p:nvSpPr>
              <p:cNvPr id="688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8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8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8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85"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6"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5.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Σε αυτό τον τύπο συνδιδασκαλίας οι εκπαιδευτικοί σχεδιάζουν από κοινού τη διδασκαλία, αλλά ο καθένας διδάσκει μια διαφορετική-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endParaRPr b="0" lang="en-US" sz="2800" spc="-1" strike="noStrike">
              <a:solidFill>
                <a:srgbClr val="ffffff"/>
              </a:solidFill>
              <a:latin typeface="Times New Roman"/>
            </a:endParaRPr>
          </a:p>
        </p:txBody>
      </p:sp>
      <p:grpSp>
        <p:nvGrpSpPr>
          <p:cNvPr id="6887" name="Group 2"/>
          <p:cNvGrpSpPr/>
          <p:nvPr/>
        </p:nvGrpSpPr>
        <p:grpSpPr>
          <a:xfrm>
            <a:off x="0" y="115920"/>
            <a:ext cx="9142560" cy="6549840"/>
            <a:chOff x="0" y="115920"/>
            <a:chExt cx="9142560" cy="6549840"/>
          </a:xfrm>
        </p:grpSpPr>
        <p:grpSp>
          <p:nvGrpSpPr>
            <p:cNvPr id="6888" name="Group 3"/>
            <p:cNvGrpSpPr/>
            <p:nvPr/>
          </p:nvGrpSpPr>
          <p:grpSpPr>
            <a:xfrm>
              <a:off x="0" y="115920"/>
              <a:ext cx="9142560" cy="6549840"/>
              <a:chOff x="0" y="115920"/>
              <a:chExt cx="9142560" cy="6549840"/>
            </a:xfrm>
          </p:grpSpPr>
          <p:sp>
            <p:nvSpPr>
              <p:cNvPr id="688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89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9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9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94"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5"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Βασικός σκοπός  αυτής της μορφής  είναι </a:t>
            </a:r>
            <a:br>
              <a:rPr sz="2800"/>
            </a:br>
            <a:r>
              <a:rPr b="0" lang="el-GR" sz="2800" spc="-1" strike="noStrike">
                <a:solidFill>
                  <a:srgbClr val="000000"/>
                </a:solidFill>
                <a:latin typeface="Times New Roman"/>
              </a:rPr>
              <a:t>να μειωθεί η αναλογία εκπαιδευτικού ανά μαθητή, </a:t>
            </a:r>
            <a:br>
              <a:rPr sz="2800"/>
            </a:br>
            <a:r>
              <a:rPr b="0" lang="el-GR" sz="2800" spc="-1" strike="noStrike">
                <a:solidFill>
                  <a:srgbClr val="000000"/>
                </a:solidFill>
                <a:latin typeface="Times New Roman"/>
              </a:rPr>
              <a:t>ώστε τα παιδιά να αποκτήσουν τη δυνατότητα ουσιαστικής  συμμετοχής στο μάθημα. </a:t>
            </a:r>
            <a:br>
              <a:rPr sz="2800"/>
            </a:br>
            <a:r>
              <a:rPr b="0" lang="el-GR" sz="2800" spc="-1" strike="noStrike">
                <a:solidFill>
                  <a:srgbClr val="000000"/>
                </a:solidFill>
                <a:latin typeface="Times New Roman"/>
              </a:rPr>
              <a:t>Αυτή η μορφή παράλληλης διδασκαλίας χρησιμοποιείται για εργασίες που απαιτούν περισσότερη συζήτηση κριτική τοποθέτηση από τους μαθητές  και έντονη πρόβλεψη</a:t>
            </a:r>
            <a:r>
              <a:rPr b="0" lang="el-GR"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6896" name="Group 2"/>
          <p:cNvGrpSpPr/>
          <p:nvPr/>
        </p:nvGrpSpPr>
        <p:grpSpPr>
          <a:xfrm>
            <a:off x="0" y="115920"/>
            <a:ext cx="9142560" cy="6549840"/>
            <a:chOff x="0" y="115920"/>
            <a:chExt cx="9142560" cy="6549840"/>
          </a:xfrm>
        </p:grpSpPr>
        <p:grpSp>
          <p:nvGrpSpPr>
            <p:cNvPr id="6897" name="Group 3"/>
            <p:cNvGrpSpPr/>
            <p:nvPr/>
          </p:nvGrpSpPr>
          <p:grpSpPr>
            <a:xfrm>
              <a:off x="0" y="115920"/>
              <a:ext cx="9142560" cy="6549840"/>
              <a:chOff x="0" y="115920"/>
              <a:chExt cx="9142560" cy="6549840"/>
            </a:xfrm>
          </p:grpSpPr>
          <p:sp>
            <p:nvSpPr>
              <p:cNvPr id="689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0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0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03"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4" name="Text Box 1"/>
          <p:cNvSpPr/>
          <p:nvPr/>
        </p:nvSpPr>
        <p:spPr>
          <a:xfrm>
            <a:off x="179280" y="1392120"/>
            <a:ext cx="8640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που είναι πιο εσωστρεφείς, επομένως, μπορούν με περισσότερη ευκολία να συμμετέχουν. Η συνεργασία προωθείται και στο επίπεδο των μαθητών, καθώς εργάζονται σε μικρές ομάδες και παρουσιάζουν τις εργασίες τους στην τάξη συζητώντας και ανταλλάσοντας απόψεις. </a:t>
            </a:r>
            <a:br>
              <a:rPr sz="2800"/>
            </a:br>
            <a:r>
              <a:rPr b="0" lang="el-GR" sz="2800" spc="-1" strike="noStrike">
                <a:solidFill>
                  <a:srgbClr val="000000"/>
                </a:solidFill>
                <a:latin typeface="Times New Roman"/>
              </a:rPr>
              <a:t>Με αυτόν τον τρόπο οι εκπαιδευτικοί μπορούν να ανταποκριθούν στις ιδιαίτερες ανάγκες των μαθητών.  </a:t>
            </a:r>
            <a:br>
              <a:rPr sz="2000"/>
            </a:br>
            <a:endParaRPr b="0" lang="en-US" sz="2800" spc="-1" strike="noStrike">
              <a:solidFill>
                <a:srgbClr val="ffffff"/>
              </a:solidFill>
              <a:latin typeface="Times New Roman"/>
            </a:endParaRPr>
          </a:p>
        </p:txBody>
      </p:sp>
      <p:grpSp>
        <p:nvGrpSpPr>
          <p:cNvPr id="6905" name="Group 2"/>
          <p:cNvGrpSpPr/>
          <p:nvPr/>
        </p:nvGrpSpPr>
        <p:grpSpPr>
          <a:xfrm>
            <a:off x="0" y="115920"/>
            <a:ext cx="9142560" cy="6549840"/>
            <a:chOff x="0" y="115920"/>
            <a:chExt cx="9142560" cy="6549840"/>
          </a:xfrm>
        </p:grpSpPr>
        <p:grpSp>
          <p:nvGrpSpPr>
            <p:cNvPr id="6906" name="Group 3"/>
            <p:cNvGrpSpPr/>
            <p:nvPr/>
          </p:nvGrpSpPr>
          <p:grpSpPr>
            <a:xfrm>
              <a:off x="0" y="115920"/>
              <a:ext cx="9142560" cy="6549840"/>
              <a:chOff x="0" y="115920"/>
              <a:chExt cx="9142560" cy="6549840"/>
            </a:xfrm>
          </p:grpSpPr>
          <p:sp>
            <p:nvSpPr>
              <p:cNvPr id="690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0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12"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3" name="Text Box 1"/>
          <p:cNvSpPr/>
          <p:nvPr/>
        </p:nvSpPr>
        <p:spPr>
          <a:xfrm>
            <a:off x="179280" y="1392120"/>
            <a:ext cx="8640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000"/>
            </a:br>
            <a:endParaRPr b="0" lang="en-US" sz="2800" spc="-1" strike="noStrike">
              <a:solidFill>
                <a:srgbClr val="ffffff"/>
              </a:solidFill>
              <a:latin typeface="Times New Roman"/>
            </a:endParaRPr>
          </a:p>
        </p:txBody>
      </p:sp>
      <p:grpSp>
        <p:nvGrpSpPr>
          <p:cNvPr id="6914" name="Group 2"/>
          <p:cNvGrpSpPr/>
          <p:nvPr/>
        </p:nvGrpSpPr>
        <p:grpSpPr>
          <a:xfrm>
            <a:off x="0" y="115920"/>
            <a:ext cx="9142560" cy="6549840"/>
            <a:chOff x="0" y="115920"/>
            <a:chExt cx="9142560" cy="6549840"/>
          </a:xfrm>
        </p:grpSpPr>
        <p:grpSp>
          <p:nvGrpSpPr>
            <p:cNvPr id="6915" name="Group 3"/>
            <p:cNvGrpSpPr/>
            <p:nvPr/>
          </p:nvGrpSpPr>
          <p:grpSpPr>
            <a:xfrm>
              <a:off x="0" y="115920"/>
              <a:ext cx="9142560" cy="6549840"/>
              <a:chOff x="0" y="115920"/>
              <a:chExt cx="9142560" cy="6549840"/>
            </a:xfrm>
          </p:grpSpPr>
          <p:sp>
            <p:nvSpPr>
              <p:cNvPr id="691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1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1"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6"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2006,  έχουμε την Διακήρυξη των Ηνωμένων Εθνών για την εκπαίδευση. </a:t>
            </a:r>
            <a:br>
              <a:rPr sz="2800"/>
            </a:br>
            <a:r>
              <a:rPr b="0" lang="el-GR" sz="2800" spc="-1" strike="noStrike">
                <a:solidFill>
                  <a:srgbClr val="000000"/>
                </a:solidFill>
                <a:latin typeface="Times New Roman"/>
              </a:rPr>
              <a:t>Στο άρθρο 24 αναγνωρίζεται το δικαίωμα των ατόμων με αναπηρία στην εκπαίδευση και </a:t>
            </a:r>
            <a:br>
              <a:rPr sz="2800"/>
            </a:br>
            <a:r>
              <a:rPr b="0" lang="el-GR" sz="2800" spc="-1" strike="noStrike">
                <a:solidFill>
                  <a:srgbClr val="000000"/>
                </a:solidFill>
                <a:latin typeface="Times New Roman"/>
              </a:rPr>
              <a:t>η ανάγκη να εξασφαλιστεί </a:t>
            </a:r>
            <a:br>
              <a:rPr sz="2800"/>
            </a:br>
            <a:r>
              <a:rPr b="0" lang="el-GR" sz="2800" spc="-1" strike="noStrike">
                <a:solidFill>
                  <a:srgbClr val="000000"/>
                </a:solidFill>
                <a:latin typeface="Times New Roman"/>
              </a:rPr>
              <a:t>ένα εκπαιδευτικό σύστημα χωρίς αποκλεισμούς, </a:t>
            </a:r>
            <a:br>
              <a:rPr sz="2800"/>
            </a:br>
            <a:r>
              <a:rPr b="0" lang="el-GR" sz="2800" spc="-1" strike="noStrike">
                <a:solidFill>
                  <a:srgbClr val="000000"/>
                </a:solidFill>
                <a:latin typeface="Times New Roman"/>
              </a:rPr>
              <a:t>που να σέβεται τη διαφορετικότητα και </a:t>
            </a:r>
            <a:br>
              <a:rPr sz="2800"/>
            </a:br>
            <a:r>
              <a:rPr b="0" lang="el-GR" sz="2800" spc="-1" strike="noStrike">
                <a:solidFill>
                  <a:srgbClr val="000000"/>
                </a:solidFill>
                <a:latin typeface="Times New Roman"/>
              </a:rPr>
              <a:t>να παρέχει ίσες ευκαιρίες για όλους. </a:t>
            </a:r>
            <a:br>
              <a:rPr sz="2000"/>
            </a:br>
            <a:endParaRPr b="0" lang="en-US" sz="2800" spc="-1" strike="noStrike">
              <a:solidFill>
                <a:srgbClr val="ffffff"/>
              </a:solidFill>
              <a:latin typeface="Times New Roman"/>
            </a:endParaRPr>
          </a:p>
        </p:txBody>
      </p:sp>
      <p:grpSp>
        <p:nvGrpSpPr>
          <p:cNvPr id="6437" name="Group 2"/>
          <p:cNvGrpSpPr/>
          <p:nvPr/>
        </p:nvGrpSpPr>
        <p:grpSpPr>
          <a:xfrm>
            <a:off x="0" y="115920"/>
            <a:ext cx="9142560" cy="6549840"/>
            <a:chOff x="0" y="115920"/>
            <a:chExt cx="9142560" cy="6549840"/>
          </a:xfrm>
        </p:grpSpPr>
        <p:grpSp>
          <p:nvGrpSpPr>
            <p:cNvPr id="6438" name="Group 3"/>
            <p:cNvGrpSpPr/>
            <p:nvPr/>
          </p:nvGrpSpPr>
          <p:grpSpPr>
            <a:xfrm>
              <a:off x="0" y="115920"/>
              <a:ext cx="9142560" cy="6549840"/>
              <a:chOff x="0" y="115920"/>
              <a:chExt cx="9142560" cy="6549840"/>
            </a:xfrm>
          </p:grpSpPr>
          <p:sp>
            <p:nvSpPr>
              <p:cNvPr id="643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4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4"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2"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6. 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Σε αυτό τον τύπο συνδιδασκαλίας –της  εναλλακτικής διδασκαλίας- λαμβάνει χώρα 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a:t>
            </a:r>
            <a:endParaRPr b="0" lang="en-US" sz="2800" spc="-1" strike="noStrike">
              <a:solidFill>
                <a:srgbClr val="ffffff"/>
              </a:solidFill>
              <a:latin typeface="Times New Roman"/>
            </a:endParaRPr>
          </a:p>
        </p:txBody>
      </p:sp>
      <p:grpSp>
        <p:nvGrpSpPr>
          <p:cNvPr id="6923" name="Group 2"/>
          <p:cNvGrpSpPr/>
          <p:nvPr/>
        </p:nvGrpSpPr>
        <p:grpSpPr>
          <a:xfrm>
            <a:off x="0" y="115920"/>
            <a:ext cx="9142560" cy="6549840"/>
            <a:chOff x="0" y="115920"/>
            <a:chExt cx="9142560" cy="6549840"/>
          </a:xfrm>
        </p:grpSpPr>
        <p:grpSp>
          <p:nvGrpSpPr>
            <p:cNvPr id="6924" name="Group 3"/>
            <p:cNvGrpSpPr/>
            <p:nvPr/>
          </p:nvGrpSpPr>
          <p:grpSpPr>
            <a:xfrm>
              <a:off x="0" y="115920"/>
              <a:ext cx="9142560" cy="6549840"/>
              <a:chOff x="0" y="115920"/>
              <a:chExt cx="9142560" cy="6549840"/>
            </a:xfrm>
          </p:grpSpPr>
          <p:sp>
            <p:nvSpPr>
              <p:cNvPr id="692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2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2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0"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1"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ε αυτή τη μορφή συνδιδασκαλίας οι μαθητές έχουν ευκαιρίες περισσότερες και πιο πλούσιες ευκαιρίες αλληλεπίδρασης με τους συμμαθητές τους και τους δασκάλους τους  και λαμβάνουν βοήθεια σε θέματα συμπεριφοράς, ενώ μπορούν να συμμετέχουν σε εργασίες  και να καλύπτουν τα κενά τους. </a:t>
            </a:r>
            <a:endParaRPr b="0" lang="en-US" sz="2800" spc="-1" strike="noStrike">
              <a:solidFill>
                <a:srgbClr val="ffffff"/>
              </a:solidFill>
              <a:latin typeface="Times New Roman"/>
            </a:endParaRPr>
          </a:p>
        </p:txBody>
      </p:sp>
      <p:grpSp>
        <p:nvGrpSpPr>
          <p:cNvPr id="6932" name="Group 2"/>
          <p:cNvGrpSpPr/>
          <p:nvPr/>
        </p:nvGrpSpPr>
        <p:grpSpPr>
          <a:xfrm>
            <a:off x="0" y="115920"/>
            <a:ext cx="9142560" cy="6549840"/>
            <a:chOff x="0" y="115920"/>
            <a:chExt cx="9142560" cy="6549840"/>
          </a:xfrm>
        </p:grpSpPr>
        <p:grpSp>
          <p:nvGrpSpPr>
            <p:cNvPr id="6933" name="Group 3"/>
            <p:cNvGrpSpPr/>
            <p:nvPr/>
          </p:nvGrpSpPr>
          <p:grpSpPr>
            <a:xfrm>
              <a:off x="0" y="115920"/>
              <a:ext cx="9142560" cy="6549840"/>
              <a:chOff x="0" y="115920"/>
              <a:chExt cx="9142560" cy="6549840"/>
            </a:xfrm>
          </p:grpSpPr>
          <p:sp>
            <p:nvSpPr>
              <p:cNvPr id="693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3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3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9"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a:t>
            </a:r>
            <a:br>
              <a:rPr sz="2800"/>
            </a:br>
            <a:r>
              <a:rPr b="0" lang="el-GR" sz="2800" spc="-1" strike="noStrike">
                <a:solidFill>
                  <a:srgbClr val="000000"/>
                </a:solidFill>
                <a:latin typeface="Times New Roman"/>
              </a:rPr>
              <a:t>Για αυτό το λόγο είναι σημαντικό να αλλάζει τακτικά η σύνθεση της ομάδας που θα λάβει τη διαφοροποιημένη διδασκαλία. </a:t>
            </a:r>
            <a:br>
              <a:rPr sz="2000"/>
            </a:br>
            <a:endParaRPr b="0" lang="en-US" sz="2800" spc="-1" strike="noStrike">
              <a:solidFill>
                <a:srgbClr val="ffffff"/>
              </a:solidFill>
              <a:latin typeface="Times New Roman"/>
            </a:endParaRPr>
          </a:p>
        </p:txBody>
      </p:sp>
      <p:grpSp>
        <p:nvGrpSpPr>
          <p:cNvPr id="6941" name="Group 2"/>
          <p:cNvGrpSpPr/>
          <p:nvPr/>
        </p:nvGrpSpPr>
        <p:grpSpPr>
          <a:xfrm>
            <a:off x="0" y="115920"/>
            <a:ext cx="9142560" cy="6549840"/>
            <a:chOff x="0" y="115920"/>
            <a:chExt cx="9142560" cy="6549840"/>
          </a:xfrm>
        </p:grpSpPr>
        <p:grpSp>
          <p:nvGrpSpPr>
            <p:cNvPr id="6942" name="Group 3"/>
            <p:cNvGrpSpPr/>
            <p:nvPr/>
          </p:nvGrpSpPr>
          <p:grpSpPr>
            <a:xfrm>
              <a:off x="0" y="115920"/>
              <a:ext cx="9142560" cy="6549840"/>
              <a:chOff x="0" y="115920"/>
              <a:chExt cx="9142560" cy="6549840"/>
            </a:xfrm>
          </p:grpSpPr>
          <p:sp>
            <p:nvSpPr>
              <p:cNvPr id="694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4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4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48"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9"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ΘΕΣΜΙΚΟ ΠΛΑΙΣΙΟ ΣΥΝΔΙΔΑΣΚΑΛΙΑΣ ΣΤΗΝ ΕΛΛΑΔΑ</a:t>
            </a:r>
            <a:br>
              <a:rPr sz="2400"/>
            </a:br>
            <a:br>
              <a:rPr sz="2400"/>
            </a:br>
            <a:r>
              <a:rPr b="0" lang="el-GR" sz="2400" spc="-1" strike="noStrike">
                <a:solidFill>
                  <a:srgbClr val="000000"/>
                </a:solidFill>
                <a:latin typeface="Times New Roman"/>
              </a:rPr>
              <a:t>Στην Ελλάδα  οι μορφές συνδιδασκαλίας  με σκοπό να γίνει φανερό με ποιο τρόπο λειτουργούσε αυτή η εκπαίδευση και αν τελικά η Ελλάδα κατάφερε να προσεγγίσει τη συνεκπαίδευση.</a:t>
            </a:r>
            <a:r>
              <a:rPr b="0" lang="el-GR" sz="2000" spc="-1" strike="noStrike">
                <a:solidFill>
                  <a:srgbClr val="000000"/>
                </a:solidFill>
                <a:latin typeface="Times New Roman"/>
              </a:rPr>
              <a:t> </a:t>
            </a:r>
            <a:endParaRPr b="0" lang="en-US" sz="2000" spc="-1" strike="noStrike">
              <a:solidFill>
                <a:srgbClr val="ffffff"/>
              </a:solidFill>
              <a:latin typeface="Times New Roman"/>
            </a:endParaRPr>
          </a:p>
        </p:txBody>
      </p:sp>
      <p:grpSp>
        <p:nvGrpSpPr>
          <p:cNvPr id="6950" name="Group 2"/>
          <p:cNvGrpSpPr/>
          <p:nvPr/>
        </p:nvGrpSpPr>
        <p:grpSpPr>
          <a:xfrm>
            <a:off x="0" y="115920"/>
            <a:ext cx="9142560" cy="6549840"/>
            <a:chOff x="0" y="115920"/>
            <a:chExt cx="9142560" cy="6549840"/>
          </a:xfrm>
        </p:grpSpPr>
        <p:grpSp>
          <p:nvGrpSpPr>
            <p:cNvPr id="6951" name="Group 3"/>
            <p:cNvGrpSpPr/>
            <p:nvPr/>
          </p:nvGrpSpPr>
          <p:grpSpPr>
            <a:xfrm>
              <a:off x="0" y="115920"/>
              <a:ext cx="9142560" cy="6549840"/>
              <a:chOff x="0" y="115920"/>
              <a:chExt cx="9142560" cy="6549840"/>
            </a:xfrm>
          </p:grpSpPr>
          <p:sp>
            <p:nvSpPr>
              <p:cNvPr id="695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5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5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57"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Αρχικά, η πρώτη συνταγματική αναφορά για την εκπαίδευση των ατόμων με αναπηρία γίνεται  στο σύνταγμα  του 1975, με το άρθρο 21. </a:t>
            </a:r>
            <a:br>
              <a:rPr sz="2400"/>
            </a:br>
            <a:r>
              <a:rPr b="0" lang="el-GR" sz="2400" spc="-1" strike="noStrike">
                <a:solidFill>
                  <a:srgbClr val="000000"/>
                </a:solidFill>
                <a:latin typeface="Times New Roman"/>
              </a:rPr>
              <a:t>Λίγα χρόνια αργότερα έχουμε πιο ουσιαστική καταγραφή με το ν. 1143/1981, ο οποίος αφορά την Ειδική Αγωγή και την Ειδική Επαγγελματική Εκπαίδευση. </a:t>
            </a:r>
            <a:br>
              <a:rPr sz="2400"/>
            </a:br>
            <a:br>
              <a:rPr sz="2400"/>
            </a:br>
            <a:r>
              <a:rPr b="0" lang="el-GR" sz="2400" spc="-1" strike="noStrike">
                <a:solidFill>
                  <a:srgbClr val="000000"/>
                </a:solidFill>
                <a:latin typeface="Times New Roman"/>
              </a:rPr>
              <a:t>Στο  ν. 1143/1981 με εξουσιοδοτικές διατάξεις( με προεδρικά διατάγματα )προβλέπεται και η λειτουργία «Ειδικών Τάξεων» στα σχολεία γενικής εκπαίδευσης, η οποία ξεκίνησε δύο με τρία αργότερα.</a:t>
            </a:r>
            <a:endParaRPr b="0" lang="en-US" sz="2400" spc="-1" strike="noStrike">
              <a:solidFill>
                <a:srgbClr val="ffffff"/>
              </a:solidFill>
              <a:latin typeface="Times New Roman"/>
            </a:endParaRPr>
          </a:p>
        </p:txBody>
      </p:sp>
      <p:grpSp>
        <p:nvGrpSpPr>
          <p:cNvPr id="6959" name="Group 2"/>
          <p:cNvGrpSpPr/>
          <p:nvPr/>
        </p:nvGrpSpPr>
        <p:grpSpPr>
          <a:xfrm>
            <a:off x="0" y="115920"/>
            <a:ext cx="9142560" cy="6549840"/>
            <a:chOff x="0" y="115920"/>
            <a:chExt cx="9142560" cy="6549840"/>
          </a:xfrm>
        </p:grpSpPr>
        <p:grpSp>
          <p:nvGrpSpPr>
            <p:cNvPr id="6960" name="Group 3"/>
            <p:cNvGrpSpPr/>
            <p:nvPr/>
          </p:nvGrpSpPr>
          <p:grpSpPr>
            <a:xfrm>
              <a:off x="0" y="115920"/>
              <a:ext cx="9142560" cy="6549840"/>
              <a:chOff x="0" y="115920"/>
              <a:chExt cx="9142560" cy="6549840"/>
            </a:xfrm>
          </p:grpSpPr>
          <p:sp>
            <p:nvSpPr>
              <p:cNvPr id="696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6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6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65"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66"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7" name="Text Box 1"/>
          <p:cNvSpPr/>
          <p:nvPr/>
        </p:nvSpPr>
        <p:spPr>
          <a:xfrm>
            <a:off x="539640" y="1392120"/>
            <a:ext cx="813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νόμος-Πλαίσιο 1566/ 1985 αναφέρεται στην ένταξη της Ειδικής Αγωγής στην γενική εκπαίδευση. Σύμφωνα με αυτό το νόμο η πολιτεία αναλαμβάνει ως δικό της έργο την εκπαίδευση των ατόμων  με αναπηρία και θεσπίζει υπηρεσίες υποστήριξης και ειδικούς επιστήμονες, όπως παιδαγωγούς, φυσιοθεραπευτές, κοινωνικούς λειτουργούς και λογοθεραπευτές να πλαισιώσουν τις υπηρεσίες αυτές. </a:t>
            </a:r>
            <a:endParaRPr b="0" lang="en-US" sz="2800" spc="-1" strike="noStrike">
              <a:solidFill>
                <a:srgbClr val="ffffff"/>
              </a:solidFill>
              <a:latin typeface="Times New Roman"/>
            </a:endParaRPr>
          </a:p>
        </p:txBody>
      </p:sp>
      <p:grpSp>
        <p:nvGrpSpPr>
          <p:cNvPr id="6968" name="Group 2"/>
          <p:cNvGrpSpPr/>
          <p:nvPr/>
        </p:nvGrpSpPr>
        <p:grpSpPr>
          <a:xfrm>
            <a:off x="0" y="115920"/>
            <a:ext cx="9142560" cy="6549840"/>
            <a:chOff x="0" y="115920"/>
            <a:chExt cx="9142560" cy="6549840"/>
          </a:xfrm>
        </p:grpSpPr>
        <p:grpSp>
          <p:nvGrpSpPr>
            <p:cNvPr id="6969" name="Group 3"/>
            <p:cNvGrpSpPr/>
            <p:nvPr/>
          </p:nvGrpSpPr>
          <p:grpSpPr>
            <a:xfrm>
              <a:off x="0" y="115920"/>
              <a:ext cx="9142560" cy="6549840"/>
              <a:chOff x="0" y="115920"/>
              <a:chExt cx="9142560" cy="6549840"/>
            </a:xfrm>
          </p:grpSpPr>
          <p:sp>
            <p:nvSpPr>
              <p:cNvPr id="697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7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7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75"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τηρούμε ότι τις δεκαετίες αυτές υπάρχει μία προσπάθεια βελτίωσης και εξασφάλισης της δημόσιας εκπαίδευσης των ατόμων με αναπηρία και ειδικές εκπαιδευτικές ανάγκες, όμως το ελληνικό σύστημα κινείται  στα πλαίσια του «ιατροκεντρικού μοντέλου», διότι η ορολογία (π.χ. «αποκλίνον άτομο») και οι παροχές φαίνεται να τηρούν κατά βάση ένα σύστημα διαχωρισμού.  </a:t>
            </a:r>
            <a:endParaRPr b="0" lang="en-US" sz="2800" spc="-1" strike="noStrike">
              <a:solidFill>
                <a:srgbClr val="ffffff"/>
              </a:solidFill>
              <a:latin typeface="Times New Roman"/>
            </a:endParaRPr>
          </a:p>
        </p:txBody>
      </p:sp>
      <p:grpSp>
        <p:nvGrpSpPr>
          <p:cNvPr id="6977" name="Group 2"/>
          <p:cNvGrpSpPr/>
          <p:nvPr/>
        </p:nvGrpSpPr>
        <p:grpSpPr>
          <a:xfrm>
            <a:off x="0" y="115920"/>
            <a:ext cx="9142560" cy="6549840"/>
            <a:chOff x="0" y="115920"/>
            <a:chExt cx="9142560" cy="6549840"/>
          </a:xfrm>
        </p:grpSpPr>
        <p:grpSp>
          <p:nvGrpSpPr>
            <p:cNvPr id="6978" name="Group 3"/>
            <p:cNvGrpSpPr/>
            <p:nvPr/>
          </p:nvGrpSpPr>
          <p:grpSpPr>
            <a:xfrm>
              <a:off x="0" y="115920"/>
              <a:ext cx="9142560" cy="6549840"/>
              <a:chOff x="0" y="115920"/>
              <a:chExt cx="9142560" cy="6549840"/>
            </a:xfrm>
          </p:grpSpPr>
          <p:sp>
            <p:nvSpPr>
              <p:cNvPr id="697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8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8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84" name="Picture 9"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5"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ύο πιο πρόσφατοι νόμοι για την ειδική αγωγή  ν.2817/2000  και ν. 3699/2008 κινούνται σε πιο φιλελεύθερες  κατευθύνσεις.</a:t>
            </a:r>
            <a:br>
              <a:rPr sz="2800"/>
            </a:br>
            <a:r>
              <a:rPr b="0" lang="el-GR" sz="2800" spc="-1" strike="noStrike">
                <a:solidFill>
                  <a:srgbClr val="000000"/>
                </a:solidFill>
                <a:latin typeface="Times New Roman"/>
              </a:rPr>
              <a:t>Η αύξηση των παιδιών με ειδικές εκπαιδευτικές ανάγκες και αναπηρία, η εξέλιξη στο χώρο της Παιδαγωγικής στην Ελλάδα και η επιρροή από τα δεδομένα του εξωτερικού οδηγούν στην αλλαγή της νομοθεσίας στην Ελλάδα και στη θέσπιση μίας μορφής συνδιδασκαλίας που στην Ελλάδα παίρνει τη μορφή της Παράλληλης Στήριξης. </a:t>
            </a:r>
            <a:br>
              <a:rPr sz="2000"/>
            </a:br>
            <a:endParaRPr b="0" lang="en-US" sz="2800" spc="-1" strike="noStrike">
              <a:solidFill>
                <a:srgbClr val="ffffff"/>
              </a:solidFill>
              <a:latin typeface="Times New Roman"/>
            </a:endParaRPr>
          </a:p>
        </p:txBody>
      </p:sp>
      <p:grpSp>
        <p:nvGrpSpPr>
          <p:cNvPr id="6986" name="Group 2"/>
          <p:cNvGrpSpPr/>
          <p:nvPr/>
        </p:nvGrpSpPr>
        <p:grpSpPr>
          <a:xfrm>
            <a:off x="0" y="115920"/>
            <a:ext cx="9142560" cy="6549840"/>
            <a:chOff x="0" y="115920"/>
            <a:chExt cx="9142560" cy="6549840"/>
          </a:xfrm>
        </p:grpSpPr>
        <p:grpSp>
          <p:nvGrpSpPr>
            <p:cNvPr id="6987" name="Group 3"/>
            <p:cNvGrpSpPr/>
            <p:nvPr/>
          </p:nvGrpSpPr>
          <p:grpSpPr>
            <a:xfrm>
              <a:off x="0" y="115920"/>
              <a:ext cx="9142560" cy="6549840"/>
              <a:chOff x="0" y="115920"/>
              <a:chExt cx="9142560" cy="6549840"/>
            </a:xfrm>
          </p:grpSpPr>
          <p:sp>
            <p:nvSpPr>
              <p:cNvPr id="698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9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93" name="Picture 9"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4" name="Text Box 1"/>
          <p:cNvSpPr/>
          <p:nvPr/>
        </p:nvSpPr>
        <p:spPr>
          <a:xfrm>
            <a:off x="468360" y="1392120"/>
            <a:ext cx="813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νόμος 2817/2000 προσδιορίζει  τις κατηγορίες των ειδικών εκπαιδευτικών αναγκών και τους σκοπούς της ειδικής εκπαίδευσης και της επαγγελματικής ειδικής εκπαίδευσης. </a:t>
            </a:r>
            <a:br>
              <a:rPr sz="2800"/>
            </a:br>
            <a:r>
              <a:rPr b="0" lang="el-GR" sz="2800" spc="-1" strike="noStrike">
                <a:solidFill>
                  <a:srgbClr val="000000"/>
                </a:solidFill>
                <a:latin typeface="Times New Roman"/>
              </a:rPr>
              <a:t>Αναλυτικότερα, οι σκοποί αυτοί αφορούν την ανάπτυξη της προσωπικότητας και τη βελτίωση των δεξιοτήτων, αλλά και την επαγγελματική γνώση και την κοινωνική ένταξη και ισότιμη κοινωνική συμμετοχή. </a:t>
            </a:r>
            <a:br>
              <a:rPr sz="2000"/>
            </a:br>
            <a:endParaRPr b="0" lang="en-US" sz="2800" spc="-1" strike="noStrike">
              <a:solidFill>
                <a:srgbClr val="ffffff"/>
              </a:solidFill>
              <a:latin typeface="Times New Roman"/>
            </a:endParaRPr>
          </a:p>
        </p:txBody>
      </p:sp>
      <p:grpSp>
        <p:nvGrpSpPr>
          <p:cNvPr id="6995" name="Group 2"/>
          <p:cNvGrpSpPr/>
          <p:nvPr/>
        </p:nvGrpSpPr>
        <p:grpSpPr>
          <a:xfrm>
            <a:off x="0" y="115920"/>
            <a:ext cx="9142560" cy="6549840"/>
            <a:chOff x="0" y="115920"/>
            <a:chExt cx="9142560" cy="6549840"/>
          </a:xfrm>
        </p:grpSpPr>
        <p:grpSp>
          <p:nvGrpSpPr>
            <p:cNvPr id="6996" name="Group 3"/>
            <p:cNvGrpSpPr/>
            <p:nvPr/>
          </p:nvGrpSpPr>
          <p:grpSpPr>
            <a:xfrm>
              <a:off x="0" y="115920"/>
              <a:ext cx="9142560" cy="6549840"/>
              <a:chOff x="0" y="115920"/>
              <a:chExt cx="9142560" cy="6549840"/>
            </a:xfrm>
          </p:grpSpPr>
          <p:sp>
            <p:nvSpPr>
              <p:cNvPr id="699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99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02"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3" name="Text Box 1"/>
          <p:cNvSpPr/>
          <p:nvPr/>
        </p:nvSpPr>
        <p:spPr>
          <a:xfrm>
            <a:off x="468360" y="1392120"/>
            <a:ext cx="813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3200" spc="-1" strike="noStrike">
                <a:solidFill>
                  <a:srgbClr val="000000"/>
                </a:solidFill>
                <a:latin typeface="Times New Roman"/>
              </a:rPr>
              <a:t>Στον ίδιο νόμο αναφέρεται ξεκάθαρα και η δυνατότητα εκπαίδευσης μέσα στο γενικό σχολείο με παράλληλη στήριξη από εκπαιδευτικό ειδικής αγωγής </a:t>
            </a:r>
            <a:br>
              <a:rPr sz="3200"/>
            </a:br>
            <a:r>
              <a:rPr b="0" lang="el-GR" sz="3200" spc="-1" strike="noStrike">
                <a:solidFill>
                  <a:srgbClr val="000000"/>
                </a:solidFill>
                <a:latin typeface="Times New Roman"/>
              </a:rPr>
              <a:t>( άρθρο 7 τουΝ. 2817/2000). </a:t>
            </a:r>
            <a:br>
              <a:rPr sz="2000"/>
            </a:br>
            <a:endParaRPr b="0" lang="en-US" sz="3200" spc="-1" strike="noStrike">
              <a:solidFill>
                <a:srgbClr val="ffffff"/>
              </a:solidFill>
              <a:latin typeface="Times New Roman"/>
            </a:endParaRPr>
          </a:p>
        </p:txBody>
      </p:sp>
      <p:grpSp>
        <p:nvGrpSpPr>
          <p:cNvPr id="7004" name="Group 2"/>
          <p:cNvGrpSpPr/>
          <p:nvPr/>
        </p:nvGrpSpPr>
        <p:grpSpPr>
          <a:xfrm>
            <a:off x="0" y="115920"/>
            <a:ext cx="9142560" cy="6549840"/>
            <a:chOff x="0" y="115920"/>
            <a:chExt cx="9142560" cy="6549840"/>
          </a:xfrm>
        </p:grpSpPr>
        <p:grpSp>
          <p:nvGrpSpPr>
            <p:cNvPr id="7005" name="Group 3"/>
            <p:cNvGrpSpPr/>
            <p:nvPr/>
          </p:nvGrpSpPr>
          <p:grpSpPr>
            <a:xfrm>
              <a:off x="0" y="115920"/>
              <a:ext cx="9142560" cy="6549840"/>
              <a:chOff x="0" y="115920"/>
              <a:chExt cx="9142560" cy="6549840"/>
            </a:xfrm>
          </p:grpSpPr>
          <p:sp>
            <p:nvSpPr>
              <p:cNvPr id="700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0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1"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5"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κράτη είναι υπεύθυνα </a:t>
            </a:r>
            <a:br>
              <a:rPr sz="2800"/>
            </a:br>
            <a:r>
              <a:rPr b="0" lang="el-GR" sz="2800" spc="-1" strike="noStrike">
                <a:solidFill>
                  <a:srgbClr val="000000"/>
                </a:solidFill>
                <a:latin typeface="Times New Roman"/>
              </a:rPr>
              <a:t>να παρέχουν ισότιμη πρόσβαση σε όλους </a:t>
            </a:r>
            <a:br>
              <a:rPr sz="2800"/>
            </a:br>
            <a:r>
              <a:rPr b="0" lang="el-GR" sz="2800" spc="-1" strike="noStrike">
                <a:solidFill>
                  <a:srgbClr val="000000"/>
                </a:solidFill>
                <a:latin typeface="Times New Roman"/>
              </a:rPr>
              <a:t>ανεξαιρέτως και εξειδικευμένα προγράμματα υποστήριξης. </a:t>
            </a:r>
            <a:br>
              <a:rPr sz="2800"/>
            </a:br>
            <a:br>
              <a:rPr sz="2800"/>
            </a:br>
            <a:r>
              <a:rPr b="0" lang="el-GR" sz="2800" spc="-1" strike="noStrike">
                <a:solidFill>
                  <a:srgbClr val="000000"/>
                </a:solidFill>
                <a:latin typeface="Times New Roman"/>
              </a:rPr>
              <a:t> Έτσι σιγά σιγά οδηγούμαστε προς </a:t>
            </a:r>
            <a:r>
              <a:rPr b="1" lang="el-GR" sz="2800" spc="-1" strike="noStrike">
                <a:solidFill>
                  <a:srgbClr val="000000"/>
                </a:solidFill>
                <a:latin typeface="Times New Roman"/>
              </a:rPr>
              <a:t>την κατεύθυνση </a:t>
            </a:r>
            <a:br>
              <a:rPr sz="2800"/>
            </a:br>
            <a:r>
              <a:rPr b="1" lang="el-GR" sz="2800" spc="-1" strike="noStrike">
                <a:solidFill>
                  <a:srgbClr val="000000"/>
                </a:solidFill>
                <a:latin typeface="Times New Roman"/>
              </a:rPr>
              <a:t>της συνεκπαίδευσης και του Ενιαίου Σχολείου</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πό πολλούς επιστήμονες εκφράζονται προβληματισμοί για το αν αυτό επιτυγχάνεται ή μπορεί να επιτευχθεί και στην πράξη. </a:t>
            </a:r>
            <a:br>
              <a:rPr sz="2000"/>
            </a:br>
            <a:endParaRPr b="0" lang="en-US" sz="2800" spc="-1" strike="noStrike">
              <a:solidFill>
                <a:srgbClr val="ffffff"/>
              </a:solidFill>
              <a:latin typeface="Times New Roman"/>
            </a:endParaRPr>
          </a:p>
        </p:txBody>
      </p:sp>
      <p:grpSp>
        <p:nvGrpSpPr>
          <p:cNvPr id="6446" name="Group 2"/>
          <p:cNvGrpSpPr/>
          <p:nvPr/>
        </p:nvGrpSpPr>
        <p:grpSpPr>
          <a:xfrm>
            <a:off x="0" y="115920"/>
            <a:ext cx="9142560" cy="6549840"/>
            <a:chOff x="0" y="115920"/>
            <a:chExt cx="9142560" cy="6549840"/>
          </a:xfrm>
        </p:grpSpPr>
        <p:grpSp>
          <p:nvGrpSpPr>
            <p:cNvPr id="6447" name="Group 3"/>
            <p:cNvGrpSpPr/>
            <p:nvPr/>
          </p:nvGrpSpPr>
          <p:grpSpPr>
            <a:xfrm>
              <a:off x="0" y="115920"/>
              <a:ext cx="9142560" cy="6549840"/>
              <a:chOff x="0" y="115920"/>
              <a:chExt cx="9142560" cy="6549840"/>
            </a:xfrm>
          </p:grpSpPr>
          <p:sp>
            <p:nvSpPr>
              <p:cNvPr id="644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5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3"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πιο πρόσφατος νόμος 3699/2008  δίνει  τη δυνατότητα φοίτησης στο γενικό σχολείο και στα παιδιά με ειδικές εκπαιδευτικές ανάγκες με υποστήριξη από ειδικό παιδαγωγό, ανάλογα με τη σοβαρότητα και το είδος της διάγνωσης. </a:t>
            </a:r>
            <a:br>
              <a:rPr sz="2800"/>
            </a:br>
            <a:r>
              <a:rPr b="1" lang="el-GR" sz="2800" spc="-1" strike="noStrike">
                <a:solidFill>
                  <a:srgbClr val="000000"/>
                </a:solidFill>
                <a:latin typeface="Times New Roman"/>
              </a:rPr>
              <a:t>Αυτή η μορφή συνδιδασκαλίας είναι η   Παράλληλη Στήριξη.</a:t>
            </a:r>
            <a:br>
              <a:rPr sz="2000"/>
            </a:br>
            <a:endParaRPr b="0" lang="en-US" sz="2800" spc="-1" strike="noStrike">
              <a:solidFill>
                <a:srgbClr val="ffffff"/>
              </a:solidFill>
              <a:latin typeface="Times New Roman"/>
            </a:endParaRPr>
          </a:p>
        </p:txBody>
      </p:sp>
      <p:grpSp>
        <p:nvGrpSpPr>
          <p:cNvPr id="7013" name="Group 2"/>
          <p:cNvGrpSpPr/>
          <p:nvPr/>
        </p:nvGrpSpPr>
        <p:grpSpPr>
          <a:xfrm>
            <a:off x="0" y="115920"/>
            <a:ext cx="9142560" cy="6549840"/>
            <a:chOff x="0" y="115920"/>
            <a:chExt cx="9142560" cy="6549840"/>
          </a:xfrm>
        </p:grpSpPr>
        <p:grpSp>
          <p:nvGrpSpPr>
            <p:cNvPr id="7014" name="Group 3"/>
            <p:cNvGrpSpPr/>
            <p:nvPr/>
          </p:nvGrpSpPr>
          <p:grpSpPr>
            <a:xfrm>
              <a:off x="0" y="115920"/>
              <a:ext cx="9142560" cy="6549840"/>
              <a:chOff x="0" y="115920"/>
              <a:chExt cx="9142560" cy="6549840"/>
            </a:xfrm>
          </p:grpSpPr>
          <p:sp>
            <p:nvSpPr>
              <p:cNvPr id="701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1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1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20" name="Picture 9"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1"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λληλη Στήριξη καθορίζεται από το αρμόδιο ΚΕΣΥ, το οποίο εισηγείται με γραπτή γνωμάτευση που είναι απαραίτητη και εξηγεί τους λόγους και τις ώρες της παράλληλης στήριξης, που μπορεί να παρέχεται στο παιδί ακόμη και αν λειτουργεί στο σχολείο τμήμα ένταξης. Η Παράλληλη Στήριξη υλοποιείται από τους εκπαιδευτικούς που είναι εγγεγραμμένοι στον Πίνακα Β1(Κύριος πίνακας)</a:t>
            </a:r>
            <a:br>
              <a:rPr sz="2800"/>
            </a:br>
            <a:br>
              <a:rPr sz="2800"/>
            </a:br>
            <a:endParaRPr b="0" lang="en-US" sz="2800" spc="-1" strike="noStrike">
              <a:solidFill>
                <a:srgbClr val="ffffff"/>
              </a:solidFill>
              <a:latin typeface="Times New Roman"/>
            </a:endParaRPr>
          </a:p>
        </p:txBody>
      </p:sp>
      <p:grpSp>
        <p:nvGrpSpPr>
          <p:cNvPr id="7022" name="Group 2"/>
          <p:cNvGrpSpPr/>
          <p:nvPr/>
        </p:nvGrpSpPr>
        <p:grpSpPr>
          <a:xfrm>
            <a:off x="0" y="115920"/>
            <a:ext cx="9142560" cy="6549840"/>
            <a:chOff x="0" y="115920"/>
            <a:chExt cx="9142560" cy="6549840"/>
          </a:xfrm>
        </p:grpSpPr>
        <p:grpSp>
          <p:nvGrpSpPr>
            <p:cNvPr id="7023" name="Group 3"/>
            <p:cNvGrpSpPr/>
            <p:nvPr/>
          </p:nvGrpSpPr>
          <p:grpSpPr>
            <a:xfrm>
              <a:off x="0" y="115920"/>
              <a:ext cx="9142560" cy="6549840"/>
              <a:chOff x="0" y="115920"/>
              <a:chExt cx="9142560" cy="6549840"/>
            </a:xfrm>
          </p:grpSpPr>
          <p:sp>
            <p:nvSpPr>
              <p:cNvPr id="702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2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2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29" name="Picture 9"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0"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οι ανάγκες για ειδικούς εκπαιδευτικούς δεν επαρκούν για να καλύψουν τα κενά, τότε σύμφωνα με το Ν. 3879/2010, προσλαμβάνονται   εκπαιδευτικοί που είναι εγγεγραμμένοι στον Πίνακα Β2(Επικουρικός πίνακας)  και στη συνέχεια αν και αυτοί οι πίνακες εξαντληθούν από τους γενικούς πίνακες </a:t>
            </a:r>
            <a:r>
              <a:rPr b="0" lang="el-GR"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7031" name="Group 2"/>
          <p:cNvGrpSpPr/>
          <p:nvPr/>
        </p:nvGrpSpPr>
        <p:grpSpPr>
          <a:xfrm>
            <a:off x="0" y="115920"/>
            <a:ext cx="9142560" cy="6549840"/>
            <a:chOff x="0" y="115920"/>
            <a:chExt cx="9142560" cy="6549840"/>
          </a:xfrm>
        </p:grpSpPr>
        <p:grpSp>
          <p:nvGrpSpPr>
            <p:cNvPr id="7032" name="Group 3"/>
            <p:cNvGrpSpPr/>
            <p:nvPr/>
          </p:nvGrpSpPr>
          <p:grpSpPr>
            <a:xfrm>
              <a:off x="0" y="115920"/>
              <a:ext cx="9142560" cy="6549840"/>
              <a:chOff x="0" y="115920"/>
              <a:chExt cx="9142560" cy="6549840"/>
            </a:xfrm>
          </p:grpSpPr>
          <p:sp>
            <p:nvSpPr>
              <p:cNvPr id="703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3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3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38" name="Picture 9"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9"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Τέλος, όσοι εκπαιδευτικοί αναλαμβάνουν παιδιά με προβλήματα ακοής  είναι απαραίτητο να γνωρίζουν τη Νοηματική Γλώσσα, </a:t>
            </a:r>
            <a:br>
              <a:rPr sz="2400"/>
            </a:br>
            <a:r>
              <a:rPr b="0" lang="el-GR" sz="2400" spc="-1" strike="noStrike">
                <a:solidFill>
                  <a:srgbClr val="000000"/>
                </a:solidFill>
                <a:latin typeface="Times New Roman"/>
              </a:rPr>
              <a:t>ενώ όσοι αναλαμβάνουν παιδιά με προβλήματα όρασης πρέπει να είναι γνώστες του συστήματος </a:t>
            </a:r>
            <a:r>
              <a:rPr b="0" lang="en-US" sz="2400" spc="-1" strike="noStrike">
                <a:solidFill>
                  <a:srgbClr val="000000"/>
                </a:solidFill>
                <a:latin typeface="Times New Roman"/>
              </a:rPr>
              <a:t>Braile</a:t>
            </a:r>
            <a:r>
              <a:rPr b="0" lang="el-GR" sz="2400" spc="-1" strike="noStrike">
                <a:solidFill>
                  <a:srgbClr val="000000"/>
                </a:solidFill>
                <a:latin typeface="Times New Roman"/>
              </a:rPr>
              <a:t>. </a:t>
            </a:r>
            <a:br>
              <a:rPr sz="2400"/>
            </a:br>
            <a:br>
              <a:rPr sz="2400"/>
            </a:br>
            <a:r>
              <a:rPr b="0" lang="el-GR" sz="2400" spc="-1" strike="noStrike">
                <a:solidFill>
                  <a:srgbClr val="000000"/>
                </a:solidFill>
                <a:latin typeface="Times New Roman"/>
              </a:rPr>
              <a:t> Προβλέπεται επίσης βοηθητικό προσωπικό για τα παιδιά που δεν αυτοεξυπηρετούνται. </a:t>
            </a:r>
            <a:br>
              <a:rPr sz="2400"/>
            </a:br>
            <a:br>
              <a:rPr sz="2000"/>
            </a:br>
            <a:endParaRPr b="0" lang="en-US" sz="2400" spc="-1" strike="noStrike">
              <a:solidFill>
                <a:srgbClr val="ffffff"/>
              </a:solidFill>
              <a:latin typeface="Times New Roman"/>
            </a:endParaRPr>
          </a:p>
        </p:txBody>
      </p:sp>
      <p:grpSp>
        <p:nvGrpSpPr>
          <p:cNvPr id="7040" name="Group 2"/>
          <p:cNvGrpSpPr/>
          <p:nvPr/>
        </p:nvGrpSpPr>
        <p:grpSpPr>
          <a:xfrm>
            <a:off x="0" y="115920"/>
            <a:ext cx="9142560" cy="6549840"/>
            <a:chOff x="0" y="115920"/>
            <a:chExt cx="9142560" cy="6549840"/>
          </a:xfrm>
        </p:grpSpPr>
        <p:grpSp>
          <p:nvGrpSpPr>
            <p:cNvPr id="7041" name="Group 3"/>
            <p:cNvGrpSpPr/>
            <p:nvPr/>
          </p:nvGrpSpPr>
          <p:grpSpPr>
            <a:xfrm>
              <a:off x="0" y="115920"/>
              <a:ext cx="9142560" cy="6549840"/>
              <a:chOff x="0" y="115920"/>
              <a:chExt cx="9142560" cy="6549840"/>
            </a:xfrm>
          </p:grpSpPr>
          <p:sp>
            <p:nvSpPr>
              <p:cNvPr id="704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4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4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47" name="Picture 9"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8" name="Text Box 1"/>
          <p:cNvSpPr/>
          <p:nvPr/>
        </p:nvSpPr>
        <p:spPr>
          <a:xfrm>
            <a:off x="250920" y="1392120"/>
            <a:ext cx="87138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σε αυτό το πλαίσιο </a:t>
            </a:r>
            <a:br>
              <a:rPr sz="2800"/>
            </a:br>
            <a:r>
              <a:rPr b="0" lang="el-GR" sz="2800" spc="-1" strike="noStrike">
                <a:solidFill>
                  <a:srgbClr val="000000"/>
                </a:solidFill>
                <a:latin typeface="Times New Roman"/>
              </a:rPr>
              <a:t>λειτουργεί σήμερα στην Ελλάδα </a:t>
            </a:r>
            <a:br>
              <a:rPr sz="2800"/>
            </a:br>
            <a:r>
              <a:rPr b="0" lang="el-GR" sz="2800" spc="-1" strike="noStrike">
                <a:solidFill>
                  <a:srgbClr val="000000"/>
                </a:solidFill>
                <a:latin typeface="Times New Roman"/>
              </a:rPr>
              <a:t>ο θεσμός της συνδιδασκαλίας και </a:t>
            </a:r>
            <a:br>
              <a:rPr sz="2800"/>
            </a:br>
            <a:r>
              <a:rPr b="0" lang="el-GR" sz="2800" spc="-1" strike="noStrike">
                <a:solidFill>
                  <a:srgbClr val="000000"/>
                </a:solidFill>
                <a:latin typeface="Times New Roman"/>
              </a:rPr>
              <a:t>της συνεκπαίδευσης.  </a:t>
            </a:r>
            <a:endParaRPr b="0" lang="en-US" sz="2800" spc="-1" strike="noStrike">
              <a:solidFill>
                <a:srgbClr val="ffffff"/>
              </a:solidFill>
              <a:latin typeface="Times New Roman"/>
            </a:endParaRPr>
          </a:p>
        </p:txBody>
      </p:sp>
      <p:grpSp>
        <p:nvGrpSpPr>
          <p:cNvPr id="7049" name="Group 2"/>
          <p:cNvGrpSpPr/>
          <p:nvPr/>
        </p:nvGrpSpPr>
        <p:grpSpPr>
          <a:xfrm>
            <a:off x="0" y="115920"/>
            <a:ext cx="9142560" cy="6549840"/>
            <a:chOff x="0" y="115920"/>
            <a:chExt cx="9142560" cy="6549840"/>
          </a:xfrm>
        </p:grpSpPr>
        <p:grpSp>
          <p:nvGrpSpPr>
            <p:cNvPr id="7050" name="Group 3"/>
            <p:cNvGrpSpPr/>
            <p:nvPr/>
          </p:nvGrpSpPr>
          <p:grpSpPr>
            <a:xfrm>
              <a:off x="0" y="115920"/>
              <a:ext cx="9142560" cy="6549840"/>
              <a:chOff x="0" y="115920"/>
              <a:chExt cx="9142560" cy="6549840"/>
            </a:xfrm>
          </p:grpSpPr>
          <p:sp>
            <p:nvSpPr>
              <p:cNvPr id="705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5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5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56" name="Picture 9"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7"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00"/>
                </a:solidFill>
                <a:latin typeface="Times New Roman"/>
              </a:rPr>
              <a:t>ΑΝΤΙΛΗΨΕΙΣ ΚΑΙ ΡΟΛΟΙ ΕΚΠΑΙΔΕΥΤΙΚΩΝ </a:t>
            </a:r>
            <a:br>
              <a:rPr sz="2000"/>
            </a:br>
            <a:r>
              <a:rPr b="1" lang="el-GR" sz="2000" spc="-1" strike="noStrike">
                <a:solidFill>
                  <a:srgbClr val="000000"/>
                </a:solidFill>
                <a:latin typeface="Times New Roman"/>
              </a:rPr>
              <a:t>ΓΙΑ ΤΗΝ ΠΑΡΑΛΛΗΛΗ ΣΤΗΡΙΞΗ </a:t>
            </a:r>
            <a:br>
              <a:rPr sz="2000"/>
            </a:br>
            <a:r>
              <a:rPr b="1" lang="el-GR" sz="2000" spc="-1" strike="noStrike">
                <a:solidFill>
                  <a:srgbClr val="000000"/>
                </a:solidFill>
                <a:latin typeface="Times New Roman"/>
              </a:rPr>
              <a:t>ΚΑΙ ΤΗ ΣΥΝΔΙΔΑΣΚΑΛΙΑ</a:t>
            </a:r>
            <a:br>
              <a:rPr sz="2000"/>
            </a:br>
            <a:br>
              <a:rPr sz="2000"/>
            </a:br>
            <a:r>
              <a:rPr b="0" lang="el-GR" sz="2400" spc="-1" strike="noStrike">
                <a:solidFill>
                  <a:srgbClr val="000000"/>
                </a:solidFill>
                <a:latin typeface="Times New Roman"/>
              </a:rPr>
              <a:t>Σύμφωνα με την </a:t>
            </a:r>
            <a:r>
              <a:rPr b="0" lang="en-US" sz="2400" spc="-1" strike="noStrike">
                <a:solidFill>
                  <a:srgbClr val="000000"/>
                </a:solidFill>
                <a:latin typeface="Times New Roman"/>
              </a:rPr>
              <a:t>UNESCO</a:t>
            </a:r>
            <a:r>
              <a:rPr b="0" lang="el-GR" sz="2400" spc="-1" strike="noStrike">
                <a:solidFill>
                  <a:srgbClr val="000000"/>
                </a:solidFill>
                <a:latin typeface="Times New Roman"/>
              </a:rPr>
              <a:t> (1994)  η επιτυχία ενός προγράμματος συνεκπαίδευσης έχει να κάνει με το βαθμό της παιδοκεντρικότητας και τη διδακτική μέθοδο. Το 2003 ο Ευρωπαϊκός Φορέας Ειδικής Αγωγής εξάγει τη διαπίστωση ότι οι εκπαιδευτικοί έχουν θετική στάση απέναντι στη συνεκπαίδευση όμως δεν έχουν τα ίδια θετικά συναισθήματα όταν πρέπει να εντάξουν στην πραγματικότητα στην τάξη τους παιδιά με ειδικές εκπαιδευτικές ανάγκες και αναπηρία. </a:t>
            </a:r>
            <a:br>
              <a:rPr sz="2000"/>
            </a:br>
            <a:endParaRPr b="0" lang="en-US" sz="2400" spc="-1" strike="noStrike">
              <a:solidFill>
                <a:srgbClr val="ffffff"/>
              </a:solidFill>
              <a:latin typeface="Times New Roman"/>
            </a:endParaRPr>
          </a:p>
        </p:txBody>
      </p:sp>
      <p:grpSp>
        <p:nvGrpSpPr>
          <p:cNvPr id="7058" name="Group 2"/>
          <p:cNvGrpSpPr/>
          <p:nvPr/>
        </p:nvGrpSpPr>
        <p:grpSpPr>
          <a:xfrm>
            <a:off x="0" y="115920"/>
            <a:ext cx="9142560" cy="6549840"/>
            <a:chOff x="0" y="115920"/>
            <a:chExt cx="9142560" cy="6549840"/>
          </a:xfrm>
        </p:grpSpPr>
        <p:grpSp>
          <p:nvGrpSpPr>
            <p:cNvPr id="7059" name="Group 3"/>
            <p:cNvGrpSpPr/>
            <p:nvPr/>
          </p:nvGrpSpPr>
          <p:grpSpPr>
            <a:xfrm>
              <a:off x="0" y="115920"/>
              <a:ext cx="9142560" cy="6549840"/>
              <a:chOff x="0" y="115920"/>
              <a:chExt cx="9142560" cy="6549840"/>
            </a:xfrm>
          </p:grpSpPr>
          <p:sp>
            <p:nvSpPr>
              <p:cNvPr id="706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6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6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64" name="Rectangle 8"/>
          <p:cNvSpPr/>
          <p:nvPr/>
        </p:nvSpPr>
        <p:spPr>
          <a:xfrm>
            <a:off x="468360" y="1989000"/>
            <a:ext cx="842004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65" name="Picture 9"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ε διάφορες έρευνες που έχουν διεξαχθεί στην Ελλάδα και στο εξωτερικό οι εκπαιδευτικοί έχουν αναδείξει κάποιους βασικούς παράγοντες που επηρεάζουν τη θετική ή αρνητική αντίληψή τους απέναντι στην ενταξιακή μέθοδο της συνδιδασκαλίας. </a:t>
            </a:r>
            <a:br>
              <a:rPr sz="2400"/>
            </a:br>
            <a:r>
              <a:rPr b="0" lang="el-GR" sz="2400" spc="-1" strike="noStrike">
                <a:solidFill>
                  <a:srgbClr val="000000"/>
                </a:solidFill>
                <a:latin typeface="Times New Roman"/>
              </a:rPr>
              <a:t>Τα θέματα αυτά είναι η ελλιπής επιμόρφωση, εκπαίδευση και κατάρτιση, η ελλιπής υποστήριξη, η έλλειψη εργαστηριακού εξοπλισμού και υποστήριξης από το κράτος. </a:t>
            </a:r>
            <a:endParaRPr b="0" lang="en-US" sz="2400" spc="-1" strike="noStrike">
              <a:solidFill>
                <a:srgbClr val="ffffff"/>
              </a:solidFill>
              <a:latin typeface="Times New Roman"/>
            </a:endParaRPr>
          </a:p>
        </p:txBody>
      </p:sp>
      <p:grpSp>
        <p:nvGrpSpPr>
          <p:cNvPr id="7067" name="Group 2"/>
          <p:cNvGrpSpPr/>
          <p:nvPr/>
        </p:nvGrpSpPr>
        <p:grpSpPr>
          <a:xfrm>
            <a:off x="0" y="115920"/>
            <a:ext cx="9142560" cy="6549840"/>
            <a:chOff x="0" y="115920"/>
            <a:chExt cx="9142560" cy="6549840"/>
          </a:xfrm>
        </p:grpSpPr>
        <p:grpSp>
          <p:nvGrpSpPr>
            <p:cNvPr id="7068" name="Group 3"/>
            <p:cNvGrpSpPr/>
            <p:nvPr/>
          </p:nvGrpSpPr>
          <p:grpSpPr>
            <a:xfrm>
              <a:off x="0" y="115920"/>
              <a:ext cx="9142560" cy="6549840"/>
              <a:chOff x="0" y="115920"/>
              <a:chExt cx="9142560" cy="6549840"/>
            </a:xfrm>
          </p:grpSpPr>
          <p:sp>
            <p:nvSpPr>
              <p:cNvPr id="706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7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7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74" name="Picture 9"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5" name="Text Box 1"/>
          <p:cNvSpPr/>
          <p:nvPr/>
        </p:nvSpPr>
        <p:spPr>
          <a:xfrm>
            <a:off x="1042920" y="1233360"/>
            <a:ext cx="7596360" cy="4391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Πιο αναλυτικά, σε έρευνα  ερευνητών </a:t>
            </a:r>
            <a:br>
              <a:rPr sz="2400"/>
            </a:br>
            <a:r>
              <a:rPr b="0" lang="el-GR" sz="2400" spc="-1" strike="noStrike">
                <a:solidFill>
                  <a:srgbClr val="000000"/>
                </a:solidFill>
                <a:latin typeface="Times New Roman"/>
              </a:rPr>
              <a:t>( </a:t>
            </a:r>
            <a:r>
              <a:rPr b="0" lang="en-US" sz="2400" spc="-1" strike="noStrike">
                <a:solidFill>
                  <a:srgbClr val="000000"/>
                </a:solidFill>
                <a:latin typeface="Times New Roman"/>
              </a:rPr>
              <a:t>Pijl </a:t>
            </a:r>
            <a:r>
              <a:rPr b="0" lang="el-GR" sz="2400" spc="-1" strike="noStrike">
                <a:solidFill>
                  <a:srgbClr val="000000"/>
                </a:solidFill>
                <a:latin typeface="Times New Roman"/>
              </a:rPr>
              <a:t>&amp; </a:t>
            </a:r>
            <a:r>
              <a:rPr b="0" lang="en-US" sz="2400" spc="-1" strike="noStrike">
                <a:solidFill>
                  <a:srgbClr val="000000"/>
                </a:solidFill>
                <a:latin typeface="Times New Roman"/>
              </a:rPr>
              <a:t>Minnaert</a:t>
            </a:r>
            <a:r>
              <a:rPr b="0" lang="el-GR" sz="2400" spc="-1" strike="noStrike">
                <a:solidFill>
                  <a:srgbClr val="000000"/>
                </a:solidFill>
                <a:latin typeface="Times New Roman"/>
              </a:rPr>
              <a:t> 2011) φάνηκε ότι οι περισσότεροι εκπαιδευτικοί είναι ουδέτεροι ή αρνητικοί στο να εντάξουν μαθητές με ειδικές ανάγκες και αναπηρίες αλλά είναι αρνητικοί γενικά και με τη μέθοδο της συνδιδασκαλίας. </a:t>
            </a:r>
            <a:endParaRPr b="0" lang="en-US" sz="2400" spc="-1" strike="noStrike">
              <a:solidFill>
                <a:srgbClr val="ffffff"/>
              </a:solidFill>
              <a:latin typeface="Times New Roman"/>
            </a:endParaRPr>
          </a:p>
        </p:txBody>
      </p:sp>
      <p:grpSp>
        <p:nvGrpSpPr>
          <p:cNvPr id="7076" name="Group 2"/>
          <p:cNvGrpSpPr/>
          <p:nvPr/>
        </p:nvGrpSpPr>
        <p:grpSpPr>
          <a:xfrm>
            <a:off x="0" y="115920"/>
            <a:ext cx="9142560" cy="6549840"/>
            <a:chOff x="0" y="115920"/>
            <a:chExt cx="9142560" cy="6549840"/>
          </a:xfrm>
        </p:grpSpPr>
        <p:grpSp>
          <p:nvGrpSpPr>
            <p:cNvPr id="7077" name="Group 3"/>
            <p:cNvGrpSpPr/>
            <p:nvPr/>
          </p:nvGrpSpPr>
          <p:grpSpPr>
            <a:xfrm>
              <a:off x="0" y="115920"/>
              <a:ext cx="9142560" cy="6549840"/>
              <a:chOff x="0" y="115920"/>
              <a:chExt cx="9142560" cy="6549840"/>
            </a:xfrm>
          </p:grpSpPr>
          <p:sp>
            <p:nvSpPr>
              <p:cNvPr id="707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8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8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83" name="Picture 9"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4" name="Text Box 1"/>
          <p:cNvSpPr/>
          <p:nvPr/>
        </p:nvSpPr>
        <p:spPr>
          <a:xfrm>
            <a:off x="395280" y="1392120"/>
            <a:ext cx="820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400" spc="-1" strike="noStrike">
                <a:solidFill>
                  <a:srgbClr val="000000"/>
                </a:solidFill>
                <a:latin typeface="Times New Roman"/>
              </a:rPr>
              <a:t>Η στάση τους εξαρτάται από το βαθμό επιμόρφωσής τους σε θέματα ειδικής αγωγής (</a:t>
            </a:r>
            <a:r>
              <a:rPr b="0" lang="en-US" sz="2400" spc="-1" strike="noStrike">
                <a:solidFill>
                  <a:srgbClr val="000000"/>
                </a:solidFill>
                <a:latin typeface="Times New Roman"/>
              </a:rPr>
              <a:t>Ofsed</a:t>
            </a:r>
            <a:r>
              <a:rPr b="0" lang="el-GR" sz="2400" spc="-1" strike="noStrike">
                <a:solidFill>
                  <a:srgbClr val="000000"/>
                </a:solidFill>
                <a:latin typeface="Times New Roman"/>
              </a:rPr>
              <a:t>, 2004). </a:t>
            </a:r>
            <a:br>
              <a:rPr sz="2400"/>
            </a:br>
            <a:r>
              <a:rPr b="0" lang="el-GR" sz="2400" spc="-1" strike="noStrike">
                <a:solidFill>
                  <a:srgbClr val="000000"/>
                </a:solidFill>
                <a:latin typeface="Times New Roman"/>
              </a:rPr>
              <a:t>Η ελλιπής μόρφωση επηρεάζει αρνητικά τη στάση τους. Στην έρευνα των </a:t>
            </a:r>
            <a:r>
              <a:rPr b="0" lang="en-US" sz="2400" spc="-1" strike="noStrike">
                <a:solidFill>
                  <a:srgbClr val="000000"/>
                </a:solidFill>
                <a:latin typeface="Times New Roman"/>
              </a:rPr>
              <a:t>Avramidis</a:t>
            </a:r>
            <a:r>
              <a:rPr b="0" lang="el-GR" sz="2400" spc="-1" strike="noStrike">
                <a:solidFill>
                  <a:srgbClr val="000000"/>
                </a:solidFill>
                <a:latin typeface="Times New Roman"/>
              </a:rPr>
              <a:t> &amp; </a:t>
            </a:r>
            <a:r>
              <a:rPr b="0" lang="en-US" sz="2400" spc="-1" strike="noStrike">
                <a:solidFill>
                  <a:srgbClr val="000000"/>
                </a:solidFill>
                <a:latin typeface="Times New Roman"/>
              </a:rPr>
              <a:t>Norwich </a:t>
            </a:r>
            <a:r>
              <a:rPr b="0" lang="el-GR" sz="2400" spc="-1" strike="noStrike">
                <a:solidFill>
                  <a:srgbClr val="000000"/>
                </a:solidFill>
                <a:latin typeface="Times New Roman"/>
              </a:rPr>
              <a:t>(2002) η εργασιακή εμπειρία είναι ένας σημαντικός παράγοντας, που πρέπει να τονίσουμε πως όσο μικρότερη εμπειρία έχει κάποιος παιδαγωγός στην ειδική αγωγή τόσο πιο θετική στάση έχει. </a:t>
            </a:r>
            <a:endParaRPr b="0" lang="en-US" sz="2400" spc="-1" strike="noStrike">
              <a:solidFill>
                <a:srgbClr val="ffffff"/>
              </a:solidFill>
              <a:latin typeface="Times New Roman"/>
            </a:endParaRPr>
          </a:p>
        </p:txBody>
      </p:sp>
      <p:grpSp>
        <p:nvGrpSpPr>
          <p:cNvPr id="7085" name="Group 2"/>
          <p:cNvGrpSpPr/>
          <p:nvPr/>
        </p:nvGrpSpPr>
        <p:grpSpPr>
          <a:xfrm>
            <a:off x="0" y="115920"/>
            <a:ext cx="9142560" cy="6549840"/>
            <a:chOff x="0" y="115920"/>
            <a:chExt cx="9142560" cy="6549840"/>
          </a:xfrm>
        </p:grpSpPr>
        <p:grpSp>
          <p:nvGrpSpPr>
            <p:cNvPr id="7086" name="Group 3"/>
            <p:cNvGrpSpPr/>
            <p:nvPr/>
          </p:nvGrpSpPr>
          <p:grpSpPr>
            <a:xfrm>
              <a:off x="0" y="115920"/>
              <a:ext cx="9142560" cy="6549840"/>
              <a:chOff x="0" y="115920"/>
              <a:chExt cx="9142560" cy="6549840"/>
            </a:xfrm>
          </p:grpSpPr>
          <p:sp>
            <p:nvSpPr>
              <p:cNvPr id="708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8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9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92" name="Picture 9"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3" name="Text Box 1"/>
          <p:cNvSpPr/>
          <p:nvPr/>
        </p:nvSpPr>
        <p:spPr>
          <a:xfrm>
            <a:off x="395280" y="1392120"/>
            <a:ext cx="820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Οι εκπαιδευτικοί με μεγαλύτερη εμπειρία στην ειδική αγωγή εμφανίζουν αρνητική στάση, αλλά είναι πολύ πιο θετικοί στην εκπαίδευση των μαθητών στην γενική τάξη.</a:t>
            </a:r>
            <a:br>
              <a:rPr sz="2400"/>
            </a:br>
            <a:br>
              <a:rPr sz="2400"/>
            </a:br>
            <a:r>
              <a:rPr b="0" lang="el-GR" sz="2400" spc="-1" strike="noStrike">
                <a:solidFill>
                  <a:srgbClr val="000000"/>
                </a:solidFill>
                <a:latin typeface="Times New Roman"/>
              </a:rPr>
              <a:t> Οι </a:t>
            </a:r>
            <a:r>
              <a:rPr b="0" lang="en-US" sz="2400" spc="-1" strike="noStrike">
                <a:solidFill>
                  <a:srgbClr val="000000"/>
                </a:solidFill>
                <a:latin typeface="Times New Roman"/>
              </a:rPr>
              <a:t>Mastropieri</a:t>
            </a:r>
            <a:r>
              <a:rPr b="0" lang="el-GR" sz="2400" spc="-1" strike="noStrike">
                <a:solidFill>
                  <a:srgbClr val="000000"/>
                </a:solidFill>
                <a:latin typeface="Times New Roman"/>
              </a:rPr>
              <a:t> &amp; </a:t>
            </a:r>
            <a:r>
              <a:rPr b="0" lang="en-US" sz="2400" spc="-1" strike="noStrike">
                <a:solidFill>
                  <a:srgbClr val="000000"/>
                </a:solidFill>
                <a:latin typeface="Times New Roman"/>
              </a:rPr>
              <a:t>Scruggs</a:t>
            </a:r>
            <a:r>
              <a:rPr b="0" lang="el-GR" sz="2400" spc="-1" strike="noStrike">
                <a:solidFill>
                  <a:srgbClr val="000000"/>
                </a:solidFill>
                <a:latin typeface="Times New Roman"/>
              </a:rPr>
              <a:t> (1996) αναφέρουν και την έλλειψη εργαστηριακού εξοπλισμού ως παράγοντα διαμόρφωσης αρνητικής στάσης των εκπαιδευτικών.</a:t>
            </a:r>
            <a:endParaRPr b="0" lang="en-US" sz="2400" spc="-1" strike="noStrike">
              <a:solidFill>
                <a:srgbClr val="ffffff"/>
              </a:solidFill>
              <a:latin typeface="Times New Roman"/>
            </a:endParaRPr>
          </a:p>
        </p:txBody>
      </p:sp>
      <p:grpSp>
        <p:nvGrpSpPr>
          <p:cNvPr id="7094" name="Group 2"/>
          <p:cNvGrpSpPr/>
          <p:nvPr/>
        </p:nvGrpSpPr>
        <p:grpSpPr>
          <a:xfrm>
            <a:off x="0" y="115920"/>
            <a:ext cx="9142560" cy="6549840"/>
            <a:chOff x="0" y="115920"/>
            <a:chExt cx="9142560" cy="6549840"/>
          </a:xfrm>
        </p:grpSpPr>
        <p:grpSp>
          <p:nvGrpSpPr>
            <p:cNvPr id="7095" name="Group 3"/>
            <p:cNvGrpSpPr/>
            <p:nvPr/>
          </p:nvGrpSpPr>
          <p:grpSpPr>
            <a:xfrm>
              <a:off x="0" y="115920"/>
              <a:ext cx="9142560" cy="6549840"/>
              <a:chOff x="0" y="115920"/>
              <a:chExt cx="9142560" cy="6549840"/>
            </a:xfrm>
          </p:grpSpPr>
          <p:sp>
            <p:nvSpPr>
              <p:cNvPr id="709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09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9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01"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4" name="Text Box 1"/>
          <p:cNvSpPr/>
          <p:nvPr/>
        </p:nvSpPr>
        <p:spPr>
          <a:xfrm>
            <a:off x="179280" y="1392120"/>
            <a:ext cx="87854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σε αυτά τα πλαίσια διαμορφώνεται </a:t>
            </a:r>
            <a:br>
              <a:rPr sz="2800"/>
            </a:br>
            <a:r>
              <a:rPr b="1" lang="el-GR" sz="2800" spc="-1" strike="noStrike">
                <a:solidFill>
                  <a:srgbClr val="000000"/>
                </a:solidFill>
                <a:latin typeface="Times New Roman"/>
              </a:rPr>
              <a:t>η Παιδαγωγική της Ένταξης</a:t>
            </a:r>
            <a:r>
              <a:rPr b="0" lang="el-GR" sz="2800" spc="-1" strike="noStrike">
                <a:solidFill>
                  <a:srgbClr val="000000"/>
                </a:solidFill>
                <a:latin typeface="Times New Roman"/>
              </a:rPr>
              <a:t>, η οποία αφορά παιδαγωγικές θεωρήσεις και πρακτικές μέσα από τις οποίες αναγνωρίζεται το δικαίωμα της διαφορετικότητας, αίρονται τα στερεότυπα και δίνεται η δυνατότητα ισότιμης συμμετοχής στην πολιτική και κοινωνική ζωή σε όλους τους μαθητές. </a:t>
            </a:r>
            <a:br>
              <a:rPr sz="2800"/>
            </a:br>
            <a:br>
              <a:rPr sz="2800"/>
            </a:br>
            <a:br>
              <a:rPr sz="2000"/>
            </a:br>
            <a:endParaRPr b="0" lang="en-US" sz="2800" spc="-1" strike="noStrike">
              <a:solidFill>
                <a:srgbClr val="ffffff"/>
              </a:solidFill>
              <a:latin typeface="Times New Roman"/>
            </a:endParaRPr>
          </a:p>
        </p:txBody>
      </p:sp>
      <p:grpSp>
        <p:nvGrpSpPr>
          <p:cNvPr id="6455" name="Group 2"/>
          <p:cNvGrpSpPr/>
          <p:nvPr/>
        </p:nvGrpSpPr>
        <p:grpSpPr>
          <a:xfrm>
            <a:off x="0" y="115920"/>
            <a:ext cx="9142560" cy="6549840"/>
            <a:chOff x="0" y="115920"/>
            <a:chExt cx="9142560" cy="6549840"/>
          </a:xfrm>
        </p:grpSpPr>
        <p:grpSp>
          <p:nvGrpSpPr>
            <p:cNvPr id="6456" name="Group 3"/>
            <p:cNvGrpSpPr/>
            <p:nvPr/>
          </p:nvGrpSpPr>
          <p:grpSpPr>
            <a:xfrm>
              <a:off x="0" y="115920"/>
              <a:ext cx="9142560" cy="6549840"/>
              <a:chOff x="0" y="115920"/>
              <a:chExt cx="9142560" cy="6549840"/>
            </a:xfrm>
          </p:grpSpPr>
          <p:sp>
            <p:nvSpPr>
              <p:cNvPr id="645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5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2" name="Picture 9"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2" name="Text Box 1"/>
          <p:cNvSpPr/>
          <p:nvPr/>
        </p:nvSpPr>
        <p:spPr>
          <a:xfrm>
            <a:off x="324000" y="1392120"/>
            <a:ext cx="8640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1" lang="el-GR" sz="2400" spc="-1" strike="noStrike">
                <a:solidFill>
                  <a:srgbClr val="000000"/>
                </a:solidFill>
                <a:latin typeface="Times New Roman"/>
              </a:rPr>
              <a:t>Η συνδιδασκαλία στην Ελληνική πραγματικότητα</a:t>
            </a:r>
            <a:br>
              <a:rPr sz="2400"/>
            </a:br>
            <a:br>
              <a:rPr sz="2400"/>
            </a:br>
            <a:r>
              <a:rPr b="0" lang="el-GR" sz="2400" spc="-1" strike="noStrike">
                <a:solidFill>
                  <a:srgbClr val="000000"/>
                </a:solidFill>
                <a:latin typeface="Times New Roman"/>
              </a:rPr>
              <a:t>Όσον αφορά τα ελληνικά δεδομένα η εφαρμογή της συνδιδασκαλίας δεν ανήκει σε κάποιο από τα έξι είδη της συνδιδασκαλίας. Θα λέγαμε ότι η Παράλληλη Στήριξη, όπως ονομάζεται ο θεσμός της συνδιδασκαλίας στην Ελλάδα  προσιδιάζει </a:t>
            </a:r>
            <a:r>
              <a:rPr b="1" lang="el-GR" sz="2400" spc="-1" strike="noStrike">
                <a:solidFill>
                  <a:srgbClr val="000000"/>
                </a:solidFill>
                <a:latin typeface="Times New Roman"/>
              </a:rPr>
              <a:t>στο είδος «Ένας διδάσκει, ένας βοηθάει»,</a:t>
            </a:r>
            <a:r>
              <a:rPr b="0" lang="el-GR" sz="2400" spc="-1" strike="noStrike">
                <a:solidFill>
                  <a:srgbClr val="000000"/>
                </a:solidFill>
                <a:latin typeface="Times New Roman"/>
              </a:rPr>
              <a:t> που σημαίνει ότι ο εκπαιδευτικός της τάξης διδάσκει και ο ειδικός εκπαιδευτικός βοηθάει.</a:t>
            </a:r>
            <a:endParaRPr b="0" lang="en-US" sz="2400" spc="-1" strike="noStrike">
              <a:solidFill>
                <a:srgbClr val="ffffff"/>
              </a:solidFill>
              <a:latin typeface="Times New Roman"/>
            </a:endParaRPr>
          </a:p>
        </p:txBody>
      </p:sp>
      <p:grpSp>
        <p:nvGrpSpPr>
          <p:cNvPr id="7103" name="Group 2"/>
          <p:cNvGrpSpPr/>
          <p:nvPr/>
        </p:nvGrpSpPr>
        <p:grpSpPr>
          <a:xfrm>
            <a:off x="0" y="115920"/>
            <a:ext cx="9142560" cy="6549840"/>
            <a:chOff x="0" y="115920"/>
            <a:chExt cx="9142560" cy="6549840"/>
          </a:xfrm>
        </p:grpSpPr>
        <p:grpSp>
          <p:nvGrpSpPr>
            <p:cNvPr id="7104" name="Group 3"/>
            <p:cNvGrpSpPr/>
            <p:nvPr/>
          </p:nvGrpSpPr>
          <p:grpSpPr>
            <a:xfrm>
              <a:off x="0" y="115920"/>
              <a:ext cx="9142560" cy="6549840"/>
              <a:chOff x="0" y="115920"/>
              <a:chExt cx="9142560" cy="6549840"/>
            </a:xfrm>
          </p:grpSpPr>
          <p:sp>
            <p:nvSpPr>
              <p:cNvPr id="710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0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0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10" name="Picture 9"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1" name="Text Box 1"/>
          <p:cNvSpPr/>
          <p:nvPr/>
        </p:nvSpPr>
        <p:spPr>
          <a:xfrm>
            <a:off x="324000" y="1392120"/>
            <a:ext cx="864072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την πρακτική εφαρμογή οι εκπαιδευτικοί αναφέρουν ότι επιστρατεύουν ποικιλία μεθόδων </a:t>
            </a:r>
            <a:br>
              <a:rPr sz="2400"/>
            </a:br>
            <a:r>
              <a:rPr b="0" lang="el-GR" sz="2400" spc="-1" strike="noStrike">
                <a:solidFill>
                  <a:srgbClr val="000000"/>
                </a:solidFill>
                <a:latin typeface="Times New Roman"/>
              </a:rPr>
              <a:t>για να προσεγγίσουν τους στόχους και </a:t>
            </a:r>
            <a:br>
              <a:rPr sz="2400"/>
            </a:br>
            <a:r>
              <a:rPr b="0" lang="el-GR" sz="2400" spc="-1" strike="noStrike">
                <a:solidFill>
                  <a:srgbClr val="000000"/>
                </a:solidFill>
                <a:latin typeface="Times New Roman"/>
              </a:rPr>
              <a:t>να δημιουργήσουν κίνητρα στους μαθητές </a:t>
            </a:r>
            <a:br>
              <a:rPr sz="2400"/>
            </a:br>
            <a:r>
              <a:rPr b="0" lang="el-GR" sz="2400" spc="-1" strike="noStrike">
                <a:solidFill>
                  <a:srgbClr val="000000"/>
                </a:solidFill>
                <a:latin typeface="Times New Roman"/>
              </a:rPr>
              <a:t>μέσα στο πλαίσιο της Παράλληλης Στήριξης. </a:t>
            </a:r>
            <a:endParaRPr b="0" lang="en-US" sz="2400" spc="-1" strike="noStrike">
              <a:solidFill>
                <a:srgbClr val="ffffff"/>
              </a:solidFill>
              <a:latin typeface="Times New Roman"/>
            </a:endParaRPr>
          </a:p>
        </p:txBody>
      </p:sp>
      <p:grpSp>
        <p:nvGrpSpPr>
          <p:cNvPr id="7112" name="Group 2"/>
          <p:cNvGrpSpPr/>
          <p:nvPr/>
        </p:nvGrpSpPr>
        <p:grpSpPr>
          <a:xfrm>
            <a:off x="0" y="115920"/>
            <a:ext cx="9142560" cy="6549840"/>
            <a:chOff x="0" y="115920"/>
            <a:chExt cx="9142560" cy="6549840"/>
          </a:xfrm>
        </p:grpSpPr>
        <p:grpSp>
          <p:nvGrpSpPr>
            <p:cNvPr id="7113" name="Group 3"/>
            <p:cNvGrpSpPr/>
            <p:nvPr/>
          </p:nvGrpSpPr>
          <p:grpSpPr>
            <a:xfrm>
              <a:off x="0" y="115920"/>
              <a:ext cx="9142560" cy="6549840"/>
              <a:chOff x="0" y="115920"/>
              <a:chExt cx="9142560" cy="6549840"/>
            </a:xfrm>
          </p:grpSpPr>
          <p:sp>
            <p:nvSpPr>
              <p:cNvPr id="711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1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1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19" name="Picture 9"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0" name="Text Box 1"/>
          <p:cNvSpPr/>
          <p:nvPr/>
        </p:nvSpPr>
        <p:spPr>
          <a:xfrm>
            <a:off x="395280" y="1392120"/>
            <a:ext cx="820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τόχοι  αφορούν και το θέμα της κοινωνικοποίησης και της συναισθηματικής ανάπτυξης.</a:t>
            </a:r>
            <a:br>
              <a:rPr sz="2800"/>
            </a:br>
            <a:br>
              <a:rPr sz="2800"/>
            </a:br>
            <a:r>
              <a:rPr b="0" lang="el-GR" sz="2800" spc="-1" strike="noStrike">
                <a:solidFill>
                  <a:srgbClr val="000000"/>
                </a:solidFill>
                <a:latin typeface="Times New Roman"/>
              </a:rPr>
              <a:t>Οι εκπαιδευτικοί της Παράλληλης Στήριξης αναφέρουν ότι στις περισσότερες τάξεις η παραδοσιακή διάταξη τους κάνει να κάθονται δίπλα στους μαθητές και αυτό δημιουργεί εμπόδια στην αλληλεπίδραση με τους συμμαθητές. </a:t>
            </a:r>
            <a:br>
              <a:rPr sz="2000"/>
            </a:br>
            <a:endParaRPr b="0" lang="en-US" sz="2800" spc="-1" strike="noStrike">
              <a:solidFill>
                <a:srgbClr val="ffffff"/>
              </a:solidFill>
              <a:latin typeface="Times New Roman"/>
            </a:endParaRPr>
          </a:p>
        </p:txBody>
      </p:sp>
      <p:grpSp>
        <p:nvGrpSpPr>
          <p:cNvPr id="7121" name="Group 2"/>
          <p:cNvGrpSpPr/>
          <p:nvPr/>
        </p:nvGrpSpPr>
        <p:grpSpPr>
          <a:xfrm>
            <a:off x="0" y="115920"/>
            <a:ext cx="9142560" cy="6549840"/>
            <a:chOff x="0" y="115920"/>
            <a:chExt cx="9142560" cy="6549840"/>
          </a:xfrm>
        </p:grpSpPr>
        <p:grpSp>
          <p:nvGrpSpPr>
            <p:cNvPr id="7122" name="Group 3"/>
            <p:cNvGrpSpPr/>
            <p:nvPr/>
          </p:nvGrpSpPr>
          <p:grpSpPr>
            <a:xfrm>
              <a:off x="0" y="115920"/>
              <a:ext cx="9142560" cy="6549840"/>
              <a:chOff x="0" y="115920"/>
              <a:chExt cx="9142560" cy="6549840"/>
            </a:xfrm>
          </p:grpSpPr>
          <p:sp>
            <p:nvSpPr>
              <p:cNvPr id="712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2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2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2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28" name="Picture 9"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την Ελλάδα το σύνολο των εκπαιδευτικών έχει θετική άποψη για την Παράλληλη Στήριξη, αναφέροντας πώς είναι ένας σημαντικός θεσμός που βοηθάει στην ένταξη των παιδιών με ειδικές ανάγκες και αναπηρίες στο σχολείο και στην κοινωνία αλλά προσφέρει και αρωγή και στους γονείς. </a:t>
            </a:r>
            <a:endParaRPr b="0" lang="en-US" sz="2400" spc="-1" strike="noStrike">
              <a:solidFill>
                <a:srgbClr val="ffffff"/>
              </a:solidFill>
              <a:latin typeface="Times New Roman"/>
            </a:endParaRPr>
          </a:p>
        </p:txBody>
      </p:sp>
      <p:grpSp>
        <p:nvGrpSpPr>
          <p:cNvPr id="7130" name="Group 2"/>
          <p:cNvGrpSpPr/>
          <p:nvPr/>
        </p:nvGrpSpPr>
        <p:grpSpPr>
          <a:xfrm>
            <a:off x="0" y="115920"/>
            <a:ext cx="9142560" cy="6549840"/>
            <a:chOff x="0" y="115920"/>
            <a:chExt cx="9142560" cy="6549840"/>
          </a:xfrm>
        </p:grpSpPr>
        <p:grpSp>
          <p:nvGrpSpPr>
            <p:cNvPr id="7131" name="Group 3"/>
            <p:cNvGrpSpPr/>
            <p:nvPr/>
          </p:nvGrpSpPr>
          <p:grpSpPr>
            <a:xfrm>
              <a:off x="0" y="115920"/>
              <a:ext cx="9142560" cy="6549840"/>
              <a:chOff x="0" y="115920"/>
              <a:chExt cx="9142560" cy="6549840"/>
            </a:xfrm>
          </p:grpSpPr>
          <p:sp>
            <p:nvSpPr>
              <p:cNvPr id="713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3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3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3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37" name="Picture 9"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Η Παράλληλη Στήριξη χρειάζεται στο σχολείο καθώς προσφέρει ίσες ευκαιρίες, αλληλεπίδραση μεταξύ των συνομηλίκων κάτι που επιδρά θετικά στη βελτίωση της συμπεριφοράς, στον κοινωνικό και συναισθηματικό τομέα.</a:t>
            </a:r>
            <a:endParaRPr b="0" lang="en-US" sz="2400" spc="-1" strike="noStrike">
              <a:solidFill>
                <a:srgbClr val="ffffff"/>
              </a:solidFill>
              <a:latin typeface="Times New Roman"/>
            </a:endParaRPr>
          </a:p>
        </p:txBody>
      </p:sp>
      <p:grpSp>
        <p:nvGrpSpPr>
          <p:cNvPr id="7139" name="Group 2"/>
          <p:cNvGrpSpPr/>
          <p:nvPr/>
        </p:nvGrpSpPr>
        <p:grpSpPr>
          <a:xfrm>
            <a:off x="0" y="115920"/>
            <a:ext cx="9142560" cy="6549840"/>
            <a:chOff x="0" y="115920"/>
            <a:chExt cx="9142560" cy="6549840"/>
          </a:xfrm>
        </p:grpSpPr>
        <p:grpSp>
          <p:nvGrpSpPr>
            <p:cNvPr id="7140" name="Group 3"/>
            <p:cNvGrpSpPr/>
            <p:nvPr/>
          </p:nvGrpSpPr>
          <p:grpSpPr>
            <a:xfrm>
              <a:off x="0" y="115920"/>
              <a:ext cx="9142560" cy="6549840"/>
              <a:chOff x="0" y="115920"/>
              <a:chExt cx="9142560" cy="6549840"/>
            </a:xfrm>
          </p:grpSpPr>
          <p:sp>
            <p:nvSpPr>
              <p:cNvPr id="714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4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4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4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46" name="Picture 9"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7"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Οι εκπαιδευτικοί στην Ελλάδα παρουσιάζουν και την πτυχή της βελτίωσης των κοινωνικών δεξιοτήτων των συμμαθητών καθώς έρχονται καθημερινά σε επαφή με τα παιδιά  με ειδικές εκπαιδευτικές ανάγκες, τα γνωρίζουν καλύτερα και ευαισθητοποιούνται. </a:t>
            </a:r>
            <a:br>
              <a:rPr sz="2400"/>
            </a:br>
            <a:br>
              <a:rPr sz="2400"/>
            </a:br>
            <a:r>
              <a:rPr b="0" lang="el-GR" sz="2400" spc="-1" strike="noStrike">
                <a:solidFill>
                  <a:srgbClr val="000000"/>
                </a:solidFill>
                <a:latin typeface="Times New Roman"/>
              </a:rPr>
              <a:t>Ακόμη, ο εκπαιδευτικός της τάξης έχει τη δυνατότητα να ασχοληθεί περισσότερο με τις γνωστικές δεξιότητες και την ευαισθητοποίηση των μαθητών, όσο ο ειδικός εκπαιδευτικός προσφέρει υποστηρικτικές υπηρεσίες στο μαθητή με ειδικές εκπαιδευτικές ανάγκες και αναπηρία. </a:t>
            </a:r>
            <a:endParaRPr b="0" lang="en-US" sz="2400" spc="-1" strike="noStrike">
              <a:solidFill>
                <a:srgbClr val="ffffff"/>
              </a:solidFill>
              <a:latin typeface="Times New Roman"/>
            </a:endParaRPr>
          </a:p>
        </p:txBody>
      </p:sp>
      <p:grpSp>
        <p:nvGrpSpPr>
          <p:cNvPr id="7148" name="Group 2"/>
          <p:cNvGrpSpPr/>
          <p:nvPr/>
        </p:nvGrpSpPr>
        <p:grpSpPr>
          <a:xfrm>
            <a:off x="0" y="115920"/>
            <a:ext cx="9142560" cy="6549840"/>
            <a:chOff x="0" y="115920"/>
            <a:chExt cx="9142560" cy="6549840"/>
          </a:xfrm>
        </p:grpSpPr>
        <p:grpSp>
          <p:nvGrpSpPr>
            <p:cNvPr id="7149" name="Group 3"/>
            <p:cNvGrpSpPr/>
            <p:nvPr/>
          </p:nvGrpSpPr>
          <p:grpSpPr>
            <a:xfrm>
              <a:off x="0" y="115920"/>
              <a:ext cx="9142560" cy="6549840"/>
              <a:chOff x="0" y="115920"/>
              <a:chExt cx="9142560" cy="6549840"/>
            </a:xfrm>
          </p:grpSpPr>
          <p:sp>
            <p:nvSpPr>
              <p:cNvPr id="715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5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5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5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55" name="Picture 9"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Η Παράλληλη Στήριξη στην Ελλάδα είναι ένας βιώσιμος τύπος συνδιδασκαλίας, ο οποίος όμως δεν εφαρμόζεται με βάση τις αρχές της ενιαίας εκπαίδευσης. </a:t>
            </a:r>
            <a:br>
              <a:rPr sz="2400"/>
            </a:br>
            <a:r>
              <a:rPr b="0" lang="el-GR" sz="2400" spc="-1" strike="noStrike">
                <a:solidFill>
                  <a:srgbClr val="000000"/>
                </a:solidFill>
                <a:latin typeface="Times New Roman"/>
              </a:rPr>
              <a:t>Ο ειδικός εκπαιδευτικός  στην ουσία λειτουργεί ως βοηθός και δεν έχουν θεσμοθετηθεί μέχρι τώρα από το κράτος μόνιμες θέσεις Παράλληλης Στήριξης, ώστε να υπάρχει όσμωση και κουλτούρα συνεργασίας μεταξύ των εκπαιδευτικών.</a:t>
            </a:r>
            <a:endParaRPr b="0" lang="en-US" sz="2400" spc="-1" strike="noStrike">
              <a:solidFill>
                <a:srgbClr val="ffffff"/>
              </a:solidFill>
              <a:latin typeface="Times New Roman"/>
            </a:endParaRPr>
          </a:p>
        </p:txBody>
      </p:sp>
      <p:grpSp>
        <p:nvGrpSpPr>
          <p:cNvPr id="7157" name="Group 2"/>
          <p:cNvGrpSpPr/>
          <p:nvPr/>
        </p:nvGrpSpPr>
        <p:grpSpPr>
          <a:xfrm>
            <a:off x="0" y="115920"/>
            <a:ext cx="9142560" cy="6549840"/>
            <a:chOff x="0" y="115920"/>
            <a:chExt cx="9142560" cy="6549840"/>
          </a:xfrm>
        </p:grpSpPr>
        <p:grpSp>
          <p:nvGrpSpPr>
            <p:cNvPr id="7158" name="Group 3"/>
            <p:cNvGrpSpPr/>
            <p:nvPr/>
          </p:nvGrpSpPr>
          <p:grpSpPr>
            <a:xfrm>
              <a:off x="0" y="115920"/>
              <a:ext cx="9142560" cy="6549840"/>
              <a:chOff x="0" y="115920"/>
              <a:chExt cx="9142560" cy="6549840"/>
            </a:xfrm>
          </p:grpSpPr>
          <p:sp>
            <p:nvSpPr>
              <p:cNvPr id="715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6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6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6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64" name="Picture 9"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ε έρευνα (Χρυσανθοπούλου 2012) αναδείχτηκαν οι απόψεις των εκπαιδευτικών σχετικά με την υλοποίηση της Παράλληλης Στήριξης και το τι επηρεάζει την αποτελεσματικότητά της. </a:t>
            </a:r>
            <a:br>
              <a:rPr sz="2400"/>
            </a:br>
            <a:br>
              <a:rPr sz="2400"/>
            </a:br>
            <a:r>
              <a:rPr b="0" lang="el-GR" sz="2400" spc="-1" strike="noStrike">
                <a:solidFill>
                  <a:srgbClr val="000000"/>
                </a:solidFill>
                <a:latin typeface="Times New Roman"/>
              </a:rPr>
              <a:t>Πιο αναλυτικά, οι εκπαιδευτικοί ανέφεραν το θέμα της οργανωτικής αγωγής. οι εκπαιδευτικοί εστιάζουν στην μη επαρκή κατάρτισή τους σε θέματα ειδικής.</a:t>
            </a:r>
            <a:endParaRPr b="0" lang="en-US" sz="2400" spc="-1" strike="noStrike">
              <a:solidFill>
                <a:srgbClr val="ffffff"/>
              </a:solidFill>
              <a:latin typeface="Times New Roman"/>
            </a:endParaRPr>
          </a:p>
        </p:txBody>
      </p:sp>
      <p:grpSp>
        <p:nvGrpSpPr>
          <p:cNvPr id="7166" name="Group 2"/>
          <p:cNvGrpSpPr/>
          <p:nvPr/>
        </p:nvGrpSpPr>
        <p:grpSpPr>
          <a:xfrm>
            <a:off x="0" y="115920"/>
            <a:ext cx="9142560" cy="6549840"/>
            <a:chOff x="0" y="115920"/>
            <a:chExt cx="9142560" cy="6549840"/>
          </a:xfrm>
        </p:grpSpPr>
        <p:grpSp>
          <p:nvGrpSpPr>
            <p:cNvPr id="7167" name="Group 3"/>
            <p:cNvGrpSpPr/>
            <p:nvPr/>
          </p:nvGrpSpPr>
          <p:grpSpPr>
            <a:xfrm>
              <a:off x="0" y="115920"/>
              <a:ext cx="9142560" cy="6549840"/>
              <a:chOff x="0" y="115920"/>
              <a:chExt cx="9142560" cy="6549840"/>
            </a:xfrm>
          </p:grpSpPr>
          <p:sp>
            <p:nvSpPr>
              <p:cNvPr id="716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7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7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7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73" name="Picture 9"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4"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έρουν και έναν σημαντικό παράγοντα που είναι οι συνθήκες εργασίας. Πιο ειδικά, οι εκπαιδευτικοί στην Ελλάδα αναλαμβάνουν μεγάλες σε αριθμό μαθητών τάξεις, δεν διαθέτουν υποστήριξη με υλικό και πολλές φορές αντιμετωπίζουν δυσκολίες με την ακαμψία του αναλυτικού προγράμματος και της οργάνωσης της σχολικής ύλης. </a:t>
            </a:r>
            <a:endParaRPr b="0" lang="en-US" sz="2800" spc="-1" strike="noStrike">
              <a:solidFill>
                <a:srgbClr val="ffffff"/>
              </a:solidFill>
              <a:latin typeface="Times New Roman"/>
            </a:endParaRPr>
          </a:p>
        </p:txBody>
      </p:sp>
      <p:grpSp>
        <p:nvGrpSpPr>
          <p:cNvPr id="7175" name="Group 2"/>
          <p:cNvGrpSpPr/>
          <p:nvPr/>
        </p:nvGrpSpPr>
        <p:grpSpPr>
          <a:xfrm>
            <a:off x="0" y="115920"/>
            <a:ext cx="9142560" cy="6549840"/>
            <a:chOff x="0" y="115920"/>
            <a:chExt cx="9142560" cy="6549840"/>
          </a:xfrm>
        </p:grpSpPr>
        <p:grpSp>
          <p:nvGrpSpPr>
            <p:cNvPr id="7176" name="Group 3"/>
            <p:cNvGrpSpPr/>
            <p:nvPr/>
          </p:nvGrpSpPr>
          <p:grpSpPr>
            <a:xfrm>
              <a:off x="0" y="115920"/>
              <a:ext cx="9142560" cy="6549840"/>
              <a:chOff x="0" y="115920"/>
              <a:chExt cx="9142560" cy="6549840"/>
            </a:xfrm>
          </p:grpSpPr>
          <p:sp>
            <p:nvSpPr>
              <p:cNvPr id="717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7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8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8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82" name="Picture 9"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3"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δευτεροβάθμια εκπαίδευση λόγω της ειδίκευσης που έχουν οι εκπαιδευτικοί είναι λιγότερο θετικοί στην ιδέα της παράλληλης στήριξης σε σχέση με τους εκπαιδευτικούς της πρωτοβάθμιας. </a:t>
            </a:r>
            <a:br>
              <a:rPr sz="2800"/>
            </a:br>
            <a:r>
              <a:rPr b="0" lang="el-GR" sz="2800" spc="-1" strike="noStrike">
                <a:solidFill>
                  <a:srgbClr val="000000"/>
                </a:solidFill>
                <a:latin typeface="Times New Roman"/>
              </a:rPr>
              <a:t>Τέλος, είναι απαραίτητη η επιμόρφωση όχι μόνο των εκπαιδευτικών γενικής αγωγής αλλά και των εκπαιδευτικών ειδικής αγωγής καθώς πολλές φορές και οι ίδιοι λανθάνουν σε θέματα μεθοδολογίας και διαχείρισης της γενικής τάξης και της παρουσίας τους μέσα στη γενική τάξη (Καμπανέλλου, 2011).  </a:t>
            </a:r>
            <a:br>
              <a:rPr sz="2000"/>
            </a:br>
            <a:endParaRPr b="0" lang="en-US" sz="2800" spc="-1" strike="noStrike">
              <a:solidFill>
                <a:srgbClr val="ffffff"/>
              </a:solidFill>
              <a:latin typeface="Times New Roman"/>
            </a:endParaRPr>
          </a:p>
        </p:txBody>
      </p:sp>
      <p:grpSp>
        <p:nvGrpSpPr>
          <p:cNvPr id="7184" name="Group 2"/>
          <p:cNvGrpSpPr/>
          <p:nvPr/>
        </p:nvGrpSpPr>
        <p:grpSpPr>
          <a:xfrm>
            <a:off x="0" y="115920"/>
            <a:ext cx="9142560" cy="6549840"/>
            <a:chOff x="0" y="115920"/>
            <a:chExt cx="9142560" cy="6549840"/>
          </a:xfrm>
        </p:grpSpPr>
        <p:grpSp>
          <p:nvGrpSpPr>
            <p:cNvPr id="7185" name="Group 3"/>
            <p:cNvGrpSpPr/>
            <p:nvPr/>
          </p:nvGrpSpPr>
          <p:grpSpPr>
            <a:xfrm>
              <a:off x="0" y="115920"/>
              <a:ext cx="9142560" cy="6549840"/>
              <a:chOff x="0" y="115920"/>
              <a:chExt cx="9142560" cy="6549840"/>
            </a:xfrm>
          </p:grpSpPr>
          <p:sp>
            <p:nvSpPr>
              <p:cNvPr id="718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8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8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9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91"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3" name="Text Box 1"/>
          <p:cNvSpPr/>
          <p:nvPr/>
        </p:nvSpPr>
        <p:spPr>
          <a:xfrm>
            <a:off x="179280" y="1392120"/>
            <a:ext cx="87854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1" lang="el-GR" sz="2800" spc="-1" strike="noStrike">
                <a:solidFill>
                  <a:srgbClr val="000000"/>
                </a:solidFill>
                <a:latin typeface="Times New Roman"/>
              </a:rPr>
              <a:t>Η Παιδαγωγική της Ένταξης </a:t>
            </a:r>
            <a:r>
              <a:rPr b="0" lang="el-GR" sz="2800" spc="-1" strike="noStrike">
                <a:solidFill>
                  <a:srgbClr val="000000"/>
                </a:solidFill>
                <a:latin typeface="Times New Roman"/>
              </a:rPr>
              <a:t>προτάσσει  και αναδεικνύει το σχολείο ως ένα χώρο με ετερογενείς ομάδες  και θέτει ως κυρίαρχο ζήτημα τη σύνδεση του σχολείου με την καθημερινή ζωή.</a:t>
            </a:r>
            <a:br>
              <a:rPr sz="2000"/>
            </a:br>
            <a:endParaRPr b="0" lang="en-US" sz="2800" spc="-1" strike="noStrike">
              <a:solidFill>
                <a:srgbClr val="ffffff"/>
              </a:solidFill>
              <a:latin typeface="Times New Roman"/>
            </a:endParaRPr>
          </a:p>
        </p:txBody>
      </p:sp>
      <p:grpSp>
        <p:nvGrpSpPr>
          <p:cNvPr id="6464" name="Group 2"/>
          <p:cNvGrpSpPr/>
          <p:nvPr/>
        </p:nvGrpSpPr>
        <p:grpSpPr>
          <a:xfrm>
            <a:off x="0" y="115920"/>
            <a:ext cx="9142560" cy="6549840"/>
            <a:chOff x="0" y="115920"/>
            <a:chExt cx="9142560" cy="6549840"/>
          </a:xfrm>
        </p:grpSpPr>
        <p:grpSp>
          <p:nvGrpSpPr>
            <p:cNvPr id="6465" name="Group 3"/>
            <p:cNvGrpSpPr/>
            <p:nvPr/>
          </p:nvGrpSpPr>
          <p:grpSpPr>
            <a:xfrm>
              <a:off x="0" y="115920"/>
              <a:ext cx="9142560" cy="6549840"/>
              <a:chOff x="0" y="115920"/>
              <a:chExt cx="9142560" cy="6549840"/>
            </a:xfrm>
          </p:grpSpPr>
          <p:sp>
            <p:nvSpPr>
              <p:cNvPr id="646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646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1" name="Picture 9"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2"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άλλη μία πρόσφατη έρευνα των </a:t>
            </a:r>
            <a:r>
              <a:rPr b="0" lang="en-US" sz="2800" spc="-1" strike="noStrike">
                <a:solidFill>
                  <a:srgbClr val="000000"/>
                </a:solidFill>
                <a:latin typeface="Times New Roman"/>
              </a:rPr>
              <a:t>Tsakiridou</a:t>
            </a:r>
            <a:r>
              <a:rPr b="0" lang="el-GR" sz="2800" spc="-1" strike="noStrike">
                <a:solidFill>
                  <a:srgbClr val="000000"/>
                </a:solidFill>
                <a:latin typeface="Times New Roman"/>
              </a:rPr>
              <a:t> &amp; </a:t>
            </a:r>
            <a:r>
              <a:rPr b="0" lang="en-US" sz="2800" spc="-1" strike="noStrike">
                <a:solidFill>
                  <a:srgbClr val="000000"/>
                </a:solidFill>
                <a:latin typeface="Times New Roman"/>
              </a:rPr>
              <a:t>Polyzopoulou</a:t>
            </a:r>
            <a:r>
              <a:rPr b="0" lang="el-GR" sz="2800" spc="-1" strike="noStrike">
                <a:solidFill>
                  <a:srgbClr val="000000"/>
                </a:solidFill>
                <a:latin typeface="Times New Roman"/>
              </a:rPr>
              <a:t> (2014) αναδείχτηκε ότι οι εκπαιδευτικοί με εμπειρία είχαν πιο θετική στάση για τη συμπερίληψη και την παράλληλη στήριξη στη γενική τάξη. </a:t>
            </a:r>
            <a:br>
              <a:rPr sz="2800"/>
            </a:br>
            <a:br>
              <a:rPr sz="2800"/>
            </a:br>
            <a:r>
              <a:rPr b="0" lang="el-GR" sz="2800" spc="-1" strike="noStrike">
                <a:solidFill>
                  <a:srgbClr val="000000"/>
                </a:solidFill>
                <a:latin typeface="Times New Roman"/>
              </a:rPr>
              <a:t>Οι δάσκαλοι της γενικής αγωγής θέτουν την έλλειψη εμπειρίας ως κύριο εμπόδιο και προτείνουν να αποκτήσουν τη δυνατότητα για άμεση διδασκαλία σε μαθητές με ειδικές εκπαιδευτικές ανάγκ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5). </a:t>
            </a:r>
            <a:br>
              <a:rPr sz="2000"/>
            </a:br>
            <a:endParaRPr b="0" lang="en-US" sz="2800" spc="-1" strike="noStrike">
              <a:solidFill>
                <a:srgbClr val="ffffff"/>
              </a:solidFill>
              <a:latin typeface="Times New Roman"/>
            </a:endParaRPr>
          </a:p>
        </p:txBody>
      </p:sp>
      <p:grpSp>
        <p:nvGrpSpPr>
          <p:cNvPr id="7193" name="Group 2"/>
          <p:cNvGrpSpPr/>
          <p:nvPr/>
        </p:nvGrpSpPr>
        <p:grpSpPr>
          <a:xfrm>
            <a:off x="0" y="115920"/>
            <a:ext cx="9142560" cy="6549840"/>
            <a:chOff x="0" y="115920"/>
            <a:chExt cx="9142560" cy="6549840"/>
          </a:xfrm>
        </p:grpSpPr>
        <p:grpSp>
          <p:nvGrpSpPr>
            <p:cNvPr id="7194" name="Group 3"/>
            <p:cNvGrpSpPr/>
            <p:nvPr/>
          </p:nvGrpSpPr>
          <p:grpSpPr>
            <a:xfrm>
              <a:off x="0" y="115920"/>
              <a:ext cx="9142560" cy="6549840"/>
              <a:chOff x="0" y="115920"/>
              <a:chExt cx="9142560" cy="6549840"/>
            </a:xfrm>
          </p:grpSpPr>
          <p:sp>
            <p:nvSpPr>
              <p:cNvPr id="7195"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6"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197"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98"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9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00" name="Picture 9"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1"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στην Παράλληλη Στήριξη στην Ελλάδα οι εμπλεκόμενοι παιδαγωγοί αποφεύγουν να συνεργαστούν ώστε να υπάρξει αποτελεσματική και ουσιαστική συνεκπαίδευση ( </a:t>
            </a:r>
            <a:r>
              <a:rPr b="0" lang="en-US" sz="2800" spc="-1" strike="noStrike">
                <a:solidFill>
                  <a:srgbClr val="000000"/>
                </a:solidFill>
                <a:latin typeface="Times New Roman"/>
              </a:rPr>
              <a:t>Vlachou</a:t>
            </a:r>
            <a:r>
              <a:rPr b="0" lang="el-GR" sz="2800" spc="-1" strike="noStrike">
                <a:solidFill>
                  <a:srgbClr val="000000"/>
                </a:solidFill>
                <a:latin typeface="Times New Roman"/>
              </a:rPr>
              <a:t> &amp; </a:t>
            </a:r>
            <a:r>
              <a:rPr b="0" lang="en-US" sz="2800" spc="-1" strike="noStrike">
                <a:solidFill>
                  <a:srgbClr val="000000"/>
                </a:solidFill>
                <a:latin typeface="Times New Roman"/>
              </a:rPr>
              <a:t>Avramidis</a:t>
            </a:r>
            <a:r>
              <a:rPr b="0" lang="el-GR" sz="2800" spc="-1" strike="noStrike">
                <a:solidFill>
                  <a:srgbClr val="000000"/>
                </a:solidFill>
                <a:latin typeface="Times New Roman"/>
              </a:rPr>
              <a:t>, 2014). </a:t>
            </a:r>
            <a:br>
              <a:rPr sz="2800"/>
            </a:b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 διαπιστώνουν ότι μεγάλο ποσοστό των εκπαιδευτικών γενικής αγωγής όλων των βαθμίδων εκπαίδευσης υποστήριξε ότι την ευθύνη για την εκπαίδευση των μαθητών με αναπηρία και ειδικές εκπαιδευτικές ανάγκες φέρουν οι ειδικοί παιδαγωγοί. </a:t>
            </a:r>
            <a:br>
              <a:rPr sz="2000"/>
            </a:br>
            <a:endParaRPr b="0" lang="en-US" sz="2800" spc="-1" strike="noStrike">
              <a:solidFill>
                <a:srgbClr val="ffffff"/>
              </a:solidFill>
              <a:latin typeface="Times New Roman"/>
            </a:endParaRPr>
          </a:p>
        </p:txBody>
      </p:sp>
      <p:grpSp>
        <p:nvGrpSpPr>
          <p:cNvPr id="7202" name="Group 2"/>
          <p:cNvGrpSpPr/>
          <p:nvPr/>
        </p:nvGrpSpPr>
        <p:grpSpPr>
          <a:xfrm>
            <a:off x="0" y="115920"/>
            <a:ext cx="9142560" cy="6549840"/>
            <a:chOff x="0" y="115920"/>
            <a:chExt cx="9142560" cy="6549840"/>
          </a:xfrm>
        </p:grpSpPr>
        <p:grpSp>
          <p:nvGrpSpPr>
            <p:cNvPr id="7203" name="Group 3"/>
            <p:cNvGrpSpPr/>
            <p:nvPr/>
          </p:nvGrpSpPr>
          <p:grpSpPr>
            <a:xfrm>
              <a:off x="0" y="115920"/>
              <a:ext cx="9142560" cy="6549840"/>
              <a:chOff x="0" y="115920"/>
              <a:chExt cx="9142560" cy="6549840"/>
            </a:xfrm>
          </p:grpSpPr>
          <p:sp>
            <p:nvSpPr>
              <p:cNvPr id="7204"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5"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06"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07"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09" name="Picture 9"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0"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lang="el-GR" sz="2800" spc="-1" strike="noStrike">
                <a:solidFill>
                  <a:srgbClr val="000000"/>
                </a:solidFill>
                <a:latin typeface="Times New Roman"/>
              </a:rPr>
              <a:t>Ρόλοι εκπαιδευτικών στην Παράλληλη Στήριξη</a:t>
            </a:r>
            <a:br>
              <a:rPr sz="2800"/>
            </a:br>
            <a:br>
              <a:rPr sz="2800"/>
            </a:br>
            <a:r>
              <a:rPr b="0" lang="el-GR" sz="2800" spc="-1" strike="noStrike">
                <a:solidFill>
                  <a:srgbClr val="000000"/>
                </a:solidFill>
                <a:latin typeface="Times New Roman"/>
              </a:rPr>
              <a:t>Παρόλα τα θετικά στοιχεία της Παράλληλης Στήριξης, στην ελληνική πραγματικότητα η συνδιδασκαλία έχει δεχτεί στρεβλώσεις, χρειάζεται απαραίτητα βελτίωση και αναθεώρηση των ρόλων των εκπαιδευτικών. </a:t>
            </a:r>
            <a:br>
              <a:rPr sz="2800"/>
            </a:br>
            <a:r>
              <a:rPr b="0" lang="el-GR" sz="2800" spc="-1" strike="noStrike">
                <a:solidFill>
                  <a:srgbClr val="000000"/>
                </a:solidFill>
                <a:latin typeface="Times New Roman"/>
              </a:rPr>
              <a:t>Στην Ελλάδα οι συνδιδάσκαλοι δεν μοιράζονται την ευθύνη της διδακτικής διαδικασίας και οι εκπαιδευτικοί της ειδικής αγωγής έχουν ένα συμπληρωματικό και βοηθητικό ρόλο (Μαυροπαλιάς, 2013).</a:t>
            </a:r>
            <a:br>
              <a:rPr sz="2000"/>
            </a:br>
            <a:endParaRPr b="0" lang="en-US" sz="2800" spc="-1" strike="noStrike">
              <a:solidFill>
                <a:srgbClr val="ffffff"/>
              </a:solidFill>
              <a:latin typeface="Times New Roman"/>
            </a:endParaRPr>
          </a:p>
        </p:txBody>
      </p:sp>
      <p:grpSp>
        <p:nvGrpSpPr>
          <p:cNvPr id="7211" name="Group 2"/>
          <p:cNvGrpSpPr/>
          <p:nvPr/>
        </p:nvGrpSpPr>
        <p:grpSpPr>
          <a:xfrm>
            <a:off x="0" y="115920"/>
            <a:ext cx="9142560" cy="6549840"/>
            <a:chOff x="0" y="115920"/>
            <a:chExt cx="9142560" cy="6549840"/>
          </a:xfrm>
        </p:grpSpPr>
        <p:grpSp>
          <p:nvGrpSpPr>
            <p:cNvPr id="7212" name="Group 3"/>
            <p:cNvGrpSpPr/>
            <p:nvPr/>
          </p:nvGrpSpPr>
          <p:grpSpPr>
            <a:xfrm>
              <a:off x="0" y="115920"/>
              <a:ext cx="9142560" cy="6549840"/>
              <a:chOff x="0" y="115920"/>
              <a:chExt cx="9142560" cy="6549840"/>
            </a:xfrm>
          </p:grpSpPr>
          <p:sp>
            <p:nvSpPr>
              <p:cNvPr id="7213"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4"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15"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16"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18" name="Picture 9"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9"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Επικρατεί μία λανθασμένη αντίληψη ότι ο ειδικός παιδαγωγός έχει την κύρια ευθύνη για το παιδί με αναπηρία ή ειδικές εκπαιδευτικές ανάγκες, ενώ ο παιδαγωγός γενικής αγωγής έχει την κύρια ευθύνη για τη συνολική διδακτική διαδικασία. </a:t>
            </a:r>
            <a:br>
              <a:rPr sz="2400"/>
            </a:br>
            <a:r>
              <a:rPr b="0" lang="el-GR" sz="2400" spc="-1" strike="noStrike">
                <a:solidFill>
                  <a:srgbClr val="000000"/>
                </a:solidFill>
                <a:latin typeface="Times New Roman"/>
              </a:rPr>
              <a:t>Αν και ο θεσμός της συνδιδασκαλίας προτάθηκε από ειδικούς παιδαγωγούς προκειμένου να αμβλυνθούν οι δομές αποκλεισμού και ο διαχωρισμός, οι ίδιοι φαίνεται σε κάποιο βαθμό να αποδέχονται τον βοηθητικό τους ρόλο (</a:t>
            </a:r>
            <a:r>
              <a:rPr b="0" lang="en-US" sz="2400" spc="-1" strike="noStrike">
                <a:solidFill>
                  <a:srgbClr val="000000"/>
                </a:solidFill>
                <a:latin typeface="Times New Roman"/>
              </a:rPr>
              <a:t>Dunforth</a:t>
            </a:r>
            <a:r>
              <a:rPr b="0" lang="el-GR" sz="2400" spc="-1" strike="noStrike">
                <a:solidFill>
                  <a:srgbClr val="000000"/>
                </a:solidFill>
                <a:latin typeface="Times New Roman"/>
              </a:rPr>
              <a:t> &amp; </a:t>
            </a:r>
            <a:r>
              <a:rPr b="0" lang="en-US" sz="2400" spc="-1" strike="noStrike">
                <a:solidFill>
                  <a:srgbClr val="000000"/>
                </a:solidFill>
                <a:latin typeface="Times New Roman"/>
              </a:rPr>
              <a:t>Naraian</a:t>
            </a:r>
            <a:r>
              <a:rPr b="0" lang="el-GR" sz="2400" spc="-1" strike="noStrike">
                <a:solidFill>
                  <a:srgbClr val="000000"/>
                </a:solidFill>
                <a:latin typeface="Times New Roman"/>
              </a:rPr>
              <a:t>, 2015). </a:t>
            </a:r>
            <a:endParaRPr b="0" lang="en-US" sz="2400" spc="-1" strike="noStrike">
              <a:solidFill>
                <a:srgbClr val="ffffff"/>
              </a:solidFill>
              <a:latin typeface="Times New Roman"/>
            </a:endParaRPr>
          </a:p>
        </p:txBody>
      </p:sp>
      <p:grpSp>
        <p:nvGrpSpPr>
          <p:cNvPr id="7220" name="Group 2"/>
          <p:cNvGrpSpPr/>
          <p:nvPr/>
        </p:nvGrpSpPr>
        <p:grpSpPr>
          <a:xfrm>
            <a:off x="0" y="115920"/>
            <a:ext cx="9142560" cy="6549840"/>
            <a:chOff x="0" y="115920"/>
            <a:chExt cx="9142560" cy="6549840"/>
          </a:xfrm>
        </p:grpSpPr>
        <p:grpSp>
          <p:nvGrpSpPr>
            <p:cNvPr id="7221" name="Group 3"/>
            <p:cNvGrpSpPr/>
            <p:nvPr/>
          </p:nvGrpSpPr>
          <p:grpSpPr>
            <a:xfrm>
              <a:off x="0" y="115920"/>
              <a:ext cx="9142560" cy="6549840"/>
              <a:chOff x="0" y="115920"/>
              <a:chExt cx="9142560" cy="6549840"/>
            </a:xfrm>
          </p:grpSpPr>
          <p:sp>
            <p:nvSpPr>
              <p:cNvPr id="7222"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3"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24"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25"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27" name="Picture 9"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8" name="Text Box 1"/>
          <p:cNvSpPr/>
          <p:nvPr/>
        </p:nvSpPr>
        <p:spPr>
          <a:xfrm>
            <a:off x="46836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για τα ελληνικά δεδομένα ο ρόλος του εκπαιδευτικού της Παράλληλης Στήριξης πρέπει να γίνει ισότιμος με το ρόλο του εκπαιδευτικού της τάξης (</a:t>
            </a:r>
            <a:r>
              <a:rPr b="0" lang="en-US" sz="2800" spc="-1" strike="noStrike">
                <a:solidFill>
                  <a:srgbClr val="000000"/>
                </a:solidFill>
                <a:latin typeface="Times New Roman"/>
              </a:rPr>
              <a:t>Mastropieri</a:t>
            </a:r>
            <a:r>
              <a:rPr b="0" lang="el-GR" sz="2800" spc="-1" strike="noStrike">
                <a:solidFill>
                  <a:srgbClr val="000000"/>
                </a:solidFill>
                <a:latin typeface="Times New Roman"/>
              </a:rPr>
              <a:t> &amp; </a:t>
            </a:r>
            <a:r>
              <a:rPr b="0" lang="en-US" sz="2800" spc="-1" strike="noStrike">
                <a:solidFill>
                  <a:srgbClr val="000000"/>
                </a:solidFill>
                <a:latin typeface="Times New Roman"/>
              </a:rPr>
              <a:t>Scruggs</a:t>
            </a:r>
            <a:r>
              <a:rPr b="0" lang="el-GR" sz="2800" spc="-1" strike="noStrike">
                <a:solidFill>
                  <a:srgbClr val="000000"/>
                </a:solidFill>
                <a:latin typeface="Times New Roman"/>
              </a:rPr>
              <a:t>, 2001). </a:t>
            </a:r>
            <a:br>
              <a:rPr sz="2800"/>
            </a:br>
            <a:r>
              <a:rPr b="0" lang="el-GR" sz="2800" spc="-1" strike="noStrike">
                <a:solidFill>
                  <a:srgbClr val="000000"/>
                </a:solidFill>
                <a:latin typeface="Times New Roman"/>
              </a:rPr>
              <a:t>Αυτό σημαίνει ότι ο εκπαιδευτικός ειδικής αγωγής είναι απαραίτητο να προχωρά σε προσαρμογές του σχολικού περιβάλλοντος και να παρέχει διδασκαλία στους μαθητές με αναπηρίες και ειδικές εκπαιδευτικές ανάγκες με στόχο να μπορέσουν να κατακτήσουν τη νέα γνώση και δεξιότητες ζωής (Μαυροπαλιάς, 2013).  </a:t>
            </a:r>
            <a:endParaRPr b="0" lang="en-US" sz="2800" spc="-1" strike="noStrike">
              <a:solidFill>
                <a:srgbClr val="ffffff"/>
              </a:solidFill>
              <a:latin typeface="Times New Roman"/>
            </a:endParaRPr>
          </a:p>
        </p:txBody>
      </p:sp>
      <p:grpSp>
        <p:nvGrpSpPr>
          <p:cNvPr id="7229" name="Group 2"/>
          <p:cNvGrpSpPr/>
          <p:nvPr/>
        </p:nvGrpSpPr>
        <p:grpSpPr>
          <a:xfrm>
            <a:off x="0" y="115920"/>
            <a:ext cx="9142560" cy="6549840"/>
            <a:chOff x="0" y="115920"/>
            <a:chExt cx="9142560" cy="6549840"/>
          </a:xfrm>
        </p:grpSpPr>
        <p:grpSp>
          <p:nvGrpSpPr>
            <p:cNvPr id="7230" name="Group 3"/>
            <p:cNvGrpSpPr/>
            <p:nvPr/>
          </p:nvGrpSpPr>
          <p:grpSpPr>
            <a:xfrm>
              <a:off x="0" y="115920"/>
              <a:ext cx="9142560" cy="6549840"/>
              <a:chOff x="0" y="115920"/>
              <a:chExt cx="9142560" cy="6549840"/>
            </a:xfrm>
          </p:grpSpPr>
          <p:sp>
            <p:nvSpPr>
              <p:cNvPr id="7231"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2"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33"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34"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36" name="Picture 9"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νθήκες εργασίας των ειδικών παιδαγωγών στην Ελλάδα δυσκολεύουν τη ανάληψη τέτοιων πρωτοβουλιών καθώς οι εκπαιδευτικοί αυτοί είναι υπεύθυνοι σε όλο το σχολικό πρόγραμμα για έναν μαθητή και σε όλα τα σχολικά αντικείμενα (</a:t>
            </a:r>
            <a:r>
              <a:rPr b="0" lang="en-US" sz="2800" spc="-1" strike="noStrike">
                <a:solidFill>
                  <a:srgbClr val="000000"/>
                </a:solidFill>
                <a:latin typeface="Times New Roman"/>
              </a:rPr>
              <a:t>Stefanidis</a:t>
            </a:r>
            <a:r>
              <a:rPr b="0" lang="el-GR" sz="2800" spc="-1" strike="noStrike">
                <a:solidFill>
                  <a:srgbClr val="000000"/>
                </a:solidFill>
                <a:latin typeface="Times New Roman"/>
              </a:rPr>
              <a:t> &amp; </a:t>
            </a:r>
            <a:r>
              <a:rPr b="0" lang="en-US" sz="2800" spc="-1" strike="noStrike">
                <a:solidFill>
                  <a:srgbClr val="000000"/>
                </a:solidFill>
                <a:latin typeface="Times New Roman"/>
              </a:rPr>
              <a:t>Strogilos</a:t>
            </a:r>
            <a:r>
              <a:rPr b="0" lang="el-GR" sz="2800" spc="-1" strike="noStrike">
                <a:solidFill>
                  <a:srgbClr val="000000"/>
                </a:solidFill>
                <a:latin typeface="Times New Roman"/>
              </a:rPr>
              <a:t>, 2015). Επιπλέον, σύμφωνα με τον Σούλη (2008) θετική επίδραση στους μαθητές έχει ο σεβασμός, η αλληλεπίδραση και οι σχέσεις ισοτιμίας ανάμεσα στους δύο συνδιδασκάλους. </a:t>
            </a:r>
            <a:endParaRPr b="0" lang="en-US" sz="2800" spc="-1" strike="noStrike">
              <a:solidFill>
                <a:srgbClr val="ffffff"/>
              </a:solidFill>
              <a:latin typeface="Times New Roman"/>
            </a:endParaRPr>
          </a:p>
        </p:txBody>
      </p:sp>
      <p:grpSp>
        <p:nvGrpSpPr>
          <p:cNvPr id="7238" name="Group 2"/>
          <p:cNvGrpSpPr/>
          <p:nvPr/>
        </p:nvGrpSpPr>
        <p:grpSpPr>
          <a:xfrm>
            <a:off x="0" y="115920"/>
            <a:ext cx="9142560" cy="6549840"/>
            <a:chOff x="0" y="115920"/>
            <a:chExt cx="9142560" cy="6549840"/>
          </a:xfrm>
        </p:grpSpPr>
        <p:grpSp>
          <p:nvGrpSpPr>
            <p:cNvPr id="7239" name="Group 3"/>
            <p:cNvGrpSpPr/>
            <p:nvPr/>
          </p:nvGrpSpPr>
          <p:grpSpPr>
            <a:xfrm>
              <a:off x="0" y="115920"/>
              <a:ext cx="9142560" cy="6549840"/>
              <a:chOff x="0" y="115920"/>
              <a:chExt cx="9142560" cy="6549840"/>
            </a:xfrm>
          </p:grpSpPr>
          <p:sp>
            <p:nvSpPr>
              <p:cNvPr id="7240"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1"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42"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43"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45" name="Picture 9"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6"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λληνικό εκπαιδευτικό σύστημα η συνδιδασκαλία δεν αντιμετωπίζεται με ιδιαίτερη προσοχή και λειτουργεί υπό το πρίσμα του επαγγελματισμού και των οικονομικών συμφερόντων, για αυτό σήμερα οι δάσκαλοι διαφωνούν ως προς την ερμηνεία του θεσμού της Παράλληλης Στήριξης. </a:t>
            </a:r>
            <a:endParaRPr b="0" lang="en-US" sz="2800" spc="-1" strike="noStrike">
              <a:solidFill>
                <a:srgbClr val="ffffff"/>
              </a:solidFill>
              <a:latin typeface="Times New Roman"/>
            </a:endParaRPr>
          </a:p>
        </p:txBody>
      </p:sp>
      <p:grpSp>
        <p:nvGrpSpPr>
          <p:cNvPr id="7247" name="Group 2"/>
          <p:cNvGrpSpPr/>
          <p:nvPr/>
        </p:nvGrpSpPr>
        <p:grpSpPr>
          <a:xfrm>
            <a:off x="0" y="115920"/>
            <a:ext cx="9142560" cy="6549840"/>
            <a:chOff x="0" y="115920"/>
            <a:chExt cx="9142560" cy="6549840"/>
          </a:xfrm>
        </p:grpSpPr>
        <p:grpSp>
          <p:nvGrpSpPr>
            <p:cNvPr id="7248" name="Group 3"/>
            <p:cNvGrpSpPr/>
            <p:nvPr/>
          </p:nvGrpSpPr>
          <p:grpSpPr>
            <a:xfrm>
              <a:off x="0" y="115920"/>
              <a:ext cx="9142560" cy="6549840"/>
              <a:chOff x="0" y="115920"/>
              <a:chExt cx="9142560" cy="6549840"/>
            </a:xfrm>
          </p:grpSpPr>
          <p:sp>
            <p:nvSpPr>
              <p:cNvPr id="7249"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0"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51"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52"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54" name="Picture 9"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5"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ωστε, και οι εκπαιδευτικοί ειδικής αγωγής δείχνουν μειωμένο ενδιαφέρον για τη συνεκπαίδευση και δεν έχουν διάθεση για περαιτέρω και πιο εμπεριστατωμένη επιμόρφωση (</a:t>
            </a:r>
            <a:r>
              <a:rPr b="0" lang="en-US" sz="2800" spc="-1" strike="noStrike">
                <a:solidFill>
                  <a:srgbClr val="000000"/>
                </a:solidFill>
                <a:latin typeface="Times New Roman"/>
              </a:rPr>
              <a:t>Boutskou</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Αυτό μπορεί να οφείλεται στο γεγονός ότι στην Ελλάδα η εκάστοτε δομή ειδικής εκπαίδευσης που θα εργαστεί ο εκπαιδευτικός αλλάζει. </a:t>
            </a:r>
            <a:endParaRPr b="0" lang="en-US" sz="2800" spc="-1" strike="noStrike">
              <a:solidFill>
                <a:srgbClr val="ffffff"/>
              </a:solidFill>
              <a:latin typeface="Times New Roman"/>
            </a:endParaRPr>
          </a:p>
        </p:txBody>
      </p:sp>
      <p:grpSp>
        <p:nvGrpSpPr>
          <p:cNvPr id="7256" name="Group 2"/>
          <p:cNvGrpSpPr/>
          <p:nvPr/>
        </p:nvGrpSpPr>
        <p:grpSpPr>
          <a:xfrm>
            <a:off x="0" y="115920"/>
            <a:ext cx="9142560" cy="6549840"/>
            <a:chOff x="0" y="115920"/>
            <a:chExt cx="9142560" cy="6549840"/>
          </a:xfrm>
        </p:grpSpPr>
        <p:grpSp>
          <p:nvGrpSpPr>
            <p:cNvPr id="7257" name="Group 3"/>
            <p:cNvGrpSpPr/>
            <p:nvPr/>
          </p:nvGrpSpPr>
          <p:grpSpPr>
            <a:xfrm>
              <a:off x="0" y="115920"/>
              <a:ext cx="9142560" cy="6549840"/>
              <a:chOff x="0" y="115920"/>
              <a:chExt cx="9142560" cy="6549840"/>
            </a:xfrm>
          </p:grpSpPr>
          <p:sp>
            <p:nvSpPr>
              <p:cNvPr id="7258"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9"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60"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61"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63" name="Picture 9"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αναλυτικά, ένας ειδικός παιδαγωγός μπορεί τη μία χρονιά να εργάζεται σε σχολική μονάδα ειδικής αγωγής, την άλλη σε τμήμα ένταξης στο γενικό σχολείο και την άλλη στην παράλληλη στήριξη. Έτσι, το προσωπικό αυτό δεν είχε την ετοιμότητα να υπερασπιστεί το θεσμό της συνδιδασκαλίας, τα οφέλη και τις κοινωνικές δεξιότητες που είναι δυνατόν να προσφέρει στους μαθητές με ειδικές εκπαιδευτικές ανάγκες και αναπηρία η συνδιδασκαλία έστω και με τη μορφή της παράλληλης που έχει πάρει στο ελληνικό εκπαιδευτικό σύστημα. </a:t>
            </a:r>
            <a:br>
              <a:rPr sz="2000"/>
            </a:br>
            <a:endParaRPr b="0" lang="en-US" sz="2800" spc="-1" strike="noStrike">
              <a:solidFill>
                <a:srgbClr val="ffffff"/>
              </a:solidFill>
              <a:latin typeface="Times New Roman"/>
            </a:endParaRPr>
          </a:p>
        </p:txBody>
      </p:sp>
      <p:grpSp>
        <p:nvGrpSpPr>
          <p:cNvPr id="7265" name="Group 2"/>
          <p:cNvGrpSpPr/>
          <p:nvPr/>
        </p:nvGrpSpPr>
        <p:grpSpPr>
          <a:xfrm>
            <a:off x="0" y="115920"/>
            <a:ext cx="9142560" cy="6549840"/>
            <a:chOff x="0" y="115920"/>
            <a:chExt cx="9142560" cy="6549840"/>
          </a:xfrm>
        </p:grpSpPr>
        <p:grpSp>
          <p:nvGrpSpPr>
            <p:cNvPr id="7266" name="Group 3"/>
            <p:cNvGrpSpPr/>
            <p:nvPr/>
          </p:nvGrpSpPr>
          <p:grpSpPr>
            <a:xfrm>
              <a:off x="0" y="115920"/>
              <a:ext cx="9142560" cy="6549840"/>
              <a:chOff x="0" y="115920"/>
              <a:chExt cx="9142560" cy="6549840"/>
            </a:xfrm>
          </p:grpSpPr>
          <p:sp>
            <p:nvSpPr>
              <p:cNvPr id="7267"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8"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69"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70"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72" name="Picture 9"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3"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αναγκαίο να γίνει κατανοητό το πόσο σημαντική είναι η συνεργασία μεταξύ των συνδιδασκάλων και η αναθεώρηση του ρόλου. Ο ειδικός παιδαγωγός θα ήταν ωφέλιμο να μην μένει στη θέση του βοηθού, αλλά να αναλαμβάνει ευθύνες για το σύνολο της τάξης, κυρίως σε θέματα συμπεριφοράς , όπου μπορεί να βοηθήσει. </a:t>
            </a:r>
            <a:endParaRPr b="0" lang="en-US" sz="2800" spc="-1" strike="noStrike">
              <a:solidFill>
                <a:srgbClr val="ffffff"/>
              </a:solidFill>
              <a:latin typeface="Times New Roman"/>
            </a:endParaRPr>
          </a:p>
        </p:txBody>
      </p:sp>
      <p:grpSp>
        <p:nvGrpSpPr>
          <p:cNvPr id="7274" name="Group 2"/>
          <p:cNvGrpSpPr/>
          <p:nvPr/>
        </p:nvGrpSpPr>
        <p:grpSpPr>
          <a:xfrm>
            <a:off x="0" y="115920"/>
            <a:ext cx="9142560" cy="6549840"/>
            <a:chOff x="0" y="115920"/>
            <a:chExt cx="9142560" cy="6549840"/>
          </a:xfrm>
        </p:grpSpPr>
        <p:grpSp>
          <p:nvGrpSpPr>
            <p:cNvPr id="7275" name="Group 3"/>
            <p:cNvGrpSpPr/>
            <p:nvPr/>
          </p:nvGrpSpPr>
          <p:grpSpPr>
            <a:xfrm>
              <a:off x="0" y="115920"/>
              <a:ext cx="9142560" cy="6549840"/>
              <a:chOff x="0" y="115920"/>
              <a:chExt cx="9142560" cy="6549840"/>
            </a:xfrm>
          </p:grpSpPr>
          <p:sp>
            <p:nvSpPr>
              <p:cNvPr id="7276" name="Line 4"/>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7" name="Rectangle 5"/>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ffffff"/>
                  </a:solidFill>
                  <a:latin typeface="Times New Roman"/>
                </a:endParaRPr>
              </a:p>
              <a:p>
                <a:pPr algn="r">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ffffff"/>
                  </a:solidFill>
                  <a:latin typeface="Times New Roman"/>
                </a:endParaRPr>
              </a:p>
            </p:txBody>
          </p:sp>
          <p:sp>
            <p:nvSpPr>
              <p:cNvPr id="7278" name="Rectangle 6"/>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79" name="Line 7"/>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81"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2:07Z</dcterms:modified>
  <cp:revision>1</cp:revision>
  <dc:subject/>
  <dc:title/>
</cp:coreProperties>
</file>